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AF3592-419C-408B-B6DD-DE587DE89C6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ADC18E-945E-4EB9-BD6D-9665D7442DA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33146F-8059-4B47-ADE2-B747FC99CB5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10BE25-2FE5-4237-9D2E-392A3EE9E0D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528E04-B414-43BD-9AC1-44F17339B18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853F4A-26FB-48B0-A34E-FE96E1032DC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7571C2-F302-4B1B-A938-5564654CDBF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79AEFF-BB17-4FEE-AA63-1EB13B1191B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08DB82-C589-4503-BEBA-995687037DF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05BE36-3C3A-4F7B-BEB0-216AE0E669F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A1664E-8576-4864-A058-E46EB4F14D9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05FAE1-7452-4865-9407-EAC75238AB5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54A52-5BD9-4584-9314-BE6D402A0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1906B-A2CD-4813-9CBD-5EC3F25EF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1ABDF-2F6B-4D39-8B0F-BD3A58D68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5D4CF-38D0-4EB0-8B5B-7A61C0F40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E4D6C-2C6E-4ECB-AEED-75F7F8682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43C27-00B2-4B56-BEFE-81236D3E6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7EBB9-ACAC-4FFD-AC92-DB2C407D4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30E23-F7ED-464D-9F8B-765D2C5D3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EA5BC-FE9B-4FE9-9006-5029BAA9B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93CF3-8DCC-4A80-B711-54BC53E24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C1428-DEB5-4006-BAC3-895588115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60FE4-E7FF-4FD6-AFB7-67EBFAF79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8695F-9162-4107-86AA-197F7F8DCB88}" type="datetime">
              <a:rPr b="1" lang="en-US" sz="1200" spc="-1" strike="noStrike">
                <a:solidFill>
                  <a:srgbClr val="898989"/>
                </a:solidFill>
                <a:latin typeface="Arial"/>
              </a:rPr>
              <a:t>07/31/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B1CF-2958-47BE-8777-02DF44304E8A}"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