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2760A74-3034-4AEB-9FF3-1EFE373F420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9C70EA-7DA1-437C-809A-651DE4BEC72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B0035D-8E0D-4511-B885-979330054BF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626521-4E2A-438F-83DB-DA8972F9268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897EAC-A761-45CC-B2D4-97F23282D2E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C5F2BE-C549-43C8-86F1-E5CB96B61BB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C81BC5-C565-4213-916D-4664B6A624D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13D319-B913-475E-9BC9-85C92A9F3BA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C59B4C-FD08-4E22-ABEF-4DF40AC3DE6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C4C2F0-EA40-4E92-A3E0-2E7B5546778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8D4405-636D-4AF5-A034-CBDA79D596F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58309E-A509-4BAB-AD53-0A4B5B3E340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91F17-4F46-4A2A-8386-6BB069B7B7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3DBDB-00C8-43F7-9D94-E64BF799D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AEAA7-CB9D-48F7-BBF1-FF5665575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515E52-E7D8-45B4-838E-DB0B3D52B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7F2F1-854E-43B1-ACAC-7A0FDEA8B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00E78-36B8-4213-826C-28F611960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5DE26-9764-479C-A147-DF3C2BD4A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64856-E2E3-40DC-B84D-D1E0A3806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1220B-70A8-458F-81D4-9ED6C484E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77466-F1C3-4E83-A5F8-16F3024EA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9B384-E5F3-4ACE-9F4B-E80E0D14C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D36D1-7D1C-4464-8D74-71AD4A3B94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45559-12E8-4D40-9C76-C5D79DE8DBBA}" type="datetime">
              <a:rPr b="1" lang="en-US" sz="1200" spc="-1" strike="noStrike">
                <a:solidFill>
                  <a:srgbClr val="898989"/>
                </a:solidFill>
                <a:latin typeface="Arial"/>
              </a:rPr>
              <a:t>07/29/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E4137-C16F-4373-8411-DBE003A8DFFB}"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