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F943-B4A5-464E-B43D-9D50F8163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F4AE-185A-4CB0-855F-D18E90FB8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8BB4-3DBA-45EF-ACE4-95828B7F2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2987-D937-4591-A241-D88F4FFC9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6E2D-E4CF-45DF-913A-71F75EE12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8F2F-3C79-4191-98A9-71B4B5414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23C8-0505-4D1D-856A-71BE7CB41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AB30-3E90-47E6-889C-6972E8734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2077-4F36-4BB3-9722-9B1E0E9BD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344B-8587-4BCA-AE77-7629F01AB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9206-8DFB-4D49-B816-8DA06941C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1C19-DB78-44EC-AA69-87F991261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30A28-466F-4062-B77B-DCD2AB3125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 usage exam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temis/acedb GFF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0T08:40:26Z</dcterms:created>
  <dc:creator>Genome Research</dc:creator>
  <dc:description/>
  <dc:language>en-US</dc:language>
  <cp:lastModifiedBy>Genome Research</cp:lastModifiedBy>
  <dcterms:modified xsi:type="dcterms:W3CDTF">2008-09-10T08:41:45Z</dcterms:modified>
  <cp:revision>1</cp:revision>
  <dc:subject/>
  <dc:title>Summary…</dc:title>
</cp:coreProperties>
</file>