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8AC5-6816-46A3-AB16-A923C084E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6E76-D5AF-4243-87A6-0621347FA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FF34-B2EF-465C-8FD5-BDC48ECD3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5ECD-756D-43DB-BE94-D5DA0A349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D846-FBE8-49BE-B63C-DDC84A9E5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0B4C-0559-4A2A-86EE-F4B80BAFF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ECA8-46ED-4C2F-B518-8A28DAC31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0276-F78A-4A68-84AC-806A8CD23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CA61-1EB1-400C-83D8-92036BD82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76EC-15AD-412C-AC0D-15FCAB48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F2D7-880E-45B5-BDE8-55C1A21A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1FA9-1603-46E5-8D02-E6B548687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D1D51-FBF3-4823-A6EC-EB20177A71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cmd line func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t fil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support libs (http, socke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 (blixem ??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le tools (java is best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” interconnecting programs are bes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ion of functions (Apollo editor + IGB graphics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“view” protocols, common edit protoco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lay this reg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is featu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6:36:04Z</dcterms:created>
  <dc:creator>Genome Research</dc:creator>
  <dc:description/>
  <dc:language>en-US</dc:language>
  <cp:lastModifiedBy>Genome Research</cp:lastModifiedBy>
  <dcterms:modified xsi:type="dcterms:W3CDTF">2008-09-10T08:25:11Z</dcterms:modified>
  <cp:revision>6</cp:revision>
  <dc:subject/>
  <dc:title>Interclient Communication</dc:title>
</cp:coreProperties>
</file>