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-360" y="7632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02F5-1F3D-41F3-89B0-86BCC0750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A43D-7663-4BFD-81FA-217109F84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836E-853C-4E60-A21B-0D34D57A0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0F3A-BD75-4727-9574-9963F2236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434B-9DD0-4428-9613-4EB50DF6A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9BE8-1A67-4F01-9F79-64DAE862B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5832-EB45-464A-8B1C-93072C23A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9237-7B9E-4508-932C-5F04E7B05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74CF-F6B0-4B85-AE17-A1089914E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CB6D-1E34-4F37-A7AB-6F90FB70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2B35-4B81-4463-A9BB-FB10E018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E9B2-76AD-4E95-BB2B-F7B41365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7D6732AD-A4FA-4EDD-BAD3-A62316708F17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8920" y="2124000"/>
            <a:ext cx="8607240" cy="8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0" i="1" lang="en-US" sz="7500" spc="-1" strike="noStrike">
                <a:solidFill>
                  <a:srgbClr val="000000"/>
                </a:solidFill>
                <a:latin typeface="Arial"/>
              </a:rPr>
              <a:t>Curation Tool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GB" sz="3400" spc="-1" strike="noStrike">
                <a:solidFill>
                  <a:srgbClr val="000000"/>
                </a:solidFill>
                <a:latin typeface="Arial"/>
              </a:rPr>
              <a:t>Gary Willia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Sanger Institu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71640" y="16192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OMIC GFF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60720" y="334800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45080" y="500364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SQL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92720" y="29163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FF ANOMALIES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11640" y="2195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11640" y="3851280"/>
            <a:ext cx="576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832000" y="3419640"/>
            <a:ext cx="187164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84720" y="622764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88360" y="687564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eDB F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24360" y="5508720"/>
            <a:ext cx="144360" cy="718920"/>
          </a:xfrm>
          <a:prstGeom prst="upDownArrow">
            <a:avLst>
              <a:gd name="adj1" fmla="val 50000"/>
              <a:gd name="adj2" fmla="val 991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80000" y="6588000"/>
            <a:ext cx="1008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54080" y="187812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7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5292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2420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02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00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71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24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2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384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348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89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94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369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48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801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22520" y="1674720"/>
            <a:ext cx="11923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46288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7380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8652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98880" y="1674720"/>
            <a:ext cx="11941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10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3524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6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81000" y="2438280"/>
            <a:ext cx="143532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04840" y="2346480"/>
            <a:ext cx="982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38480" y="2376360"/>
            <a:ext cx="299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21160" y="2384280"/>
            <a:ext cx="144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271840" y="2355840"/>
            <a:ext cx="145800" cy="39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154200" y="2425680"/>
            <a:ext cx="465480" cy="40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7214760" y="2397240"/>
            <a:ext cx="60804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7837200" y="2455920"/>
            <a:ext cx="123012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62280" y="2987640"/>
            <a:ext cx="4595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 anomalies in each 10 Kb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2040" y="357012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09360" y="4052880"/>
            <a:ext cx="49507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windows by sum of anomaly sc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02040" y="4653000"/>
            <a:ext cx="180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60560" y="5065560"/>
            <a:ext cx="43135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next 10 Kb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32280" y="5546880"/>
            <a:ext cx="180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28960" y="5937120"/>
            <a:ext cx="40896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anomaly to 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24360" y="6378480"/>
            <a:ext cx="180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68720" y="6732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edb editor displays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981080" y="5541840"/>
            <a:ext cx="4589640" cy="1511280"/>
          </a:xfrm>
          <a:prstGeom prst="roundRect">
            <a:avLst>
              <a:gd name="adj" fmla="val 102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1920" y="3954600"/>
            <a:ext cx="124776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 10Kb windows sorted by anomaly sc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14360" y="4319640"/>
            <a:ext cx="314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regi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28600" y="3627360"/>
            <a:ext cx="10476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47600" y="4002120"/>
            <a:ext cx="8956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5840" y="5619600"/>
            <a:ext cx="126684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anomal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228680" y="5965920"/>
            <a:ext cx="714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240" y="5551560"/>
            <a:ext cx="15620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n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675560" y="1692360"/>
            <a:ext cx="2309760" cy="3682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V="1">
            <a:off x="6553080" y="3773160"/>
            <a:ext cx="2159280" cy="217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42360" y="5508720"/>
            <a:ext cx="214308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the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Unmatched twinsc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4000"/>
          </a:bodyPr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set of anomalies for curators to work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are not mi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quickly accept or reject regions to curate after a cursory gl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finding problem areas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e efforts on problem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unnecessary repeat visits to a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problem areas can still take a long time to sol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Other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s continuing to add new types of anoma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ling array expressed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ng/extra exons compared to other genes in homo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a new anomaly type requires no changes to the database or curation tool and it is amalgamated with the existing anoma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new data can easily be ad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yone can see them!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omalies are publicly displayed in the GBrowse genome dis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mall protein display tool (ilk)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nter I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s target protein and (blastp) similar nematode protei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ighlights blastp HSP similar reg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gnalP reg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hi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584360" y="1403280"/>
            <a:ext cx="7004160" cy="55404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111640" y="2124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 prot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84720" y="2916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0720" y="58672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-spec peptide h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00720" y="4643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4720" y="3708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on of simila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3816360" y="212400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518920" y="3132000"/>
            <a:ext cx="25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592360" y="3203640"/>
            <a:ext cx="2519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024360" y="3274920"/>
            <a:ext cx="20872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384360" y="3348000"/>
            <a:ext cx="1726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527280" y="3924360"/>
            <a:ext cx="1657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887280" y="485928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3960360" y="5580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31964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18472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400720" y="558000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545080" y="5580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708360"/>
            <a:ext cx="144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, Lab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368360" y="377964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prediction softwa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90800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ene prediction software is good, but not perfect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current gene prediction combin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igs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bout 80% accu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e exons which need work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36720" y="1403280"/>
            <a:ext cx="7134120" cy="5621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761080" y="4427640"/>
            <a:ext cx="43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exons to split off at the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760720" y="4859280"/>
            <a:ext cx="1150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6335640" y="485928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624360" y="4932360"/>
            <a:ext cx="576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32360" y="291636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 of exon 5 needs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952360" y="3348000"/>
            <a:ext cx="403236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utputs protein sequences for further alignment with Kalign/clustal etc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 pairwise alignment score of target protein against every homolog and the score of a predicted gene model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sts whether a prediction would be bett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urrently closely integrated with acedb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uld be changed to read from Ensembl/Cha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ant to add indication of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ich introns are confirmed by transcript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verage of CDS by transcript align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587520" y="839880"/>
            <a:ext cx="3612960" cy="68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ifornia Institute of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ul Sternber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gor Antoshechki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Juancarlos Cha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en Ch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njana Kisho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ymond Le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ans-Michael Muell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ecilia Nakamur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ndrei Petchersk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ary Schindelma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rich Schwar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imberly Van Auk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niel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Xiaodong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aren Yoo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hn Spi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amberlyn Bier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rin Blasia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hil Ozersk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192480" y="1932120"/>
            <a:ext cx="3695760" cy="3695400"/>
          </a:xfrm>
          <a:prstGeom prst="rect">
            <a:avLst/>
          </a:prstGeom>
          <a:ln w="0">
            <a:noFill/>
          </a:ln>
        </p:spPr>
      </p:pic>
      <p:grpSp>
        <p:nvGrpSpPr>
          <p:cNvPr id="242" name=""/>
          <p:cNvGrpSpPr/>
          <p:nvPr/>
        </p:nvGrpSpPr>
        <p:grpSpPr>
          <a:xfrm>
            <a:off x="5294880" y="1042920"/>
            <a:ext cx="4465080" cy="5521320"/>
            <a:chOff x="5294880" y="1042920"/>
            <a:chExt cx="4465080" cy="5521320"/>
          </a:xfrm>
        </p:grpSpPr>
        <p:sp>
          <p:nvSpPr>
            <p:cNvPr id="243" name=""/>
            <p:cNvSpPr/>
            <p:nvPr/>
          </p:nvSpPr>
          <p:spPr>
            <a:xfrm>
              <a:off x="6372360" y="1042920"/>
              <a:ext cx="3387600" cy="5521320"/>
            </a:xfrm>
            <a:custGeom>
              <a:avLst/>
              <a:gdLst>
                <a:gd name="textAreaLeft" fmla="*/ 360 w 3387600"/>
                <a:gd name="textAreaRight" fmla="*/ 3387240 w 3387600"/>
                <a:gd name="textAreaTop" fmla="*/ 360 h 5521320"/>
                <a:gd name="textAreaBottom" fmla="*/ 5520960 h 5521320"/>
              </a:gdLst>
              <a:ahLst/>
              <a:rect l="textAreaLeft" t="textAreaTop" r="textAreaRight" b="textAreaBottom"/>
              <a:pathLst>
                <a:path w="21600" h="35204">
                  <a:moveTo>
                    <a:pt x="10" y="0"/>
                  </a:moveTo>
                  <a:arcTo wR="10" hR="10" stAng="16200000" swAng="-5400000"/>
                  <a:lnTo>
                    <a:pt x="0" y="35194"/>
                  </a:lnTo>
                  <a:arcTo wR="10" hR="10" stAng="10800000" swAng="-5400000"/>
                  <a:lnTo>
                    <a:pt x="21590" y="35204"/>
                  </a:lnTo>
                  <a:arcTo wR="10" hR="10" stAng="5400000" swAng="-5400000"/>
                  <a:lnTo>
                    <a:pt x="21600" y="10"/>
                  </a:lnTo>
                  <a:arcTo wR="10" hR="1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5294880" y="1042920"/>
              <a:ext cx="4464360" cy="5518080"/>
              <a:chOff x="5294880" y="1042920"/>
              <a:chExt cx="4464360" cy="5518080"/>
            </a:xfrm>
          </p:grpSpPr>
          <p:sp>
            <p:nvSpPr>
              <p:cNvPr id="245" name=""/>
              <p:cNvSpPr/>
              <p:nvPr/>
            </p:nvSpPr>
            <p:spPr>
              <a:xfrm>
                <a:off x="6372360" y="1042920"/>
                <a:ext cx="3384360" cy="5518080"/>
              </a:xfrm>
              <a:custGeom>
                <a:avLst/>
                <a:gdLst>
                  <a:gd name="textAreaLeft" fmla="*/ 360 w 3384360"/>
                  <a:gd name="textAreaRight" fmla="*/ 3384000 w 3384360"/>
                  <a:gd name="textAreaTop" fmla="*/ 360 h 5518080"/>
                  <a:gd name="textAreaBottom" fmla="*/ 5517720 h 5518080"/>
                </a:gdLst>
                <a:ahLst/>
                <a:rect l="textAreaLeft" t="textAreaTop" r="textAreaRight" b="textAreaBottom"/>
                <a:pathLst>
                  <a:path w="21600" h="35217">
                    <a:moveTo>
                      <a:pt x="10" y="0"/>
                    </a:moveTo>
                    <a:arcTo wR="10" hR="10" stAng="16200000" swAng="-5400000"/>
                    <a:lnTo>
                      <a:pt x="0" y="35207"/>
                    </a:lnTo>
                    <a:arcTo wR="10" hR="10" stAng="10800000" swAng="-5400000"/>
                    <a:lnTo>
                      <a:pt x="21590" y="35217"/>
                    </a:lnTo>
                    <a:arcTo wR="10" hR="10" stAng="5400000" swAng="-5400000"/>
                    <a:lnTo>
                      <a:pt x="21600" y="10"/>
                    </a:lnTo>
                    <a:arcTo wR="10" hR="1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5294880" y="1042920"/>
                <a:ext cx="4464360" cy="5516640"/>
                <a:chOff x="5294880" y="1042920"/>
                <a:chExt cx="4464360" cy="55166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372360" y="1042920"/>
                  <a:ext cx="3382920" cy="5516640"/>
                </a:xfrm>
                <a:custGeom>
                  <a:avLst/>
                  <a:gdLst>
                    <a:gd name="textAreaLeft" fmla="*/ 360 w 3382920"/>
                    <a:gd name="textAreaRight" fmla="*/ 3382560 w 3382920"/>
                    <a:gd name="textAreaTop" fmla="*/ 360 h 5516640"/>
                    <a:gd name="textAreaBottom" fmla="*/ 5516280 h 5516640"/>
                  </a:gdLst>
                  <a:ahLst/>
                  <a:rect l="textAreaLeft" t="textAreaTop" r="textAreaRight" b="textAreaBottom"/>
                  <a:pathLst>
                    <a:path w="21600" h="35222">
                      <a:moveTo>
                        <a:pt x="10" y="0"/>
                      </a:moveTo>
                      <a:arcTo wR="10" hR="10" stAng="16200000" swAng="-5400000"/>
                      <a:lnTo>
                        <a:pt x="0" y="35212"/>
                      </a:lnTo>
                      <a:arcTo wR="10" hR="10" stAng="10800000" swAng="-5400000"/>
                      <a:lnTo>
                        <a:pt x="21590" y="35222"/>
                      </a:lnTo>
                      <a:arcTo wR="10" hR="10" stAng="5400000" swAng="-5400000"/>
                      <a:lnTo>
                        <a:pt x="21600" y="10"/>
                      </a:lnTo>
                      <a:arcTo wR="10" hR="10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8" name=""/>
                <p:cNvGrpSpPr/>
                <p:nvPr/>
              </p:nvGrpSpPr>
              <p:grpSpPr>
                <a:xfrm>
                  <a:off x="5294880" y="1042920"/>
                  <a:ext cx="4464360" cy="5516640"/>
                  <a:chOff x="5294880" y="1042920"/>
                  <a:chExt cx="4464360" cy="55166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6372360" y="1042920"/>
                    <a:ext cx="3382920" cy="5516640"/>
                  </a:xfrm>
                  <a:custGeom>
                    <a:avLst/>
                    <a:gdLst>
                      <a:gd name="textAreaLeft" fmla="*/ 360 w 3382920"/>
                      <a:gd name="textAreaRight" fmla="*/ 3382560 w 3382920"/>
                      <a:gd name="textAreaTop" fmla="*/ 360 h 5516640"/>
                      <a:gd name="textAreaBottom" fmla="*/ 5516280 h 5516640"/>
                    </a:gdLst>
                    <a:ahLst/>
                    <a:rect l="textAreaLeft" t="textAreaTop" r="textAreaRight" b="textAreaBottom"/>
                    <a:pathLst>
                      <a:path w="21600" h="3522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35212"/>
                        </a:lnTo>
                        <a:arcTo wR="10" hR="10" stAng="10800000" swAng="-5400000"/>
                        <a:lnTo>
                          <a:pt x="21590" y="3522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5294880" y="1042920"/>
                    <a:ext cx="4464360" cy="5492160"/>
                  </a:xfrm>
                  <a:custGeom>
                    <a:avLst/>
                    <a:gdLst>
                      <a:gd name="textAreaLeft" fmla="*/ 360 w 4464360"/>
                      <a:gd name="textAreaRight" fmla="*/ 4464000 w 4464360"/>
                      <a:gd name="textAreaTop" fmla="*/ 360 h 5492160"/>
                      <a:gd name="textAreaBottom" fmla="*/ 5491800 h 5492160"/>
                    </a:gdLst>
                    <a:ahLst/>
                    <a:rect l="textAreaLeft" t="textAreaTop" r="textAreaRight" b="textAreaBottom"/>
                    <a:pathLst>
                      <a:path w="21600" h="2657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26562"/>
                        </a:lnTo>
                        <a:arcTo wR="10" hR="10" stAng="10800000" swAng="-5400000"/>
                        <a:lnTo>
                          <a:pt x="21590" y="2657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360" rIns="99360" tIns="51480" bIns="51480" anchor="t">
                    <a:spAutoFit/>
                  </a:bodyPr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ellcome Trust Sanger Institut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ichard Durb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aul Dav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ichael Han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nthony Roger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ary Ann Tul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ld Spring Harbor Laboratory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incoln Ste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orie de la Cruz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dd Harr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heldon McKay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ill Spooner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heng Zh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732720" y="5051520"/>
            <a:ext cx="979200" cy="91260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2771640" y="1847880"/>
            <a:ext cx="1079640" cy="1089000"/>
            <a:chOff x="2771640" y="1847880"/>
            <a:chExt cx="1079640" cy="1089000"/>
          </a:xfrm>
        </p:grpSpPr>
        <p:sp>
          <p:nvSpPr>
            <p:cNvPr id="253" name=""/>
            <p:cNvSpPr/>
            <p:nvPr/>
          </p:nvSpPr>
          <p:spPr>
            <a:xfrm>
              <a:off x="2771640" y="1847880"/>
              <a:ext cx="1079640" cy="1089000"/>
            </a:xfrm>
            <a:custGeom>
              <a:avLst/>
              <a:gdLst>
                <a:gd name="textAreaLeft" fmla="*/ 360 w 1079640"/>
                <a:gd name="textAreaRight" fmla="*/ 1079280 w 1079640"/>
                <a:gd name="textAreaTop" fmla="*/ 360 h 1089000"/>
                <a:gd name="textAreaBottom" fmla="*/ 1088640 h 1089000"/>
              </a:gdLst>
              <a:ahLst/>
              <a:rect l="textAreaLeft" t="textAreaTop" r="textAreaRight" b="textAreaBottom"/>
              <a:pathLst>
                <a:path w="21600" h="21787">
                  <a:moveTo>
                    <a:pt x="31" y="0"/>
                  </a:moveTo>
                  <a:arcTo wR="31" hR="31" stAng="16200000" swAng="-5400000"/>
                  <a:lnTo>
                    <a:pt x="0" y="21756"/>
                  </a:lnTo>
                  <a:arcTo wR="31" hR="31" stAng="10800000" swAng="-5400000"/>
                  <a:lnTo>
                    <a:pt x="21569" y="21787"/>
                  </a:lnTo>
                  <a:arcTo wR="31" hR="31" stAng="5400000" swAng="-5400000"/>
                  <a:lnTo>
                    <a:pt x="21600" y="31"/>
                  </a:lnTo>
                  <a:arcTo wR="31" hR="31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3"/>
            <a:stretch/>
          </p:blipFill>
          <p:spPr>
            <a:xfrm>
              <a:off x="2771640" y="1847880"/>
              <a:ext cx="1079640" cy="108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6372360" y="2050920"/>
            <a:ext cx="1803240" cy="5256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609480" y="5375160"/>
            <a:ext cx="178920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832280" y="3298680"/>
            <a:ext cx="1965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TSL (start of gene or isoform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trons in UT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nfirmed intron not in gene mod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ranscript data overlaps an intr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xon overlaps repeat reg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 gene by protein group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ismatched ESTs (genomic sequence error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exon of </a:t>
            </a:r>
            <a:r>
              <a:rPr b="0" i="1" lang="en-US" sz="3500" spc="-1" strike="noStrike">
                <a:solidFill>
                  <a:srgbClr val="000000"/>
                </a:solidFill>
                <a:latin typeface="Arial"/>
              </a:rPr>
              <a:t>twinscan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WABA coding potenti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genes by twinscan 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rame-shift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by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mass-spec peptid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complete Pfam motif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Mor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-shifts defined by protein homolo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merged by protein homology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split by protein groups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1960" y="1692360"/>
            <a:ext cx="1362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in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08760" y="6253200"/>
            <a:ext cx="1581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reman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704000" y="3567240"/>
            <a:ext cx="208620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con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dingWA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786040" y="2184480"/>
            <a:ext cx="4521240" cy="35560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246480" y="6319800"/>
            <a:ext cx="847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84920" y="6299280"/>
            <a:ext cx="1552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70240" y="6299280"/>
            <a:ext cx="15433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eleg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66960" y="1971720"/>
            <a:ext cx="2741400" cy="45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570120" y="4714560"/>
            <a:ext cx="819360" cy="16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722840" y="5176440"/>
            <a:ext cx="723960" cy="10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5781240" y="5167440"/>
            <a:ext cx="436680" cy="112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6095520" y="5206680"/>
            <a:ext cx="1730520" cy="96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6981840" y="3722760"/>
            <a:ext cx="72864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22240" y="3368520"/>
            <a:ext cx="1324080" cy="13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urated C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sources of data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e have traditionally relied heavily on EST transcription data to correct prediction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Now we have many extra data sourc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tein 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peptid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hip-based expression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arative species synteny/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ther data coming (ENCODE etc.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-shifts by protein homolog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68720" y="2135160"/>
            <a:ext cx="95400" cy="228924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9240"/>
              <a:gd name="textAreaBottom" fmla="*/ 2288880 h 2289240"/>
            </a:gdLst>
            <a:ahLst/>
            <a:rect l="textAreaLeft" t="textAreaTop" r="textAreaRight" b="textAreaBottom"/>
            <a:pathLst>
              <a:path w="21600" h="516451">
                <a:moveTo>
                  <a:pt x="360" y="0"/>
                </a:moveTo>
                <a:arcTo wR="360" hR="360" stAng="16200000" swAng="-5400000"/>
                <a:lnTo>
                  <a:pt x="0" y="516091"/>
                </a:lnTo>
                <a:arcTo wR="360" hR="360" stAng="10800000" swAng="-5400000"/>
                <a:lnTo>
                  <a:pt x="21240" y="516451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41840" y="4541760"/>
            <a:ext cx="95400" cy="228780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7800"/>
              <a:gd name="textAreaBottom" fmla="*/ 2287440 h 2287800"/>
            </a:gdLst>
            <a:ahLst/>
            <a:rect l="textAreaLeft" t="textAreaTop" r="textAreaRight" b="textAreaBottom"/>
            <a:pathLst>
              <a:path w="21600" h="516126">
                <a:moveTo>
                  <a:pt x="360" y="0"/>
                </a:moveTo>
                <a:arcTo wR="360" hR="360" stAng="16200000" swAng="-5400000"/>
                <a:lnTo>
                  <a:pt x="0" y="515766"/>
                </a:lnTo>
                <a:arcTo wR="360" hR="360" stAng="10800000" swAng="-5400000"/>
                <a:lnTo>
                  <a:pt x="21240" y="516126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16240" y="4483080"/>
            <a:ext cx="731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4300560"/>
            <a:ext cx="2390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-sh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84720" y="2319480"/>
            <a:ext cx="37706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tein aligned by BLA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951080" y="2558880"/>
            <a:ext cx="950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742000" y="2838600"/>
            <a:ext cx="619200" cy="15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5884920" y="4541760"/>
            <a:ext cx="828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46840" y="4348080"/>
            <a:ext cx="31431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/no apparent int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-contiguous 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prot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62280" y="7070760"/>
            <a:ext cx="11908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89400" y="7066080"/>
            <a:ext cx="1581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30640" y="6902280"/>
            <a:ext cx="18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580000" y="6908760"/>
            <a:ext cx="18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09640" y="2279520"/>
            <a:ext cx="8467560" cy="43801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63440" y="4964040"/>
            <a:ext cx="541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285920" y="2155680"/>
            <a:ext cx="7682040" cy="44974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295200" y="4319640"/>
            <a:ext cx="924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62000" y="4368960"/>
            <a:ext cx="66960" cy="51084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0840"/>
              <a:gd name="textAreaBottom" fmla="*/ 510480 h 510840"/>
            </a:gdLst>
            <a:ahLst/>
            <a:rect l="textAreaLeft" t="textAreaTop" r="textAreaRight" b="textAreaBottom"/>
            <a:pathLst>
              <a:path w="21600" h="164021">
                <a:moveTo>
                  <a:pt x="514" y="0"/>
                </a:moveTo>
                <a:arcTo wR="514" hR="514" stAng="16200000" swAng="-5400000"/>
                <a:lnTo>
                  <a:pt x="0" y="163507"/>
                </a:lnTo>
                <a:arcTo wR="514" hR="514" stAng="10800000" swAng="-5400000"/>
                <a:lnTo>
                  <a:pt x="21086" y="164021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22760" y="2241720"/>
            <a:ext cx="125640" cy="876240"/>
          </a:xfrm>
          <a:custGeom>
            <a:avLst/>
            <a:gdLst>
              <a:gd name="textAreaLeft" fmla="*/ 360 w 125640"/>
              <a:gd name="textAreaRight" fmla="*/ 125280 w 125640"/>
              <a:gd name="textAreaTop" fmla="*/ 360 h 876240"/>
              <a:gd name="textAreaBottom" fmla="*/ 875880 h 876240"/>
            </a:gdLst>
            <a:ahLst/>
            <a:rect l="textAreaLeft" t="textAreaTop" r="textAreaRight" b="textAreaBottom"/>
            <a:pathLst>
              <a:path w="21600" h="150274">
                <a:moveTo>
                  <a:pt x="276" y="0"/>
                </a:moveTo>
                <a:arcTo wR="276" hR="276" stAng="16200000" swAng="-5400000"/>
                <a:lnTo>
                  <a:pt x="0" y="149998"/>
                </a:lnTo>
                <a:arcTo wR="276" hR="276" stAng="10800000" swAng="-5400000"/>
                <a:lnTo>
                  <a:pt x="21324" y="150274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2514240" y="2144880"/>
            <a:ext cx="28638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475000" y="2963880"/>
            <a:ext cx="2835360" cy="157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80200" y="224172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80200" y="270360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13520" y="2384280"/>
            <a:ext cx="33814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protein matches two CDS in contiguous regions of the 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2021040"/>
            <a:ext cx="1122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8760" y="4348080"/>
            <a:ext cx="1038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619280" y="1617840"/>
            <a:ext cx="6541920" cy="53100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257040" y="3521160"/>
            <a:ext cx="1068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0160" y="6397560"/>
            <a:ext cx="11332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6760" y="7070760"/>
            <a:ext cx="99504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ybase, Human, SwissProt, TrEMBL Proteins homologous to the two C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379760" y="6715080"/>
            <a:ext cx="180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827600" y="67654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5684760" y="6754680"/>
            <a:ext cx="1800" cy="2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7446960" y="6734160"/>
            <a:ext cx="144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62000" y="426096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66880" y="2030400"/>
            <a:ext cx="1122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endCxn id="326" idx="0"/>
          </p:cNvCxnSpPr>
          <p:nvPr/>
        </p:nvCxnSpPr>
        <p:spPr>
          <a:xfrm flipH="1">
            <a:off x="2023560" y="2558520"/>
            <a:ext cx="65520" cy="1724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27" name=""/>
          <p:cNvCxnSpPr>
            <a:stCxn id="322" idx="2"/>
          </p:cNvCxnSpPr>
          <p:nvPr/>
        </p:nvCxnSpPr>
        <p:spPr>
          <a:xfrm>
            <a:off x="2014200" y="2452320"/>
            <a:ext cx="81360" cy="1069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28" name=""/>
          <p:cNvSpPr/>
          <p:nvPr/>
        </p:nvSpPr>
        <p:spPr>
          <a:xfrm>
            <a:off x="396072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70400" y="17906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04120" y="4262400"/>
            <a:ext cx="123840" cy="60660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6600"/>
              <a:gd name="textAreaBottom" fmla="*/ 606240 h 606600"/>
            </a:gdLst>
            <a:ahLst/>
            <a:rect l="textAreaLeft" t="textAreaTop" r="textAreaRight" b="textAreaBottom"/>
            <a:pathLst>
              <a:path w="21600" h="105558">
                <a:moveTo>
                  <a:pt x="276" y="0"/>
                </a:moveTo>
                <a:arcTo wR="276" hR="276" stAng="16200000" swAng="-5400000"/>
                <a:lnTo>
                  <a:pt x="0" y="105282"/>
                </a:lnTo>
                <a:arcTo wR="276" hR="276" stAng="10800000" swAng="-5400000"/>
                <a:lnTo>
                  <a:pt x="21324" y="10555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70760" y="428148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7036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79760" y="2502000"/>
            <a:ext cx="123840" cy="60804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8040"/>
              <a:gd name="textAreaBottom" fmla="*/ 607680 h 608040"/>
            </a:gdLst>
            <a:ahLst/>
            <a:rect l="textAreaLeft" t="textAreaTop" r="textAreaRight" b="textAreaBottom"/>
            <a:pathLst>
              <a:path w="21600" h="105809">
                <a:moveTo>
                  <a:pt x="276" y="0"/>
                </a:moveTo>
                <a:arcTo wR="276" hR="276" stAng="16200000" swAng="-5400000"/>
                <a:lnTo>
                  <a:pt x="0" y="105533"/>
                </a:lnTo>
                <a:arcTo wR="276" hR="276" stAng="10800000" swAng="-5400000"/>
                <a:lnTo>
                  <a:pt x="21324" y="105809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52640" y="5300640"/>
            <a:ext cx="66600" cy="511200"/>
          </a:xfrm>
          <a:custGeom>
            <a:avLst/>
            <a:gdLst>
              <a:gd name="textAreaLeft" fmla="*/ 360 w 66600"/>
              <a:gd name="textAreaRight" fmla="*/ 66240 w 6660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5019">
                <a:moveTo>
                  <a:pt x="514" y="0"/>
                </a:moveTo>
                <a:arcTo wR="514" hR="514" stAng="16200000" swAng="-5400000"/>
                <a:lnTo>
                  <a:pt x="0" y="164505"/>
                </a:lnTo>
                <a:arcTo wR="514" hR="514" stAng="10800000" swAng="-5400000"/>
                <a:lnTo>
                  <a:pt x="21086" y="165019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9000" y="2730600"/>
            <a:ext cx="68400" cy="509400"/>
          </a:xfrm>
          <a:custGeom>
            <a:avLst/>
            <a:gdLst>
              <a:gd name="textAreaLeft" fmla="*/ 360 w 68400"/>
              <a:gd name="textAreaRight" fmla="*/ 68040 w 68400"/>
              <a:gd name="textAreaTop" fmla="*/ 360 h 509400"/>
              <a:gd name="textAreaBottom" fmla="*/ 509040 h 509400"/>
            </a:gdLst>
            <a:ahLst/>
            <a:rect l="textAreaLeft" t="textAreaTop" r="textAreaRight" b="textAreaBottom"/>
            <a:pathLst>
              <a:path w="21600" h="160134">
                <a:moveTo>
                  <a:pt x="514" y="0"/>
                </a:moveTo>
                <a:arcTo wR="514" hR="514" stAng="16200000" swAng="-5400000"/>
                <a:lnTo>
                  <a:pt x="0" y="159620"/>
                </a:lnTo>
                <a:arcTo wR="514" hR="514" stAng="10800000" swAng="-5400000"/>
                <a:lnTo>
                  <a:pt x="21086" y="160134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34" idx="0"/>
          </p:cNvCxnSpPr>
          <p:nvPr/>
        </p:nvCxnSpPr>
        <p:spPr>
          <a:xfrm flipV="1">
            <a:off x="1986120" y="5001480"/>
            <a:ext cx="157680" cy="29916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6" name=""/>
          <p:cNvCxnSpPr>
            <a:stCxn id="323" idx="2"/>
          </p:cNvCxnSpPr>
          <p:nvPr/>
        </p:nvCxnSpPr>
        <p:spPr>
          <a:xfrm>
            <a:off x="1995480" y="4771800"/>
            <a:ext cx="148320" cy="23220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7" name=""/>
          <p:cNvCxnSpPr>
            <a:endCxn id="323" idx="0"/>
          </p:cNvCxnSpPr>
          <p:nvPr/>
        </p:nvCxnSpPr>
        <p:spPr>
          <a:xfrm flipH="1">
            <a:off x="1995120" y="3781440"/>
            <a:ext cx="234000" cy="4802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8" name=""/>
          <p:cNvCxnSpPr>
            <a:stCxn id="326" idx="2"/>
          </p:cNvCxnSpPr>
          <p:nvPr/>
        </p:nvCxnSpPr>
        <p:spPr>
          <a:xfrm>
            <a:off x="2023920" y="3240000"/>
            <a:ext cx="207360" cy="5407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39" name=""/>
          <p:cNvSpPr/>
          <p:nvPr/>
        </p:nvSpPr>
        <p:spPr>
          <a:xfrm>
            <a:off x="6818400" y="52052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60720" y="1800360"/>
            <a:ext cx="112680" cy="587160"/>
          </a:xfrm>
          <a:custGeom>
            <a:avLst/>
            <a:gdLst>
              <a:gd name="textAreaLeft" fmla="*/ 360 w 112680"/>
              <a:gd name="textAreaRight" fmla="*/ 112320 w 112680"/>
              <a:gd name="textAreaTop" fmla="*/ 360 h 587160"/>
              <a:gd name="textAreaBottom" fmla="*/ 586800 h 587160"/>
            </a:gdLst>
            <a:ahLst/>
            <a:rect l="textAreaLeft" t="textAreaTop" r="textAreaRight" b="textAreaBottom"/>
            <a:pathLst>
              <a:path w="21600" h="112265">
                <a:moveTo>
                  <a:pt x="308" y="0"/>
                </a:moveTo>
                <a:arcTo wR="308" hR="308" stAng="16200000" swAng="-5400000"/>
                <a:lnTo>
                  <a:pt x="0" y="111957"/>
                </a:lnTo>
                <a:arcTo wR="308" hR="308" stAng="10800000" swAng="-5400000"/>
                <a:lnTo>
                  <a:pt x="21292" y="112265"/>
                </a:lnTo>
                <a:arcTo wR="308" hR="308" stAng="5400000" swAng="-5400000"/>
                <a:lnTo>
                  <a:pt x="21600" y="308"/>
                </a:lnTo>
                <a:arcTo wR="308" hR="308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36920" y="3559320"/>
            <a:ext cx="2524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84720" y="3308400"/>
            <a:ext cx="27432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437000" y="3232080"/>
            <a:ext cx="180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4065120" y="3232080"/>
            <a:ext cx="17172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4627440" y="3300480"/>
            <a:ext cx="9540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311880" y="3713040"/>
            <a:ext cx="1252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608520" y="3743280"/>
            <a:ext cx="2988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85000" y="3800520"/>
            <a:ext cx="144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85960" y="6167520"/>
            <a:ext cx="8856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embers in common between the two non-overlapping grou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07240" y="4273560"/>
            <a:ext cx="125280" cy="587520"/>
          </a:xfrm>
          <a:custGeom>
            <a:avLst/>
            <a:gdLst>
              <a:gd name="textAreaLeft" fmla="*/ 360 w 125280"/>
              <a:gd name="textAreaRight" fmla="*/ 124920 w 12528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1068">
                <a:moveTo>
                  <a:pt x="276" y="0"/>
                </a:moveTo>
                <a:arcTo wR="276" hR="276" stAng="16200000" swAng="-5400000"/>
                <a:lnTo>
                  <a:pt x="0" y="100792"/>
                </a:lnTo>
                <a:arcTo wR="276" hR="276" stAng="10800000" swAng="-5400000"/>
                <a:lnTo>
                  <a:pt x="21324" y="10106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56000" y="7002360"/>
            <a:ext cx="3268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770280" y="1673280"/>
            <a:ext cx="36100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1360" y="4724280"/>
            <a:ext cx="12765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704960" y="2241720"/>
            <a:ext cx="6691320" cy="45637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 flipV="1">
            <a:off x="1257480" y="4245120"/>
            <a:ext cx="2135160" cy="78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866760" y="2079720"/>
            <a:ext cx="415800" cy="42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3895560" y="5773680"/>
            <a:ext cx="130320" cy="12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4210200" y="5744880"/>
            <a:ext cx="23760" cy="1238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4427640" y="5824440"/>
            <a:ext cx="409320" cy="11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1285920" y="4005360"/>
            <a:ext cx="3246480" cy="11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362240" y="4408560"/>
            <a:ext cx="2941560" cy="8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390560" y="2030400"/>
            <a:ext cx="14940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579560" y="2097000"/>
            <a:ext cx="3636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onfirming the correct struc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vidence for a correct structure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tein homology, transcript data,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ab initio predictions, mass-spec peptides, tiling array, trans-spliced leader sequence, strong splice sites, 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Evidence against a correct struc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Unmatched instances of the abo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rameshifts in protein align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Genes overlapping repeat reg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7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ous regions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database of problem re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ma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=  conflicts with the cura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: problem areas that need the most curation will have more anomalies than other pl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54080" y="492588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87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5292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2420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02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00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71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24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2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384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4348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89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94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369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48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801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84720" y="5916600"/>
            <a:ext cx="2268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4390560" y="5190840"/>
            <a:ext cx="444600" cy="7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351400" y="5162040"/>
            <a:ext cx="181080" cy="81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09600" y="5923080"/>
            <a:ext cx="17049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800360" y="5219280"/>
            <a:ext cx="11412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933560" y="5229360"/>
            <a:ext cx="762120" cy="69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095560" y="5160960"/>
            <a:ext cx="2104920" cy="76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that have been seen can be flagged to be ignored in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nomalies in a region are presented for inspe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 mas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track what has been seen and measure prog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impl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 homology unmatched by curated C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conserved coding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predicted exons (twinscan, jigsa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rt exons (&lt; 30 ba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DS exons overlapping repeat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lapping CDS ex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74720" y="1353960"/>
            <a:ext cx="6730920" cy="4851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16000" y="25560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84360" y="2771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03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952720" y="6156360"/>
            <a:ext cx="1429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7280" y="147636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008000" y="1618920"/>
            <a:ext cx="216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35640" y="6875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887280" y="6012000"/>
            <a:ext cx="2521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248000" y="6012000"/>
            <a:ext cx="223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4535640" y="6012000"/>
            <a:ext cx="2017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6192720" y="5580000"/>
            <a:ext cx="432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480000" y="5651280"/>
            <a:ext cx="216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769080" y="5580000"/>
            <a:ext cx="1429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00360" y="1116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ins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526920" y="1476360"/>
            <a:ext cx="2890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712360" y="1258920"/>
            <a:ext cx="11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ice 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8353080" y="190800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280" y="2232000"/>
            <a:ext cx="9991800" cy="3095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1640" y="69483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079640" y="428472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68360" y="6227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655640" y="5435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24000" y="125892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 ex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00360" y="1619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35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095280" y="5148000"/>
            <a:ext cx="331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3744720" y="5003280"/>
            <a:ext cx="273492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4679640" y="5148000"/>
            <a:ext cx="187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048000" y="4356000"/>
            <a:ext cx="57636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696000" y="4284720"/>
            <a:ext cx="14436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769080" y="4356000"/>
            <a:ext cx="93492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0" y="1619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92720" y="161928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569440" y="1619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w3</cp:lastModifiedBy>
  <dcterms:modified xsi:type="dcterms:W3CDTF">2008-09-08T14:56:06Z</dcterms:modified>
  <cp:revision>45</cp:revision>
  <dc:subject/>
  <dc:title>Curation Tools</dc:title>
</cp:coreProperties>
</file>