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9F3C-4F5E-4486-9A1E-A8E91FDC5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C9E0-FA21-47C9-A112-213CE32CF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9DC9-3FF0-4C94-9F5E-486C4809C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DC45-C57C-42D3-81FF-9462E050F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885A-0C39-4A2D-A07E-AB7103418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7DE8-D32E-4F3C-9CDC-F235E42B1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DAA3-0A75-4B75-8FDD-47F6F48B5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906F-0935-4A29-82EF-34ED85291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D1B6-6E23-47C5-82A0-A033478A4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4677-2192-4AE7-98C6-CB2053ED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6FCA-938F-4BFC-B429-1A998DDB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B640-4AEB-4E8B-8EDA-4043384E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3E642-B8C2-4C9F-9078-20D9B8B9EE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cmd line func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t fil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support libs (http, socke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 (blixem ??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le tools (java is best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” interconnecting programs are bes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ion of functions (Apollo editor + IGB graphics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“view” protocols, common edit protoc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lay this reg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is featu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6:36:04Z</dcterms:created>
  <dc:creator>Genome Research</dc:creator>
  <dc:description/>
  <dc:language>en-US</dc:language>
  <cp:lastModifiedBy>Genome Research</cp:lastModifiedBy>
  <dcterms:modified xsi:type="dcterms:W3CDTF">2008-09-10T08:25:11Z</dcterms:modified>
  <cp:revision>6</cp:revision>
  <dc:subject/>
  <dc:title>Interclient Communication</dc:title>
</cp:coreProperties>
</file>