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5945962-F0C6-4724-A7F2-EEF7D325A065}"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53ED33C-4D0A-4549-A187-B817A24F1E7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641F113-3E83-4F53-AB4E-E4C9FF7FB410}"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586C05-04E9-4717-8D12-D070FF968F1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A35E31-639F-4BAA-9D7E-BC31AFCAE67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76D0B2-DB97-4362-A6EB-04E54711C3A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653CF0A-B49B-4F1B-B6FB-AE30E07D65E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4DF855-11ED-42FC-84C3-03F340BF7F43}"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717390-E2D3-416C-94F6-ECAEC9049067}"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5D7A4CE-2D28-46D4-AA2A-AAF9511BB743}"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F2AF66-1235-47A4-A1B4-5C416AD2154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45C764-7608-45CA-B208-E378E0709BB3}"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876685-9B6F-486B-B087-932BC8E806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342E0-EB86-43E7-B4CF-01FBE174F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F8872-7125-44E7-B499-D1165E5940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F0519F-1379-4BBE-9C79-78FD9F9779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C04F7-A5BF-43BF-BD2C-D12FC45D3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CB5D5-B7E3-4233-A757-46C399934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5C998-46A4-4659-ACCE-2E2220356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96BB8-3C7A-4ED6-B45E-293B10902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9444E-8275-485E-80EF-D96AE17BE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4AF76-572D-4B66-A77D-331F1AC13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BA699-B84C-440B-859B-85B8DF71B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4AE64-31D7-4394-819E-98028FEE1D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975E0-2659-417C-B4ED-14F7B628E3D2}" type="datetime">
              <a:rPr b="1" lang="en-US" sz="1200" spc="-1" strike="noStrike">
                <a:solidFill>
                  <a:srgbClr val="898989"/>
                </a:solidFill>
                <a:latin typeface="Arial"/>
              </a:rPr>
              <a:t>07/29/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5B152-EFB8-418E-9B8B-297A237DB6BA}"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