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A4E538-FCC4-469A-93D8-54D1565F2FD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4BDED6-65FB-410D-B067-F6414A09775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BB6892-28C1-4A7F-AAA6-0746FB325DF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949531-77EB-49AA-B39F-1C06A409C5E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C31610-F810-40A9-B3A1-05A1ED3362B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8716C3-6B1A-4C0A-A1AC-EDAB189D26E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7DBF35-15EC-4946-AF43-2922AE3A4C9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DF87A5-DDD2-4693-A058-0E999E46671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8AFE68-26AB-4A2B-AE19-171A6E6F2B9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3DA598-F075-41FB-9267-8BDF28E6923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C04C65-30B9-416C-B4ED-272AAC2351E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0D7D09-860F-4DA7-8AC6-3E4080D2F54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94FED-CEC5-42A9-9B7B-B8C455282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91F81-A0EC-498D-8113-B9695F772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EBA8B-93E2-4E17-BAF3-EAFDD2FBE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76CC2-0FC4-4FDE-8FA4-077C1E163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AD3FF-3B43-44DF-83D7-6E5CEB2F4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06F50-8207-4771-BE1E-4690AA02E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B081F-E83F-442E-A1E3-62CC54F4A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C02DA-24EF-4815-B9E2-CFB83B31D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63337-5796-4101-B8B5-E149CBF29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5A773-9037-43D9-A6CE-63FF90805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DB2F3-3675-4098-824A-8FD9252EB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A7CB6-8C73-4E46-8446-CD23E29BB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7167F-E483-439F-860C-EB5E89D539BA}" type="datetime">
              <a:rPr b="1" lang="en-US" sz="1200" spc="-1" strike="noStrike">
                <a:solidFill>
                  <a:srgbClr val="898989"/>
                </a:solidFill>
                <a:latin typeface="Arial"/>
              </a:rPr>
              <a:t>07/30/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99DFC-8BF1-4CD1-A366-5860A6EB09DC}"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