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5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3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jpeg" ContentType="image/jpeg"/>
  <Override PartName="/ppt/media/image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body"/>
          </p:nvPr>
        </p:nvSpPr>
        <p:spPr>
          <a:xfrm>
            <a:off x="1185480" y="4787640"/>
            <a:ext cx="5405400" cy="38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ldImg"/>
          </p:nvPr>
        </p:nvSpPr>
        <p:spPr>
          <a:xfrm>
            <a:off x="-360" y="76320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20DCF-B4D0-42D0-BB00-BA65A8BD1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720" y="4370040"/>
            <a:ext cx="90727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90408-EC3D-49BD-B4E0-E21EB8DE6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472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376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7A213-92CC-4D23-B5E2-36B801B74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2280" y="17636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9840" y="17636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4720" y="43700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2280" y="43700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9840" y="43700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148A6-0680-4DC3-8417-DD6F2698D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6F91C-CF41-452C-BEBE-9880A7F7E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E3BF4-C0C5-4538-8DD0-F0E4E05DA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97411-6EA4-4D93-ACB8-37C655720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8731F-F15F-49D8-9443-4EB663AA8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4720" y="302760"/>
            <a:ext cx="907272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0F33B-E259-498D-955F-9C8C8BD29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472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6256E-43E9-4E55-AFBF-E0DCCE2FC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376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CADEE-ADB3-49B0-826E-9DC636DAB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4720" y="4370040"/>
            <a:ext cx="90727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71A65-A47D-4523-9020-EE8925E19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2" marL="1260360" indent="-25236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3" marL="1763640" indent="-25236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4" marL="2268360" indent="-25236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5" marL="2268360" indent="-25236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6" marL="2268360" indent="-25236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4360" y="6884640"/>
            <a:ext cx="235116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en-US" sz="1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4840" y="6884640"/>
            <a:ext cx="31910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en-US" sz="1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4640"/>
            <a:ext cx="235260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en-US" sz="1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fld id="{2B40E593-0F18-48E3-9B39-47C1D1B2E062}" type="slidenum">
              <a:rPr b="0" lang="en-US" sz="1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18920" y="2124000"/>
            <a:ext cx="8607240" cy="87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0" i="1" lang="en-US" sz="7500" spc="-1" strike="noStrike">
                <a:solidFill>
                  <a:srgbClr val="000000"/>
                </a:solidFill>
                <a:latin typeface="Arial"/>
              </a:rPr>
              <a:t>Curation Tools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39440" y="2101680"/>
            <a:ext cx="860724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indent="0" algn="ctr">
              <a:lnSpc>
                <a:spcPct val="100000"/>
              </a:lnSpc>
              <a:buNone/>
              <a:tabLst>
                <a:tab algn="l" pos="0"/>
                <a:tab algn="l" pos="114480"/>
                <a:tab algn="l" pos="571680"/>
                <a:tab algn="l" pos="1028880"/>
                <a:tab algn="l" pos="1486080"/>
                <a:tab algn="l" pos="1943280"/>
                <a:tab algn="l" pos="2400480"/>
                <a:tab algn="l" pos="2857680"/>
                <a:tab algn="l" pos="3314880"/>
                <a:tab algn="l" pos="3770280"/>
                <a:tab algn="l" pos="4229280"/>
                <a:tab algn="l" pos="4686480"/>
                <a:tab algn="l" pos="5143680"/>
                <a:tab algn="l" pos="5599080"/>
                <a:tab algn="l" pos="6056280"/>
                <a:tab algn="l" pos="6515280"/>
                <a:tab algn="l" pos="6972480"/>
                <a:tab algn="l" pos="7427880"/>
                <a:tab algn="l" pos="7885080"/>
                <a:tab algn="l" pos="8344080"/>
                <a:tab algn="l" pos="8799480"/>
                <a:tab algn="l" pos="9072720"/>
                <a:tab algn="l" pos="10080720"/>
              </a:tabLst>
            </a:pPr>
            <a:r>
              <a:rPr b="1" i="1" lang="en-GB" sz="3400" spc="-1" strike="noStrike">
                <a:solidFill>
                  <a:srgbClr val="000000"/>
                </a:solidFill>
                <a:latin typeface="Arial"/>
              </a:rPr>
              <a:t>Gary William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indent="0" algn="ctr">
              <a:lnSpc>
                <a:spcPct val="100000"/>
              </a:lnSpc>
              <a:buNone/>
              <a:tabLst>
                <a:tab algn="l" pos="0"/>
                <a:tab algn="l" pos="114480"/>
                <a:tab algn="l" pos="571680"/>
                <a:tab algn="l" pos="1028880"/>
                <a:tab algn="l" pos="1486080"/>
                <a:tab algn="l" pos="1943280"/>
                <a:tab algn="l" pos="2400480"/>
                <a:tab algn="l" pos="2857680"/>
                <a:tab algn="l" pos="3314880"/>
                <a:tab algn="l" pos="3770280"/>
                <a:tab algn="l" pos="4229280"/>
                <a:tab algn="l" pos="4686480"/>
                <a:tab algn="l" pos="5143680"/>
                <a:tab algn="l" pos="5599080"/>
                <a:tab algn="l" pos="6056280"/>
                <a:tab algn="l" pos="6515280"/>
                <a:tab algn="l" pos="6972480"/>
                <a:tab algn="l" pos="7427880"/>
                <a:tab algn="l" pos="7885080"/>
                <a:tab algn="l" pos="8344080"/>
                <a:tab algn="l" pos="8799480"/>
                <a:tab algn="l" pos="9072720"/>
                <a:tab algn="l" pos="10080720"/>
              </a:tabLst>
            </a:pPr>
            <a:r>
              <a:rPr b="1" i="1" lang="en-US" sz="3400" spc="-1" strike="noStrike">
                <a:solidFill>
                  <a:srgbClr val="000000"/>
                </a:solidFill>
                <a:latin typeface="Arial"/>
              </a:rPr>
              <a:t>Sanger Institut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Find Anomalies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71640" y="1619280"/>
            <a:ext cx="417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OMIC GFF F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160720" y="3348000"/>
            <a:ext cx="244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ND ANOMAL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745080" y="5003640"/>
            <a:ext cx="496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SQL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192720" y="2916360"/>
            <a:ext cx="316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FF ANOMALIES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311640" y="219564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311640" y="3851280"/>
            <a:ext cx="57600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5832000" y="3419640"/>
            <a:ext cx="1871640" cy="151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384720" y="6227640"/>
            <a:ext cx="33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maly Curation To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488360" y="6875640"/>
            <a:ext cx="20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eDB FM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824360" y="5508720"/>
            <a:ext cx="144360" cy="718920"/>
          </a:xfrm>
          <a:prstGeom prst="upDownArrow">
            <a:avLst>
              <a:gd name="adj1" fmla="val 50000"/>
              <a:gd name="adj2" fmla="val 9914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480000" y="6588000"/>
            <a:ext cx="1008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Anomaly database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054080" y="1878120"/>
            <a:ext cx="8485200" cy="115920"/>
          </a:xfrm>
          <a:prstGeom prst="roundRect">
            <a:avLst>
              <a:gd name="adj" fmla="val 1389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487840" y="1811160"/>
            <a:ext cx="28800" cy="250920"/>
          </a:xfrm>
          <a:custGeom>
            <a:avLst/>
            <a:gdLst>
              <a:gd name="textAreaLeft" fmla="*/ 360 w 28800"/>
              <a:gd name="textAreaRight" fmla="*/ 28440 w 288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6133">
                <a:moveTo>
                  <a:pt x="1200" y="0"/>
                </a:moveTo>
                <a:arcTo wR="1200" hR="1200" stAng="16200000" swAng="-5400000"/>
                <a:lnTo>
                  <a:pt x="0" y="184933"/>
                </a:lnTo>
                <a:arcTo wR="1200" hR="1200" stAng="10800000" swAng="-5400000"/>
                <a:lnTo>
                  <a:pt x="20400" y="186133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452920" y="1811160"/>
            <a:ext cx="28800" cy="250920"/>
          </a:xfrm>
          <a:custGeom>
            <a:avLst/>
            <a:gdLst>
              <a:gd name="textAreaLeft" fmla="*/ 360 w 28800"/>
              <a:gd name="textAreaRight" fmla="*/ 28440 w 288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6133">
                <a:moveTo>
                  <a:pt x="1200" y="0"/>
                </a:moveTo>
                <a:arcTo wR="1200" hR="1200" stAng="16200000" swAng="-5400000"/>
                <a:lnTo>
                  <a:pt x="0" y="184933"/>
                </a:lnTo>
                <a:arcTo wR="1200" hR="1200" stAng="10800000" swAng="-5400000"/>
                <a:lnTo>
                  <a:pt x="20400" y="186133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92420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602400" y="1811160"/>
            <a:ext cx="30240" cy="250920"/>
          </a:xfrm>
          <a:custGeom>
            <a:avLst/>
            <a:gdLst>
              <a:gd name="textAreaLeft" fmla="*/ 360 w 30240"/>
              <a:gd name="textAreaRight" fmla="*/ 29880 w 302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77374">
                <a:moveTo>
                  <a:pt x="1200" y="0"/>
                </a:moveTo>
                <a:arcTo wR="1200" hR="1200" stAng="16200000" swAng="-5400000"/>
                <a:lnTo>
                  <a:pt x="0" y="176174"/>
                </a:lnTo>
                <a:arcTo wR="1200" hR="1200" stAng="10800000" swAng="-5400000"/>
                <a:lnTo>
                  <a:pt x="20400" y="177374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30056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371840" y="1811160"/>
            <a:ext cx="28800" cy="250920"/>
          </a:xfrm>
          <a:custGeom>
            <a:avLst/>
            <a:gdLst>
              <a:gd name="textAreaLeft" fmla="*/ 360 w 28800"/>
              <a:gd name="textAreaRight" fmla="*/ 28440 w 288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6133">
                <a:moveTo>
                  <a:pt x="1200" y="0"/>
                </a:moveTo>
                <a:arcTo wR="1200" hR="1200" stAng="16200000" swAng="-5400000"/>
                <a:lnTo>
                  <a:pt x="0" y="184933"/>
                </a:lnTo>
                <a:arcTo wR="1200" hR="1200" stAng="10800000" swAng="-5400000"/>
                <a:lnTo>
                  <a:pt x="20400" y="186133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52456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63256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80384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3480" y="1811160"/>
            <a:ext cx="30240" cy="250920"/>
          </a:xfrm>
          <a:custGeom>
            <a:avLst/>
            <a:gdLst>
              <a:gd name="textAreaLeft" fmla="*/ 360 w 30240"/>
              <a:gd name="textAreaRight" fmla="*/ 29880 w 302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77374">
                <a:moveTo>
                  <a:pt x="1200" y="0"/>
                </a:moveTo>
                <a:arcTo wR="1200" hR="1200" stAng="16200000" swAng="-5400000"/>
                <a:lnTo>
                  <a:pt x="0" y="176174"/>
                </a:lnTo>
                <a:arcTo wR="1200" hR="1200" stAng="10800000" swAng="-5400000"/>
                <a:lnTo>
                  <a:pt x="20400" y="177374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78928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594400" y="1811160"/>
            <a:ext cx="30240" cy="250920"/>
          </a:xfrm>
          <a:custGeom>
            <a:avLst/>
            <a:gdLst>
              <a:gd name="textAreaLeft" fmla="*/ 360 w 30240"/>
              <a:gd name="textAreaRight" fmla="*/ 29880 w 302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77374">
                <a:moveTo>
                  <a:pt x="1200" y="0"/>
                </a:moveTo>
                <a:arcTo wR="1200" hR="1200" stAng="16200000" swAng="-5400000"/>
                <a:lnTo>
                  <a:pt x="0" y="176174"/>
                </a:lnTo>
                <a:arcTo wR="1200" hR="1200" stAng="10800000" swAng="-5400000"/>
                <a:lnTo>
                  <a:pt x="20400" y="177374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562720" y="1811160"/>
            <a:ext cx="27000" cy="250920"/>
          </a:xfrm>
          <a:custGeom>
            <a:avLst/>
            <a:gdLst>
              <a:gd name="textAreaLeft" fmla="*/ 360 w 27000"/>
              <a:gd name="textAreaRight" fmla="*/ 26640 w 270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98379">
                <a:moveTo>
                  <a:pt x="1350" y="0"/>
                </a:moveTo>
                <a:arcTo wR="1350" hR="1350" stAng="16200000" swAng="-5400000"/>
                <a:lnTo>
                  <a:pt x="0" y="197029"/>
                </a:lnTo>
                <a:arcTo wR="1350" hR="1350" stAng="10800000" swAng="-5400000"/>
                <a:lnTo>
                  <a:pt x="20250" y="198379"/>
                </a:lnTo>
                <a:arcTo wR="1350" hR="1350" stAng="5400000" swAng="-5400000"/>
                <a:lnTo>
                  <a:pt x="21600" y="1350"/>
                </a:lnTo>
                <a:arcTo wR="1350" hR="135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336920" y="1811160"/>
            <a:ext cx="27000" cy="250920"/>
          </a:xfrm>
          <a:custGeom>
            <a:avLst/>
            <a:gdLst>
              <a:gd name="textAreaLeft" fmla="*/ 360 w 27000"/>
              <a:gd name="textAreaRight" fmla="*/ 26640 w 270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98379">
                <a:moveTo>
                  <a:pt x="1350" y="0"/>
                </a:moveTo>
                <a:arcTo wR="1350" hR="1350" stAng="16200000" swAng="-5400000"/>
                <a:lnTo>
                  <a:pt x="0" y="197029"/>
                </a:lnTo>
                <a:arcTo wR="1350" hR="1350" stAng="10800000" swAng="-5400000"/>
                <a:lnTo>
                  <a:pt x="20250" y="198379"/>
                </a:lnTo>
                <a:arcTo wR="1350" hR="1350" stAng="5400000" swAng="-5400000"/>
                <a:lnTo>
                  <a:pt x="21600" y="1350"/>
                </a:lnTo>
                <a:arcTo wR="1350" hR="135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562720" y="1811160"/>
            <a:ext cx="27000" cy="250920"/>
          </a:xfrm>
          <a:custGeom>
            <a:avLst/>
            <a:gdLst>
              <a:gd name="textAreaLeft" fmla="*/ 360 w 27000"/>
              <a:gd name="textAreaRight" fmla="*/ 26640 w 270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98379">
                <a:moveTo>
                  <a:pt x="1350" y="0"/>
                </a:moveTo>
                <a:arcTo wR="1350" hR="1350" stAng="16200000" swAng="-5400000"/>
                <a:lnTo>
                  <a:pt x="0" y="197029"/>
                </a:lnTo>
                <a:arcTo wR="1350" hR="1350" stAng="10800000" swAng="-5400000"/>
                <a:lnTo>
                  <a:pt x="20250" y="198379"/>
                </a:lnTo>
                <a:arcTo wR="1350" hR="1350" stAng="5400000" swAng="-5400000"/>
                <a:lnTo>
                  <a:pt x="21600" y="1350"/>
                </a:lnTo>
                <a:arcTo wR="1350" hR="135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64856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880128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522520" y="1674720"/>
            <a:ext cx="119232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8462880" y="1674720"/>
            <a:ext cx="119376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273800" y="1674720"/>
            <a:ext cx="119376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086520" y="1674720"/>
            <a:ext cx="119376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898880" y="1674720"/>
            <a:ext cx="119412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710160" y="1674720"/>
            <a:ext cx="119376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335240" y="1674720"/>
            <a:ext cx="119376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46160" y="1674720"/>
            <a:ext cx="119376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81000" y="2438280"/>
            <a:ext cx="1435320" cy="33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004840" y="2346480"/>
            <a:ext cx="9828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138480" y="2376360"/>
            <a:ext cx="299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421160" y="2384280"/>
            <a:ext cx="1440" cy="382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H="1">
            <a:off x="5271840" y="2355840"/>
            <a:ext cx="145800" cy="392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6154200" y="2425680"/>
            <a:ext cx="465480" cy="40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7214760" y="2397240"/>
            <a:ext cx="608040" cy="441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7837200" y="2455920"/>
            <a:ext cx="1230120" cy="441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762280" y="2987640"/>
            <a:ext cx="459576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re anomalies in each 10 Kb reg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802040" y="3570120"/>
            <a:ext cx="18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709360" y="4052880"/>
            <a:ext cx="495072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rt windows by sum of anomaly sc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802040" y="4653000"/>
            <a:ext cx="1800" cy="260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860560" y="5065560"/>
            <a:ext cx="431352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ator selects next 10 Kb wind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832280" y="5546880"/>
            <a:ext cx="1800" cy="280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928960" y="5937120"/>
            <a:ext cx="408960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ator selects anomaly to 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824360" y="6378480"/>
            <a:ext cx="1800" cy="281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168720" y="6732720"/>
            <a:ext cx="38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edb editor displays reg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Anomaly curation tool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1703520" y="1720800"/>
            <a:ext cx="5162400" cy="583884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1981080" y="5541840"/>
            <a:ext cx="4589640" cy="1511280"/>
          </a:xfrm>
          <a:prstGeom prst="roundRect">
            <a:avLst>
              <a:gd name="adj" fmla="val 102"/>
            </a:avLst>
          </a:prstGeom>
          <a:solidFill>
            <a:srgbClr val="cc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31920" y="3954600"/>
            <a:ext cx="1247760" cy="203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st of 10Kb windows sorted by anomaly sc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314360" y="4319640"/>
            <a:ext cx="314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Select region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1703520" y="1720800"/>
            <a:ext cx="5162400" cy="583884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228600" y="3627360"/>
            <a:ext cx="104760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 a reg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047600" y="4002120"/>
            <a:ext cx="8956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5840" y="5619600"/>
            <a:ext cx="1266840" cy="10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st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oma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reg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Select anomal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1703520" y="1720800"/>
            <a:ext cx="5162400" cy="583884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1228680" y="5965920"/>
            <a:ext cx="71460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7240" y="5551560"/>
            <a:ext cx="156204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 an anoma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7675560" y="1692360"/>
            <a:ext cx="2309760" cy="368280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 flipV="1">
            <a:off x="6553080" y="3773160"/>
            <a:ext cx="2159280" cy="2173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542360" y="5508720"/>
            <a:ext cx="2143080" cy="92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play of the anoma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(Unmatched twinsca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Efficienc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4000"/>
          </a:bodyPr>
          <a:p>
            <a:pPr marL="355320" indent="-35532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ndard set of anomalies for curators to work 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5320" indent="-35532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omalies are not miss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5320" indent="-35532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quickly accept or reject regions to curate after a cursory gla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5320" indent="-35532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s finding problem areas eas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69680" indent="-296640">
              <a:spcBef>
                <a:spcPts val="575"/>
              </a:spcBef>
              <a:buClr>
                <a:srgbClr val="000000"/>
              </a:buClr>
              <a:buSzPct val="77000"/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entrate efforts on problem reg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9680" indent="-296640">
              <a:spcBef>
                <a:spcPts val="575"/>
              </a:spcBef>
              <a:buClr>
                <a:srgbClr val="000000"/>
              </a:buClr>
              <a:buSzPct val="77000"/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unnecessary repeat visits to a reg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320" indent="-35532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x problem areas can still take a long time to sol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5320" indent="0">
              <a:spcBef>
                <a:spcPts val="79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Other anomalies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 is continuing to add new types of anoma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476"/>
              </a:spcBef>
              <a:buClr>
                <a:srgbClr val="000000"/>
              </a:buClr>
              <a:buSzPct val="64000"/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ling array expressed reg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476"/>
              </a:spcBef>
              <a:buClr>
                <a:srgbClr val="000000"/>
              </a:buClr>
              <a:buSzPct val="64000"/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ssing/extra exons compared to other genes in homolo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ing a new anomaly type requires no changes to the database or curation tool and it is amalgamated with the existing anoma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y new data can easily be ad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74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Anyone can see them!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nomalies are publicly displayed in the GBrowse genome displ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74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9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Small protein display tool (ilk)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Enter ID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Displays target protein and (blastp) similar nematode protein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Highlights blastp HSP similar region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Exon boundarie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gnalP region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Mass-spec hit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Domain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Protein display tool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1584360" y="1403280"/>
            <a:ext cx="7004160" cy="554040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5111640" y="212400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rget prote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184720" y="291636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on bound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960720" y="5867280"/>
            <a:ext cx="33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ss-spec peptide h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400720" y="464328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omai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184720" y="3708360"/>
            <a:ext cx="23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gion of similar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3816360" y="2124000"/>
            <a:ext cx="1295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H="1">
            <a:off x="2518920" y="3132000"/>
            <a:ext cx="259236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H="1">
            <a:off x="2592360" y="3203640"/>
            <a:ext cx="251928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H="1">
            <a:off x="3024360" y="3274920"/>
            <a:ext cx="2087280" cy="43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H="1">
            <a:off x="3384360" y="3348000"/>
            <a:ext cx="172692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3527280" y="3924360"/>
            <a:ext cx="1657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3887280" y="485928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H="1" flipV="1">
            <a:off x="3960360" y="5580000"/>
            <a:ext cx="14292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319640" y="55800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5184720" y="55800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5400720" y="5580000"/>
            <a:ext cx="14436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5545080" y="5580000"/>
            <a:ext cx="28728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0" y="3708360"/>
            <a:ext cx="1440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, Lab 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enoty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1368360" y="3779640"/>
            <a:ext cx="28728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Gene curation – prediction software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02920" y="1908000"/>
            <a:ext cx="90723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Gene prediction software is good, but not perfect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r current gene prediction combiner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Jigsa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about 80% accur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See exons which need work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936720" y="1403280"/>
            <a:ext cx="7134120" cy="562140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5761080" y="4427640"/>
            <a:ext cx="431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ree exons to split off at the e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H="1">
            <a:off x="5760720" y="4859280"/>
            <a:ext cx="11509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H="1">
            <a:off x="6335640" y="4859280"/>
            <a:ext cx="720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H="1">
            <a:off x="6624360" y="4932360"/>
            <a:ext cx="57636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832360" y="2916360"/>
            <a:ext cx="388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rt of exon 5 needs 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H="1">
            <a:off x="2952360" y="3348000"/>
            <a:ext cx="4032360" cy="230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Protein display tool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Outputs protein sequences for further alignment with Kalign/clustal etc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Display pairwise alignment score of target protein against every homolog and the score of a predicted gene model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ests whether a prediction would be better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Currently closely integrated with acedb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ould be changed to read from Ensembl/Chado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Future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Want to add indication of: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which introns are confirmed by transcript data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overage of CDS by transcript alignmen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0">
              <a:spcBef>
                <a:spcPts val="774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587520" y="839880"/>
            <a:ext cx="3612960" cy="682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360" rIns="99360" tIns="51480" bIns="514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alifornia Institute of Techn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aul Sternberg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Igor Antoshechki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Juancarlos Cha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Wen Che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Ranjana Kishor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Raymond Le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Hans-Michael Muell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Cecilia Nakamur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Andrei Petcherski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Gary Schindelman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Erich Schwarz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Kimberly Van Auke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Daniel Wang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Xiaodong Wang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Karen Yoo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ohn Spie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Tamberlyn Bieri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Darin Blasia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Phil Ozersky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3192480" y="1932120"/>
            <a:ext cx="3695760" cy="3695400"/>
          </a:xfrm>
          <a:prstGeom prst="rect">
            <a:avLst/>
          </a:prstGeom>
          <a:ln w="0">
            <a:noFill/>
          </a:ln>
        </p:spPr>
      </p:pic>
      <p:grpSp>
        <p:nvGrpSpPr>
          <p:cNvPr id="242" name=""/>
          <p:cNvGrpSpPr/>
          <p:nvPr/>
        </p:nvGrpSpPr>
        <p:grpSpPr>
          <a:xfrm>
            <a:off x="5294880" y="1042920"/>
            <a:ext cx="4465080" cy="5521320"/>
            <a:chOff x="5294880" y="1042920"/>
            <a:chExt cx="4465080" cy="5521320"/>
          </a:xfrm>
        </p:grpSpPr>
        <p:sp>
          <p:nvSpPr>
            <p:cNvPr id="243" name=""/>
            <p:cNvSpPr/>
            <p:nvPr/>
          </p:nvSpPr>
          <p:spPr>
            <a:xfrm>
              <a:off x="6372360" y="1042920"/>
              <a:ext cx="3387600" cy="5521320"/>
            </a:xfrm>
            <a:custGeom>
              <a:avLst/>
              <a:gdLst>
                <a:gd name="textAreaLeft" fmla="*/ 360 w 3387600"/>
                <a:gd name="textAreaRight" fmla="*/ 3387240 w 3387600"/>
                <a:gd name="textAreaTop" fmla="*/ 360 h 5521320"/>
                <a:gd name="textAreaBottom" fmla="*/ 5520960 h 5521320"/>
              </a:gdLst>
              <a:ahLst/>
              <a:rect l="textAreaLeft" t="textAreaTop" r="textAreaRight" b="textAreaBottom"/>
              <a:pathLst>
                <a:path w="21600" h="35204">
                  <a:moveTo>
                    <a:pt x="10" y="0"/>
                  </a:moveTo>
                  <a:arcTo wR="10" hR="10" stAng="16200000" swAng="-5400000"/>
                  <a:lnTo>
                    <a:pt x="0" y="35194"/>
                  </a:lnTo>
                  <a:arcTo wR="10" hR="10" stAng="10800000" swAng="-5400000"/>
                  <a:lnTo>
                    <a:pt x="21590" y="35204"/>
                  </a:lnTo>
                  <a:arcTo wR="10" hR="10" stAng="5400000" swAng="-5400000"/>
                  <a:lnTo>
                    <a:pt x="21600" y="10"/>
                  </a:lnTo>
                  <a:arcTo wR="10" hR="10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4" name=""/>
            <p:cNvGrpSpPr/>
            <p:nvPr/>
          </p:nvGrpSpPr>
          <p:grpSpPr>
            <a:xfrm>
              <a:off x="5294880" y="1042920"/>
              <a:ext cx="4464360" cy="5518080"/>
              <a:chOff x="5294880" y="1042920"/>
              <a:chExt cx="4464360" cy="5518080"/>
            </a:xfrm>
          </p:grpSpPr>
          <p:sp>
            <p:nvSpPr>
              <p:cNvPr id="245" name=""/>
              <p:cNvSpPr/>
              <p:nvPr/>
            </p:nvSpPr>
            <p:spPr>
              <a:xfrm>
                <a:off x="6372360" y="1042920"/>
                <a:ext cx="3384360" cy="5518080"/>
              </a:xfrm>
              <a:custGeom>
                <a:avLst/>
                <a:gdLst>
                  <a:gd name="textAreaLeft" fmla="*/ 360 w 3384360"/>
                  <a:gd name="textAreaRight" fmla="*/ 3384000 w 3384360"/>
                  <a:gd name="textAreaTop" fmla="*/ 360 h 5518080"/>
                  <a:gd name="textAreaBottom" fmla="*/ 5517720 h 5518080"/>
                </a:gdLst>
                <a:ahLst/>
                <a:rect l="textAreaLeft" t="textAreaTop" r="textAreaRight" b="textAreaBottom"/>
                <a:pathLst>
                  <a:path w="21600" h="35217">
                    <a:moveTo>
                      <a:pt x="10" y="0"/>
                    </a:moveTo>
                    <a:arcTo wR="10" hR="10" stAng="16200000" swAng="-5400000"/>
                    <a:lnTo>
                      <a:pt x="0" y="35207"/>
                    </a:lnTo>
                    <a:arcTo wR="10" hR="10" stAng="10800000" swAng="-5400000"/>
                    <a:lnTo>
                      <a:pt x="21590" y="35217"/>
                    </a:lnTo>
                    <a:arcTo wR="10" hR="10" stAng="5400000" swAng="-5400000"/>
                    <a:lnTo>
                      <a:pt x="21600" y="10"/>
                    </a:lnTo>
                    <a:arcTo wR="10" hR="10" stAng="0" swAng="-5400000"/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6" name=""/>
              <p:cNvGrpSpPr/>
              <p:nvPr/>
            </p:nvGrpSpPr>
            <p:grpSpPr>
              <a:xfrm>
                <a:off x="5294880" y="1042920"/>
                <a:ext cx="4464360" cy="5516640"/>
                <a:chOff x="5294880" y="1042920"/>
                <a:chExt cx="4464360" cy="5516640"/>
              </a:xfrm>
            </p:grpSpPr>
            <p:sp>
              <p:nvSpPr>
                <p:cNvPr id="247" name=""/>
                <p:cNvSpPr/>
                <p:nvPr/>
              </p:nvSpPr>
              <p:spPr>
                <a:xfrm>
                  <a:off x="6372360" y="1042920"/>
                  <a:ext cx="3382920" cy="5516640"/>
                </a:xfrm>
                <a:custGeom>
                  <a:avLst/>
                  <a:gdLst>
                    <a:gd name="textAreaLeft" fmla="*/ 360 w 3382920"/>
                    <a:gd name="textAreaRight" fmla="*/ 3382560 w 3382920"/>
                    <a:gd name="textAreaTop" fmla="*/ 360 h 5516640"/>
                    <a:gd name="textAreaBottom" fmla="*/ 5516280 h 5516640"/>
                  </a:gdLst>
                  <a:ahLst/>
                  <a:rect l="textAreaLeft" t="textAreaTop" r="textAreaRight" b="textAreaBottom"/>
                  <a:pathLst>
                    <a:path w="21600" h="35222">
                      <a:moveTo>
                        <a:pt x="10" y="0"/>
                      </a:moveTo>
                      <a:arcTo wR="10" hR="10" stAng="16200000" swAng="-5400000"/>
                      <a:lnTo>
                        <a:pt x="0" y="35212"/>
                      </a:lnTo>
                      <a:arcTo wR="10" hR="10" stAng="10800000" swAng="-5400000"/>
                      <a:lnTo>
                        <a:pt x="21590" y="35222"/>
                      </a:lnTo>
                      <a:arcTo wR="10" hR="10" stAng="5400000" swAng="-5400000"/>
                      <a:lnTo>
                        <a:pt x="21600" y="10"/>
                      </a:lnTo>
                      <a:arcTo wR="10" hR="10" stAng="0" swAng="-5400000"/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48" name=""/>
                <p:cNvGrpSpPr/>
                <p:nvPr/>
              </p:nvGrpSpPr>
              <p:grpSpPr>
                <a:xfrm>
                  <a:off x="5294880" y="1042920"/>
                  <a:ext cx="4464360" cy="5516640"/>
                  <a:chOff x="5294880" y="1042920"/>
                  <a:chExt cx="4464360" cy="5516640"/>
                </a:xfrm>
              </p:grpSpPr>
              <p:sp>
                <p:nvSpPr>
                  <p:cNvPr id="249" name=""/>
                  <p:cNvSpPr/>
                  <p:nvPr/>
                </p:nvSpPr>
                <p:spPr>
                  <a:xfrm>
                    <a:off x="6372360" y="1042920"/>
                    <a:ext cx="3382920" cy="5516640"/>
                  </a:xfrm>
                  <a:custGeom>
                    <a:avLst/>
                    <a:gdLst>
                      <a:gd name="textAreaLeft" fmla="*/ 360 w 3382920"/>
                      <a:gd name="textAreaRight" fmla="*/ 3382560 w 3382920"/>
                      <a:gd name="textAreaTop" fmla="*/ 360 h 5516640"/>
                      <a:gd name="textAreaBottom" fmla="*/ 5516280 h 5516640"/>
                    </a:gdLst>
                    <a:ahLst/>
                    <a:rect l="textAreaLeft" t="textAreaTop" r="textAreaRight" b="textAreaBottom"/>
                    <a:pathLst>
                      <a:path w="21600" h="35222">
                        <a:moveTo>
                          <a:pt x="10" y="0"/>
                        </a:moveTo>
                        <a:arcTo wR="10" hR="10" stAng="16200000" swAng="-5400000"/>
                        <a:lnTo>
                          <a:pt x="0" y="35212"/>
                        </a:lnTo>
                        <a:arcTo wR="10" hR="10" stAng="10800000" swAng="-5400000"/>
                        <a:lnTo>
                          <a:pt x="21590" y="35222"/>
                        </a:lnTo>
                        <a:arcTo wR="10" hR="10" stAng="5400000" swAng="-5400000"/>
                        <a:lnTo>
                          <a:pt x="21600" y="10"/>
                        </a:lnTo>
                        <a:arcTo wR="10" hR="10" stAng="0" swAng="-5400000"/>
                        <a:close/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>
                    <a:off x="5294880" y="1042920"/>
                    <a:ext cx="4464360" cy="5492160"/>
                  </a:xfrm>
                  <a:custGeom>
                    <a:avLst/>
                    <a:gdLst>
                      <a:gd name="textAreaLeft" fmla="*/ 360 w 4464360"/>
                      <a:gd name="textAreaRight" fmla="*/ 4464000 w 4464360"/>
                      <a:gd name="textAreaTop" fmla="*/ 360 h 5492160"/>
                      <a:gd name="textAreaBottom" fmla="*/ 5491800 h 5492160"/>
                    </a:gdLst>
                    <a:ahLst/>
                    <a:rect l="textAreaLeft" t="textAreaTop" r="textAreaRight" b="textAreaBottom"/>
                    <a:pathLst>
                      <a:path w="21600" h="26572">
                        <a:moveTo>
                          <a:pt x="10" y="0"/>
                        </a:moveTo>
                        <a:arcTo wR="10" hR="10" stAng="16200000" swAng="-5400000"/>
                        <a:lnTo>
                          <a:pt x="0" y="26562"/>
                        </a:lnTo>
                        <a:arcTo wR="10" hR="10" stAng="10800000" swAng="-5400000"/>
                        <a:lnTo>
                          <a:pt x="21590" y="26572"/>
                        </a:lnTo>
                        <a:arcTo wR="10" hR="10" stAng="5400000" swAng="-5400000"/>
                        <a:lnTo>
                          <a:pt x="21600" y="10"/>
                        </a:lnTo>
                        <a:arcTo wR="10" hR="10" stAng="0" swAng="-5400000"/>
                        <a:close/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9360" rIns="99360" tIns="51480" bIns="51480" anchor="t">
                    <a:spAutoFit/>
                  </a:bodyPr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Wellcome Trust Sanger Institute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Richard Durbin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Paul Davis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Michael Han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Anthony Rogers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Mary Ann Tuli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Cold Spring Harbor Laboratory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Lincoln Stein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Norie de la Cruz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Todd Harris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Sheldon McKay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Will Spooner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Zheng Zha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pic>
        <p:nvPicPr>
          <p:cNvPr id="251" name="" descr=""/>
          <p:cNvPicPr/>
          <p:nvPr/>
        </p:nvPicPr>
        <p:blipFill>
          <a:blip r:embed="rId2"/>
          <a:stretch/>
        </p:blipFill>
        <p:spPr>
          <a:xfrm>
            <a:off x="6732720" y="5051520"/>
            <a:ext cx="979200" cy="912600"/>
          </a:xfrm>
          <a:prstGeom prst="rect">
            <a:avLst/>
          </a:prstGeom>
          <a:ln w="0">
            <a:noFill/>
          </a:ln>
        </p:spPr>
      </p:pic>
      <p:grpSp>
        <p:nvGrpSpPr>
          <p:cNvPr id="252" name=""/>
          <p:cNvGrpSpPr/>
          <p:nvPr/>
        </p:nvGrpSpPr>
        <p:grpSpPr>
          <a:xfrm>
            <a:off x="2771640" y="1847880"/>
            <a:ext cx="1079640" cy="1089000"/>
            <a:chOff x="2771640" y="1847880"/>
            <a:chExt cx="1079640" cy="1089000"/>
          </a:xfrm>
        </p:grpSpPr>
        <p:sp>
          <p:nvSpPr>
            <p:cNvPr id="253" name=""/>
            <p:cNvSpPr/>
            <p:nvPr/>
          </p:nvSpPr>
          <p:spPr>
            <a:xfrm>
              <a:off x="2771640" y="1847880"/>
              <a:ext cx="1079640" cy="1089000"/>
            </a:xfrm>
            <a:custGeom>
              <a:avLst/>
              <a:gdLst>
                <a:gd name="textAreaLeft" fmla="*/ 360 w 1079640"/>
                <a:gd name="textAreaRight" fmla="*/ 1079280 w 1079640"/>
                <a:gd name="textAreaTop" fmla="*/ 360 h 1089000"/>
                <a:gd name="textAreaBottom" fmla="*/ 1088640 h 1089000"/>
              </a:gdLst>
              <a:ahLst/>
              <a:rect l="textAreaLeft" t="textAreaTop" r="textAreaRight" b="textAreaBottom"/>
              <a:pathLst>
                <a:path w="21600" h="21787">
                  <a:moveTo>
                    <a:pt x="31" y="0"/>
                  </a:moveTo>
                  <a:arcTo wR="31" hR="31" stAng="16200000" swAng="-5400000"/>
                  <a:lnTo>
                    <a:pt x="0" y="21756"/>
                  </a:lnTo>
                  <a:arcTo wR="31" hR="31" stAng="10800000" swAng="-5400000"/>
                  <a:lnTo>
                    <a:pt x="21569" y="21787"/>
                  </a:lnTo>
                  <a:arcTo wR="31" hR="31" stAng="5400000" swAng="-5400000"/>
                  <a:lnTo>
                    <a:pt x="21600" y="31"/>
                  </a:lnTo>
                  <a:arcTo wR="31" hR="31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54" name="" descr=""/>
            <p:cNvPicPr/>
            <p:nvPr/>
          </p:nvPicPr>
          <p:blipFill>
            <a:blip r:embed="rId3"/>
            <a:stretch/>
          </p:blipFill>
          <p:spPr>
            <a:xfrm>
              <a:off x="2771640" y="1847880"/>
              <a:ext cx="1079640" cy="1089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55" name="" descr=""/>
          <p:cNvPicPr/>
          <p:nvPr/>
        </p:nvPicPr>
        <p:blipFill>
          <a:blip r:embed="rId4"/>
          <a:stretch/>
        </p:blipFill>
        <p:spPr>
          <a:xfrm>
            <a:off x="6372360" y="2050920"/>
            <a:ext cx="1803240" cy="52560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"/>
          <p:cNvPicPr/>
          <p:nvPr/>
        </p:nvPicPr>
        <p:blipFill>
          <a:blip r:embed="rId5"/>
          <a:stretch/>
        </p:blipFill>
        <p:spPr>
          <a:xfrm>
            <a:off x="609480" y="5375160"/>
            <a:ext cx="1789200" cy="56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4832280" y="3298680"/>
            <a:ext cx="196524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Some curation anomaly types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03280" y="1768320"/>
            <a:ext cx="9067680" cy="49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7000"/>
          </a:bodyPr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Unmatched TSL (start of gene or isoform)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Introns in UTR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Confirmed intron not in gene model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Overlapping exons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Transcript data overlaps an intron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Exon overlaps repeat region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plit gene by protein groups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Mismatched ESTs (genomic sequence error)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Some curation anomaly types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03280" y="1768320"/>
            <a:ext cx="9067680" cy="49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8000"/>
          </a:bodyPr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Unmatched exon of </a:t>
            </a:r>
            <a:r>
              <a:rPr b="0" i="1" lang="en-US" sz="3500" spc="-1" strike="noStrike">
                <a:solidFill>
                  <a:srgbClr val="000000"/>
                </a:solidFill>
                <a:latin typeface="Arial"/>
              </a:rPr>
              <a:t>twinscan 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prediction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Unmatched protein alignment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Unmatched WABA coding potential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plit/merge genes by twinscan prediction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Frame-shifted protein alignment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plit/merge by protein alignment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Unmatched mass-spec peptide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Incomplete Pfam motif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More anomalies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me-shifts defined by protein homolog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s to potentially be merged by protein homology evide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s to potentially be split by protein groups evide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9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Unmatched anomalies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61960" y="1692360"/>
            <a:ext cx="136224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insc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808760" y="6253200"/>
            <a:ext cx="15814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. remane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7704000" y="3567240"/>
            <a:ext cx="2086200" cy="13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. briggsa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quence conser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odingWAB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2786040" y="2184480"/>
            <a:ext cx="4521240" cy="355608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/>
          <p:nvPr/>
        </p:nvSpPr>
        <p:spPr>
          <a:xfrm>
            <a:off x="3246480" y="6319800"/>
            <a:ext cx="84780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84920" y="6299280"/>
            <a:ext cx="15526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. briggsa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170240" y="6299280"/>
            <a:ext cx="154332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. elega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866960" y="1971720"/>
            <a:ext cx="2741400" cy="452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3570120" y="4714560"/>
            <a:ext cx="819360" cy="1631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V="1">
            <a:off x="4722840" y="5176440"/>
            <a:ext cx="723960" cy="1074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flipH="1" flipV="1">
            <a:off x="5781240" y="5167440"/>
            <a:ext cx="436680" cy="1123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H="1" flipV="1">
            <a:off x="6095520" y="5206680"/>
            <a:ext cx="1730520" cy="96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 flipH="1" flipV="1">
            <a:off x="6981840" y="3722760"/>
            <a:ext cx="728640" cy="38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822240" y="3368520"/>
            <a:ext cx="1324080" cy="13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curated C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Gene curation – sources of data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We have traditionally relied heavily on EST transcription data to correct predictions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Now we have many extra data source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Protein homology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Mass-spec peptide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hip-based expression data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omparative species synteny/homology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Other data coming (ENCODE etc.)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755280" y="671040"/>
            <a:ext cx="8572680" cy="67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1" i="1" lang="en-US" sz="4900" spc="-1" strike="noStrike">
                <a:solidFill>
                  <a:srgbClr val="000000"/>
                </a:solidFill>
                <a:latin typeface="Arial"/>
              </a:rPr>
              <a:t>Frame-shifts by protein homolog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068720" y="2135160"/>
            <a:ext cx="95400" cy="2289240"/>
          </a:xfrm>
          <a:custGeom>
            <a:avLst/>
            <a:gdLst>
              <a:gd name="textAreaLeft" fmla="*/ 360 w 95400"/>
              <a:gd name="textAreaRight" fmla="*/ 95040 w 95400"/>
              <a:gd name="textAreaTop" fmla="*/ 360 h 2289240"/>
              <a:gd name="textAreaBottom" fmla="*/ 2288880 h 2289240"/>
            </a:gdLst>
            <a:ahLst/>
            <a:rect l="textAreaLeft" t="textAreaTop" r="textAreaRight" b="textAreaBottom"/>
            <a:pathLst>
              <a:path w="21600" h="516451">
                <a:moveTo>
                  <a:pt x="360" y="0"/>
                </a:moveTo>
                <a:arcTo wR="360" hR="360" stAng="16200000" swAng="-5400000"/>
                <a:lnTo>
                  <a:pt x="0" y="516091"/>
                </a:lnTo>
                <a:arcTo wR="360" hR="360" stAng="10800000" swAng="-5400000"/>
                <a:lnTo>
                  <a:pt x="21240" y="516451"/>
                </a:lnTo>
                <a:arcTo wR="360" hR="360" stAng="5400000" swAng="-5400000"/>
                <a:lnTo>
                  <a:pt x="21600" y="360"/>
                </a:lnTo>
                <a:arcTo wR="360" hR="360" stAng="0" swAng="-5400000"/>
                <a:close/>
              </a:path>
            </a:pathLst>
          </a:custGeom>
          <a:solidFill>
            <a:srgbClr val="33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541840" y="4541760"/>
            <a:ext cx="95400" cy="2287800"/>
          </a:xfrm>
          <a:custGeom>
            <a:avLst/>
            <a:gdLst>
              <a:gd name="textAreaLeft" fmla="*/ 360 w 95400"/>
              <a:gd name="textAreaRight" fmla="*/ 95040 w 95400"/>
              <a:gd name="textAreaTop" fmla="*/ 360 h 2287800"/>
              <a:gd name="textAreaBottom" fmla="*/ 2287440 h 2287800"/>
            </a:gdLst>
            <a:ahLst/>
            <a:rect l="textAreaLeft" t="textAreaTop" r="textAreaRight" b="textAreaBottom"/>
            <a:pathLst>
              <a:path w="21600" h="516126">
                <a:moveTo>
                  <a:pt x="360" y="0"/>
                </a:moveTo>
                <a:arcTo wR="360" hR="360" stAng="16200000" swAng="-5400000"/>
                <a:lnTo>
                  <a:pt x="0" y="515766"/>
                </a:lnTo>
                <a:arcTo wR="360" hR="360" stAng="10800000" swAng="-5400000"/>
                <a:lnTo>
                  <a:pt x="21240" y="516126"/>
                </a:lnTo>
                <a:arcTo wR="360" hR="360" stAng="5400000" swAng="-5400000"/>
                <a:lnTo>
                  <a:pt x="21600" y="360"/>
                </a:lnTo>
                <a:arcTo wR="360" hR="360" stAng="0" swAng="-5400000"/>
                <a:close/>
              </a:path>
            </a:pathLst>
          </a:custGeom>
          <a:solidFill>
            <a:srgbClr val="33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316240" y="4483080"/>
            <a:ext cx="7318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09480" y="4300560"/>
            <a:ext cx="239076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me-shi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084720" y="2319480"/>
            <a:ext cx="377064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protein aligned by BLA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flipH="1">
            <a:off x="4951080" y="2558880"/>
            <a:ext cx="95076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742000" y="2838600"/>
            <a:ext cx="619200" cy="153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5884920" y="4541760"/>
            <a:ext cx="82872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846840" y="4348080"/>
            <a:ext cx="3143160" cy="13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/no apparent intr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ar-contiguous reg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 the prote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662280" y="7070760"/>
            <a:ext cx="119088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m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189400" y="7066080"/>
            <a:ext cx="158112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m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4130640" y="6902280"/>
            <a:ext cx="180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5580000" y="6908760"/>
            <a:ext cx="1800" cy="217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70880" cy="67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1" i="1" lang="en-US" sz="4900" spc="-1" strike="noStrike">
                <a:solidFill>
                  <a:srgbClr val="000000"/>
                </a:solidFill>
                <a:latin typeface="Arial"/>
              </a:rPr>
              <a:t>Frameshift in exon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09640" y="2279520"/>
            <a:ext cx="8467560" cy="438012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163440" y="4964040"/>
            <a:ext cx="54144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70880" cy="67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1" i="1" lang="en-US" sz="4900" spc="-1" strike="noStrike">
                <a:solidFill>
                  <a:srgbClr val="000000"/>
                </a:solidFill>
                <a:latin typeface="Arial"/>
              </a:rPr>
              <a:t>Frameshift in exon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1"/>
          <a:stretch/>
        </p:blipFill>
        <p:spPr>
          <a:xfrm>
            <a:off x="1285920" y="2155680"/>
            <a:ext cx="7682040" cy="449748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/>
          <p:nvPr/>
        </p:nvSpPr>
        <p:spPr>
          <a:xfrm>
            <a:off x="295200" y="4319640"/>
            <a:ext cx="92412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755280" y="671040"/>
            <a:ext cx="8572680" cy="67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1" i="1" lang="en-US" sz="4900" spc="-1" strike="noStrike">
                <a:solidFill>
                  <a:srgbClr val="000000"/>
                </a:solidFill>
                <a:latin typeface="Arial"/>
              </a:rPr>
              <a:t>Genes to merge by protein homology?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1981080" y="1914480"/>
            <a:ext cx="66960" cy="511200"/>
          </a:xfrm>
          <a:custGeom>
            <a:avLst/>
            <a:gdLst>
              <a:gd name="textAreaLeft" fmla="*/ 360 w 66960"/>
              <a:gd name="textAreaRight" fmla="*/ 66600 w 66960"/>
              <a:gd name="textAreaTop" fmla="*/ 360 h 511200"/>
              <a:gd name="textAreaBottom" fmla="*/ 510840 h 511200"/>
            </a:gdLst>
            <a:ahLst/>
            <a:rect l="textAreaLeft" t="textAreaTop" r="textAreaRight" b="textAreaBottom"/>
            <a:pathLst>
              <a:path w="21600" h="164137">
                <a:moveTo>
                  <a:pt x="514" y="0"/>
                </a:moveTo>
                <a:arcTo wR="514" hR="514" stAng="16200000" swAng="-5400000"/>
                <a:lnTo>
                  <a:pt x="0" y="163623"/>
                </a:lnTo>
                <a:arcTo wR="514" hR="514" stAng="10800000" swAng="-5400000"/>
                <a:lnTo>
                  <a:pt x="21086" y="164137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981080" y="1914480"/>
            <a:ext cx="66960" cy="538200"/>
          </a:xfrm>
          <a:custGeom>
            <a:avLst/>
            <a:gdLst>
              <a:gd name="textAreaLeft" fmla="*/ 360 w 66960"/>
              <a:gd name="textAreaRight" fmla="*/ 66600 w 66960"/>
              <a:gd name="textAreaTop" fmla="*/ 360 h 538200"/>
              <a:gd name="textAreaBottom" fmla="*/ 537840 h 538200"/>
            </a:gdLst>
            <a:ahLst/>
            <a:rect l="textAreaLeft" t="textAreaTop" r="textAreaRight" b="textAreaBottom"/>
            <a:pathLst>
              <a:path w="21600" h="172800">
                <a:moveTo>
                  <a:pt x="514" y="0"/>
                </a:moveTo>
                <a:arcTo wR="514" hR="514" stAng="16200000" swAng="-5400000"/>
                <a:lnTo>
                  <a:pt x="0" y="172286"/>
                </a:lnTo>
                <a:arcTo wR="514" hR="514" stAng="10800000" swAng="-5400000"/>
                <a:lnTo>
                  <a:pt x="21086" y="172800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962000" y="4368960"/>
            <a:ext cx="66960" cy="510840"/>
          </a:xfrm>
          <a:custGeom>
            <a:avLst/>
            <a:gdLst>
              <a:gd name="textAreaLeft" fmla="*/ 360 w 66960"/>
              <a:gd name="textAreaRight" fmla="*/ 66600 w 66960"/>
              <a:gd name="textAreaTop" fmla="*/ 360 h 510840"/>
              <a:gd name="textAreaBottom" fmla="*/ 510480 h 510840"/>
            </a:gdLst>
            <a:ahLst/>
            <a:rect l="textAreaLeft" t="textAreaTop" r="textAreaRight" b="textAreaBottom"/>
            <a:pathLst>
              <a:path w="21600" h="164021">
                <a:moveTo>
                  <a:pt x="514" y="0"/>
                </a:moveTo>
                <a:arcTo wR="514" hR="514" stAng="16200000" swAng="-5400000"/>
                <a:lnTo>
                  <a:pt x="0" y="163507"/>
                </a:lnTo>
                <a:arcTo wR="514" hR="514" stAng="10800000" swAng="-5400000"/>
                <a:lnTo>
                  <a:pt x="21086" y="164021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522760" y="2241720"/>
            <a:ext cx="125640" cy="876240"/>
          </a:xfrm>
          <a:custGeom>
            <a:avLst/>
            <a:gdLst>
              <a:gd name="textAreaLeft" fmla="*/ 360 w 125640"/>
              <a:gd name="textAreaRight" fmla="*/ 125280 w 125640"/>
              <a:gd name="textAreaTop" fmla="*/ 360 h 876240"/>
              <a:gd name="textAreaBottom" fmla="*/ 875880 h 876240"/>
            </a:gdLst>
            <a:ahLst/>
            <a:rect l="textAreaLeft" t="textAreaTop" r="textAreaRight" b="textAreaBottom"/>
            <a:pathLst>
              <a:path w="21600" h="150274">
                <a:moveTo>
                  <a:pt x="276" y="0"/>
                </a:moveTo>
                <a:arcTo wR="276" hR="276" stAng="16200000" swAng="-5400000"/>
                <a:lnTo>
                  <a:pt x="0" y="149998"/>
                </a:lnTo>
                <a:arcTo wR="276" hR="276" stAng="10800000" swAng="-5400000"/>
                <a:lnTo>
                  <a:pt x="21324" y="150274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3deb3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 flipH="1" flipV="1">
            <a:off x="2514240" y="2144880"/>
            <a:ext cx="286380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 flipH="1">
            <a:off x="2475000" y="2963880"/>
            <a:ext cx="2835360" cy="1577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380200" y="2241720"/>
            <a:ext cx="47520" cy="404640"/>
          </a:xfrm>
          <a:custGeom>
            <a:avLst/>
            <a:gdLst>
              <a:gd name="textAreaLeft" fmla="*/ 360 w 47520"/>
              <a:gd name="textAreaRight" fmla="*/ 47160 w 47520"/>
              <a:gd name="textAreaTop" fmla="*/ 360 h 404640"/>
              <a:gd name="textAreaBottom" fmla="*/ 404280 h 404640"/>
            </a:gdLst>
            <a:ahLst/>
            <a:rect l="textAreaLeft" t="textAreaTop" r="textAreaRight" b="textAreaBottom"/>
            <a:pathLst>
              <a:path w="21600" h="182707">
                <a:moveTo>
                  <a:pt x="720" y="0"/>
                </a:moveTo>
                <a:arcTo wR="720" hR="720" stAng="16200000" swAng="-5400000"/>
                <a:lnTo>
                  <a:pt x="0" y="181987"/>
                </a:lnTo>
                <a:arcTo wR="720" hR="720" stAng="10800000" swAng="-5400000"/>
                <a:lnTo>
                  <a:pt x="20880" y="182707"/>
                </a:lnTo>
                <a:arcTo wR="720" hR="720" stAng="5400000" swAng="-5400000"/>
                <a:lnTo>
                  <a:pt x="21600" y="720"/>
                </a:lnTo>
                <a:arcTo wR="720" hR="720" stAng="0" swAng="-5400000"/>
                <a:close/>
              </a:path>
            </a:pathLst>
          </a:custGeom>
          <a:solidFill>
            <a:srgbClr val="33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380200" y="2703600"/>
            <a:ext cx="47520" cy="404640"/>
          </a:xfrm>
          <a:custGeom>
            <a:avLst/>
            <a:gdLst>
              <a:gd name="textAreaLeft" fmla="*/ 360 w 47520"/>
              <a:gd name="textAreaRight" fmla="*/ 47160 w 47520"/>
              <a:gd name="textAreaTop" fmla="*/ 360 h 404640"/>
              <a:gd name="textAreaBottom" fmla="*/ 404280 h 404640"/>
            </a:gdLst>
            <a:ahLst/>
            <a:rect l="textAreaLeft" t="textAreaTop" r="textAreaRight" b="textAreaBottom"/>
            <a:pathLst>
              <a:path w="21600" h="182707">
                <a:moveTo>
                  <a:pt x="720" y="0"/>
                </a:moveTo>
                <a:arcTo wR="720" hR="720" stAng="16200000" swAng="-5400000"/>
                <a:lnTo>
                  <a:pt x="0" y="181987"/>
                </a:lnTo>
                <a:arcTo wR="720" hR="720" stAng="10800000" swAng="-5400000"/>
                <a:lnTo>
                  <a:pt x="20880" y="182707"/>
                </a:lnTo>
                <a:arcTo wR="720" hR="720" stAng="5400000" swAng="-5400000"/>
                <a:lnTo>
                  <a:pt x="21600" y="720"/>
                </a:lnTo>
                <a:arcTo wR="720" hR="720" stAng="0" swAng="-5400000"/>
                <a:close/>
              </a:path>
            </a:pathLst>
          </a:custGeom>
          <a:solidFill>
            <a:srgbClr val="33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113520" y="2384280"/>
            <a:ext cx="3381480" cy="101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 protein matches two CDS in contiguous regions of the prote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71520" y="2021040"/>
            <a:ext cx="112248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DS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28760" y="4348080"/>
            <a:ext cx="103824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DS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755280" y="671040"/>
            <a:ext cx="8572680" cy="67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1" i="1" lang="en-US" sz="4900" spc="-1" strike="noStrike">
                <a:solidFill>
                  <a:srgbClr val="000000"/>
                </a:solidFill>
                <a:latin typeface="Arial"/>
              </a:rPr>
              <a:t>Genes to merge by protein homology?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1619280" y="1617840"/>
            <a:ext cx="6541920" cy="5310000"/>
          </a:xfrm>
          <a:prstGeom prst="rect">
            <a:avLst/>
          </a:prstGeom>
          <a:ln w="0">
            <a:noFill/>
          </a:ln>
        </p:spPr>
      </p:pic>
      <p:sp>
        <p:nvSpPr>
          <p:cNvPr id="313" name=""/>
          <p:cNvSpPr/>
          <p:nvPr/>
        </p:nvSpPr>
        <p:spPr>
          <a:xfrm>
            <a:off x="257040" y="3521160"/>
            <a:ext cx="106848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DS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00160" y="6397560"/>
            <a:ext cx="113328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DS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66760" y="7070760"/>
            <a:ext cx="995040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ybase, Human, SwissProt, TrEMBL Proteins homologous to the two C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 flipV="1">
            <a:off x="4379760" y="6715080"/>
            <a:ext cx="1800" cy="27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flipV="1">
            <a:off x="4827600" y="6765480"/>
            <a:ext cx="144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5684760" y="6754680"/>
            <a:ext cx="1800" cy="230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7446960" y="6734160"/>
            <a:ext cx="1440" cy="308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755280" y="671040"/>
            <a:ext cx="8572680" cy="67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1" i="1" lang="en-US" sz="4900" spc="-1" strike="noStrike">
                <a:solidFill>
                  <a:srgbClr val="000000"/>
                </a:solidFill>
                <a:latin typeface="Arial"/>
              </a:rPr>
              <a:t>Gene to split by protein groups?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981080" y="1914480"/>
            <a:ext cx="66960" cy="511200"/>
          </a:xfrm>
          <a:custGeom>
            <a:avLst/>
            <a:gdLst>
              <a:gd name="textAreaLeft" fmla="*/ 360 w 66960"/>
              <a:gd name="textAreaRight" fmla="*/ 66600 w 66960"/>
              <a:gd name="textAreaTop" fmla="*/ 360 h 511200"/>
              <a:gd name="textAreaBottom" fmla="*/ 510840 h 511200"/>
            </a:gdLst>
            <a:ahLst/>
            <a:rect l="textAreaLeft" t="textAreaTop" r="textAreaRight" b="textAreaBottom"/>
            <a:pathLst>
              <a:path w="21600" h="164137">
                <a:moveTo>
                  <a:pt x="514" y="0"/>
                </a:moveTo>
                <a:arcTo wR="514" hR="514" stAng="16200000" swAng="-5400000"/>
                <a:lnTo>
                  <a:pt x="0" y="163623"/>
                </a:lnTo>
                <a:arcTo wR="514" hR="514" stAng="10800000" swAng="-5400000"/>
                <a:lnTo>
                  <a:pt x="21086" y="164137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981080" y="1914480"/>
            <a:ext cx="66960" cy="538200"/>
          </a:xfrm>
          <a:custGeom>
            <a:avLst/>
            <a:gdLst>
              <a:gd name="textAreaLeft" fmla="*/ 360 w 66960"/>
              <a:gd name="textAreaRight" fmla="*/ 66600 w 66960"/>
              <a:gd name="textAreaTop" fmla="*/ 360 h 538200"/>
              <a:gd name="textAreaBottom" fmla="*/ 537840 h 538200"/>
            </a:gdLst>
            <a:ahLst/>
            <a:rect l="textAreaLeft" t="textAreaTop" r="textAreaRight" b="textAreaBottom"/>
            <a:pathLst>
              <a:path w="21600" h="172800">
                <a:moveTo>
                  <a:pt x="514" y="0"/>
                </a:moveTo>
                <a:arcTo wR="514" hR="514" stAng="16200000" swAng="-5400000"/>
                <a:lnTo>
                  <a:pt x="0" y="172286"/>
                </a:lnTo>
                <a:arcTo wR="514" hR="514" stAng="10800000" swAng="-5400000"/>
                <a:lnTo>
                  <a:pt x="21086" y="172800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962000" y="4260960"/>
            <a:ext cx="66960" cy="511200"/>
          </a:xfrm>
          <a:custGeom>
            <a:avLst/>
            <a:gdLst>
              <a:gd name="textAreaLeft" fmla="*/ 360 w 66960"/>
              <a:gd name="textAreaRight" fmla="*/ 66600 w 66960"/>
              <a:gd name="textAreaTop" fmla="*/ 360 h 511200"/>
              <a:gd name="textAreaBottom" fmla="*/ 510840 h 511200"/>
            </a:gdLst>
            <a:ahLst/>
            <a:rect l="textAreaLeft" t="textAreaTop" r="textAreaRight" b="textAreaBottom"/>
            <a:pathLst>
              <a:path w="21600" h="164137">
                <a:moveTo>
                  <a:pt x="514" y="0"/>
                </a:moveTo>
                <a:arcTo wR="514" hR="514" stAng="16200000" swAng="-5400000"/>
                <a:lnTo>
                  <a:pt x="0" y="163623"/>
                </a:lnTo>
                <a:arcTo wR="514" hR="514" stAng="10800000" swAng="-5400000"/>
                <a:lnTo>
                  <a:pt x="21086" y="164137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866880" y="2030400"/>
            <a:ext cx="112212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D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25" name=""/>
          <p:cNvCxnSpPr>
            <a:endCxn id="326" idx="0"/>
          </p:cNvCxnSpPr>
          <p:nvPr/>
        </p:nvCxnSpPr>
        <p:spPr>
          <a:xfrm flipH="1">
            <a:off x="2023560" y="2558520"/>
            <a:ext cx="65520" cy="172440"/>
          </a:xfrm>
          <a:prstGeom prst="straightConnector1">
            <a:avLst/>
          </a:prstGeom>
          <a:ln w="36000">
            <a:solidFill>
              <a:srgbClr val="280099"/>
            </a:solidFill>
            <a:miter/>
          </a:ln>
        </p:spPr>
      </p:cxnSp>
      <p:cxnSp>
        <p:nvCxnSpPr>
          <p:cNvPr id="327" name=""/>
          <p:cNvCxnSpPr>
            <a:stCxn id="322" idx="2"/>
          </p:cNvCxnSpPr>
          <p:nvPr/>
        </p:nvCxnSpPr>
        <p:spPr>
          <a:xfrm>
            <a:off x="2014200" y="2452320"/>
            <a:ext cx="81360" cy="106920"/>
          </a:xfrm>
          <a:prstGeom prst="straightConnector1">
            <a:avLst/>
          </a:prstGeom>
          <a:ln w="36000">
            <a:solidFill>
              <a:srgbClr val="280099"/>
            </a:solidFill>
            <a:miter/>
          </a:ln>
        </p:spPr>
      </p:cxnSp>
      <p:sp>
        <p:nvSpPr>
          <p:cNvPr id="328" name=""/>
          <p:cNvSpPr/>
          <p:nvPr/>
        </p:nvSpPr>
        <p:spPr>
          <a:xfrm>
            <a:off x="3960720" y="2538360"/>
            <a:ext cx="123840" cy="588960"/>
          </a:xfrm>
          <a:custGeom>
            <a:avLst/>
            <a:gdLst>
              <a:gd name="textAreaLeft" fmla="*/ 360 w 123840"/>
              <a:gd name="textAreaRight" fmla="*/ 123480 w 123840"/>
              <a:gd name="textAreaTop" fmla="*/ 360 h 588960"/>
              <a:gd name="textAreaBottom" fmla="*/ 588600 h 588960"/>
            </a:gdLst>
            <a:ahLst/>
            <a:rect l="textAreaLeft" t="textAreaTop" r="textAreaRight" b="textAreaBottom"/>
            <a:pathLst>
              <a:path w="21600" h="102490">
                <a:moveTo>
                  <a:pt x="276" y="0"/>
                </a:moveTo>
                <a:arcTo wR="276" hR="276" stAng="16200000" swAng="-5400000"/>
                <a:lnTo>
                  <a:pt x="0" y="102214"/>
                </a:lnTo>
                <a:arcTo wR="276" hR="276" stAng="10800000" swAng="-5400000"/>
                <a:lnTo>
                  <a:pt x="21324" y="102490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3deb3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370400" y="1790640"/>
            <a:ext cx="123840" cy="587520"/>
          </a:xfrm>
          <a:custGeom>
            <a:avLst/>
            <a:gdLst>
              <a:gd name="textAreaLeft" fmla="*/ 360 w 123840"/>
              <a:gd name="textAreaRight" fmla="*/ 123480 w 123840"/>
              <a:gd name="textAreaTop" fmla="*/ 360 h 587520"/>
              <a:gd name="textAreaBottom" fmla="*/ 587160 h 587520"/>
            </a:gdLst>
            <a:ahLst/>
            <a:rect l="textAreaLeft" t="textAreaTop" r="textAreaRight" b="textAreaBottom"/>
            <a:pathLst>
              <a:path w="21600" h="102240">
                <a:moveTo>
                  <a:pt x="276" y="0"/>
                </a:moveTo>
                <a:arcTo wR="276" hR="276" stAng="16200000" swAng="-5400000"/>
                <a:lnTo>
                  <a:pt x="0" y="101964"/>
                </a:lnTo>
                <a:arcTo wR="276" hR="276" stAng="10800000" swAng="-5400000"/>
                <a:lnTo>
                  <a:pt x="21324" y="102240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3deb3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6504120" y="4262400"/>
            <a:ext cx="123840" cy="606600"/>
          </a:xfrm>
          <a:custGeom>
            <a:avLst/>
            <a:gdLst>
              <a:gd name="textAreaLeft" fmla="*/ 360 w 123840"/>
              <a:gd name="textAreaRight" fmla="*/ 123480 w 123840"/>
              <a:gd name="textAreaTop" fmla="*/ 360 h 606600"/>
              <a:gd name="textAreaBottom" fmla="*/ 606240 h 606600"/>
            </a:gdLst>
            <a:ahLst/>
            <a:rect l="textAreaLeft" t="textAreaTop" r="textAreaRight" b="textAreaBottom"/>
            <a:pathLst>
              <a:path w="21600" h="105558">
                <a:moveTo>
                  <a:pt x="276" y="0"/>
                </a:moveTo>
                <a:arcTo wR="276" hR="276" stAng="16200000" swAng="-5400000"/>
                <a:lnTo>
                  <a:pt x="0" y="105282"/>
                </a:lnTo>
                <a:arcTo wR="276" hR="276" stAng="10800000" swAng="-5400000"/>
                <a:lnTo>
                  <a:pt x="21324" y="105558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6170760" y="4281480"/>
            <a:ext cx="123840" cy="587520"/>
          </a:xfrm>
          <a:custGeom>
            <a:avLst/>
            <a:gdLst>
              <a:gd name="textAreaLeft" fmla="*/ 360 w 123840"/>
              <a:gd name="textAreaRight" fmla="*/ 123480 w 123840"/>
              <a:gd name="textAreaTop" fmla="*/ 360 h 587520"/>
              <a:gd name="textAreaBottom" fmla="*/ 587160 h 587520"/>
            </a:gdLst>
            <a:ahLst/>
            <a:rect l="textAreaLeft" t="textAreaTop" r="textAreaRight" b="textAreaBottom"/>
            <a:pathLst>
              <a:path w="21600" h="102240">
                <a:moveTo>
                  <a:pt x="276" y="0"/>
                </a:moveTo>
                <a:arcTo wR="276" hR="276" stAng="16200000" swAng="-5400000"/>
                <a:lnTo>
                  <a:pt x="0" y="101964"/>
                </a:lnTo>
                <a:arcTo wR="276" hR="276" stAng="10800000" swAng="-5400000"/>
                <a:lnTo>
                  <a:pt x="21324" y="102240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770360" y="2538360"/>
            <a:ext cx="123840" cy="588960"/>
          </a:xfrm>
          <a:custGeom>
            <a:avLst/>
            <a:gdLst>
              <a:gd name="textAreaLeft" fmla="*/ 360 w 123840"/>
              <a:gd name="textAreaRight" fmla="*/ 123480 w 123840"/>
              <a:gd name="textAreaTop" fmla="*/ 360 h 588960"/>
              <a:gd name="textAreaBottom" fmla="*/ 588600 h 588960"/>
            </a:gdLst>
            <a:ahLst/>
            <a:rect l="textAreaLeft" t="textAreaTop" r="textAreaRight" b="textAreaBottom"/>
            <a:pathLst>
              <a:path w="21600" h="102490">
                <a:moveTo>
                  <a:pt x="276" y="0"/>
                </a:moveTo>
                <a:arcTo wR="276" hR="276" stAng="16200000" swAng="-5400000"/>
                <a:lnTo>
                  <a:pt x="0" y="102214"/>
                </a:lnTo>
                <a:arcTo wR="276" hR="276" stAng="10800000" swAng="-5400000"/>
                <a:lnTo>
                  <a:pt x="21324" y="102490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3deb3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379760" y="2502000"/>
            <a:ext cx="123840" cy="608040"/>
          </a:xfrm>
          <a:custGeom>
            <a:avLst/>
            <a:gdLst>
              <a:gd name="textAreaLeft" fmla="*/ 360 w 123840"/>
              <a:gd name="textAreaRight" fmla="*/ 123480 w 123840"/>
              <a:gd name="textAreaTop" fmla="*/ 360 h 608040"/>
              <a:gd name="textAreaBottom" fmla="*/ 607680 h 608040"/>
            </a:gdLst>
            <a:ahLst/>
            <a:rect l="textAreaLeft" t="textAreaTop" r="textAreaRight" b="textAreaBottom"/>
            <a:pathLst>
              <a:path w="21600" h="105809">
                <a:moveTo>
                  <a:pt x="276" y="0"/>
                </a:moveTo>
                <a:arcTo wR="276" hR="276" stAng="16200000" swAng="-5400000"/>
                <a:lnTo>
                  <a:pt x="0" y="105533"/>
                </a:lnTo>
                <a:arcTo wR="276" hR="276" stAng="10800000" swAng="-5400000"/>
                <a:lnTo>
                  <a:pt x="21324" y="105809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3deb3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952640" y="5300640"/>
            <a:ext cx="66600" cy="511200"/>
          </a:xfrm>
          <a:custGeom>
            <a:avLst/>
            <a:gdLst>
              <a:gd name="textAreaLeft" fmla="*/ 360 w 66600"/>
              <a:gd name="textAreaRight" fmla="*/ 66240 w 66600"/>
              <a:gd name="textAreaTop" fmla="*/ 360 h 511200"/>
              <a:gd name="textAreaBottom" fmla="*/ 510840 h 511200"/>
            </a:gdLst>
            <a:ahLst/>
            <a:rect l="textAreaLeft" t="textAreaTop" r="textAreaRight" b="textAreaBottom"/>
            <a:pathLst>
              <a:path w="21600" h="165019">
                <a:moveTo>
                  <a:pt x="514" y="0"/>
                </a:moveTo>
                <a:arcTo wR="514" hR="514" stAng="16200000" swAng="-5400000"/>
                <a:lnTo>
                  <a:pt x="0" y="164505"/>
                </a:lnTo>
                <a:arcTo wR="514" hR="514" stAng="10800000" swAng="-5400000"/>
                <a:lnTo>
                  <a:pt x="21086" y="165019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989000" y="2730600"/>
            <a:ext cx="68400" cy="509400"/>
          </a:xfrm>
          <a:custGeom>
            <a:avLst/>
            <a:gdLst>
              <a:gd name="textAreaLeft" fmla="*/ 360 w 68400"/>
              <a:gd name="textAreaRight" fmla="*/ 68040 w 68400"/>
              <a:gd name="textAreaTop" fmla="*/ 360 h 509400"/>
              <a:gd name="textAreaBottom" fmla="*/ 509040 h 509400"/>
            </a:gdLst>
            <a:ahLst/>
            <a:rect l="textAreaLeft" t="textAreaTop" r="textAreaRight" b="textAreaBottom"/>
            <a:pathLst>
              <a:path w="21600" h="160134">
                <a:moveTo>
                  <a:pt x="514" y="0"/>
                </a:moveTo>
                <a:arcTo wR="514" hR="514" stAng="16200000" swAng="-5400000"/>
                <a:lnTo>
                  <a:pt x="0" y="159620"/>
                </a:lnTo>
                <a:arcTo wR="514" hR="514" stAng="10800000" swAng="-5400000"/>
                <a:lnTo>
                  <a:pt x="21086" y="160134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34" idx="0"/>
          </p:cNvCxnSpPr>
          <p:nvPr/>
        </p:nvCxnSpPr>
        <p:spPr>
          <a:xfrm flipV="1">
            <a:off x="1986120" y="5001480"/>
            <a:ext cx="157680" cy="299160"/>
          </a:xfrm>
          <a:prstGeom prst="straightConnector1">
            <a:avLst/>
          </a:prstGeom>
          <a:ln w="36000">
            <a:solidFill>
              <a:srgbClr val="280099"/>
            </a:solidFill>
            <a:miter/>
          </a:ln>
        </p:spPr>
      </p:cxnSp>
      <p:cxnSp>
        <p:nvCxnSpPr>
          <p:cNvPr id="336" name=""/>
          <p:cNvCxnSpPr>
            <a:stCxn id="323" idx="2"/>
          </p:cNvCxnSpPr>
          <p:nvPr/>
        </p:nvCxnSpPr>
        <p:spPr>
          <a:xfrm>
            <a:off x="1995480" y="4771800"/>
            <a:ext cx="148320" cy="232200"/>
          </a:xfrm>
          <a:prstGeom prst="straightConnector1">
            <a:avLst/>
          </a:prstGeom>
          <a:ln w="36000">
            <a:solidFill>
              <a:srgbClr val="280099"/>
            </a:solidFill>
            <a:miter/>
          </a:ln>
        </p:spPr>
      </p:cxnSp>
      <p:cxnSp>
        <p:nvCxnSpPr>
          <p:cNvPr id="337" name=""/>
          <p:cNvCxnSpPr>
            <a:endCxn id="323" idx="0"/>
          </p:cNvCxnSpPr>
          <p:nvPr/>
        </p:nvCxnSpPr>
        <p:spPr>
          <a:xfrm flipH="1">
            <a:off x="1995120" y="3781440"/>
            <a:ext cx="234000" cy="480240"/>
          </a:xfrm>
          <a:prstGeom prst="straightConnector1">
            <a:avLst/>
          </a:prstGeom>
          <a:ln w="36000">
            <a:solidFill>
              <a:srgbClr val="280099"/>
            </a:solidFill>
            <a:miter/>
          </a:ln>
        </p:spPr>
      </p:cxnSp>
      <p:cxnSp>
        <p:nvCxnSpPr>
          <p:cNvPr id="338" name=""/>
          <p:cNvCxnSpPr>
            <a:stCxn id="326" idx="2"/>
          </p:cNvCxnSpPr>
          <p:nvPr/>
        </p:nvCxnSpPr>
        <p:spPr>
          <a:xfrm>
            <a:off x="2023920" y="3240000"/>
            <a:ext cx="207360" cy="540720"/>
          </a:xfrm>
          <a:prstGeom prst="straightConnector1">
            <a:avLst/>
          </a:prstGeom>
          <a:ln w="36000">
            <a:solidFill>
              <a:srgbClr val="280099"/>
            </a:solidFill>
            <a:miter/>
          </a:ln>
        </p:spPr>
      </p:cxnSp>
      <p:sp>
        <p:nvSpPr>
          <p:cNvPr id="339" name=""/>
          <p:cNvSpPr/>
          <p:nvPr/>
        </p:nvSpPr>
        <p:spPr>
          <a:xfrm>
            <a:off x="6818400" y="5205240"/>
            <a:ext cx="123840" cy="587520"/>
          </a:xfrm>
          <a:custGeom>
            <a:avLst/>
            <a:gdLst>
              <a:gd name="textAreaLeft" fmla="*/ 360 w 123840"/>
              <a:gd name="textAreaRight" fmla="*/ 123480 w 123840"/>
              <a:gd name="textAreaTop" fmla="*/ 360 h 587520"/>
              <a:gd name="textAreaBottom" fmla="*/ 587160 h 587520"/>
            </a:gdLst>
            <a:ahLst/>
            <a:rect l="textAreaLeft" t="textAreaTop" r="textAreaRight" b="textAreaBottom"/>
            <a:pathLst>
              <a:path w="21600" h="102240">
                <a:moveTo>
                  <a:pt x="276" y="0"/>
                </a:moveTo>
                <a:arcTo wR="276" hR="276" stAng="16200000" swAng="-5400000"/>
                <a:lnTo>
                  <a:pt x="0" y="101964"/>
                </a:lnTo>
                <a:arcTo wR="276" hR="276" stAng="10800000" swAng="-5400000"/>
                <a:lnTo>
                  <a:pt x="21324" y="102240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3960720" y="1800360"/>
            <a:ext cx="112680" cy="587160"/>
          </a:xfrm>
          <a:custGeom>
            <a:avLst/>
            <a:gdLst>
              <a:gd name="textAreaLeft" fmla="*/ 360 w 112680"/>
              <a:gd name="textAreaRight" fmla="*/ 112320 w 112680"/>
              <a:gd name="textAreaTop" fmla="*/ 360 h 587160"/>
              <a:gd name="textAreaBottom" fmla="*/ 586800 h 587160"/>
            </a:gdLst>
            <a:ahLst/>
            <a:rect l="textAreaLeft" t="textAreaTop" r="textAreaRight" b="textAreaBottom"/>
            <a:pathLst>
              <a:path w="21600" h="112265">
                <a:moveTo>
                  <a:pt x="308" y="0"/>
                </a:moveTo>
                <a:arcTo wR="308" hR="308" stAng="16200000" swAng="-5400000"/>
                <a:lnTo>
                  <a:pt x="0" y="111957"/>
                </a:lnTo>
                <a:arcTo wR="308" hR="308" stAng="10800000" swAng="-5400000"/>
                <a:lnTo>
                  <a:pt x="21292" y="112265"/>
                </a:lnTo>
                <a:arcTo wR="308" hR="308" stAng="5400000" swAng="-5400000"/>
                <a:lnTo>
                  <a:pt x="21600" y="308"/>
                </a:lnTo>
                <a:arcTo wR="308" hR="308" stAng="0" swAng="-5400000"/>
                <a:close/>
              </a:path>
            </a:pathLst>
          </a:custGeom>
          <a:solidFill>
            <a:srgbClr val="3deb3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436920" y="3559320"/>
            <a:ext cx="252432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 group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084720" y="3308400"/>
            <a:ext cx="274320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 group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 flipV="1">
            <a:off x="4437000" y="3232080"/>
            <a:ext cx="1800" cy="34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 flipH="1" flipV="1">
            <a:off x="4065120" y="3232080"/>
            <a:ext cx="171720" cy="34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 flipV="1">
            <a:off x="4627440" y="3300480"/>
            <a:ext cx="95400" cy="239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 flipH="1">
            <a:off x="6311880" y="3713040"/>
            <a:ext cx="125280" cy="355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 flipH="1">
            <a:off x="6608520" y="3743280"/>
            <a:ext cx="29880" cy="335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6885000" y="3800520"/>
            <a:ext cx="1440" cy="27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885960" y="6167520"/>
            <a:ext cx="885636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members in common between the two non-overlapping group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6807240" y="4273560"/>
            <a:ext cx="125280" cy="587520"/>
          </a:xfrm>
          <a:custGeom>
            <a:avLst/>
            <a:gdLst>
              <a:gd name="textAreaLeft" fmla="*/ 360 w 125280"/>
              <a:gd name="textAreaRight" fmla="*/ 124920 w 125280"/>
              <a:gd name="textAreaTop" fmla="*/ 360 h 587520"/>
              <a:gd name="textAreaBottom" fmla="*/ 587160 h 587520"/>
            </a:gdLst>
            <a:ahLst/>
            <a:rect l="textAreaLeft" t="textAreaTop" r="textAreaRight" b="textAreaBottom"/>
            <a:pathLst>
              <a:path w="21600" h="101068">
                <a:moveTo>
                  <a:pt x="276" y="0"/>
                </a:moveTo>
                <a:arcTo wR="276" hR="276" stAng="16200000" swAng="-5400000"/>
                <a:lnTo>
                  <a:pt x="0" y="100792"/>
                </a:lnTo>
                <a:arcTo wR="276" hR="276" stAng="10800000" swAng="-5400000"/>
                <a:lnTo>
                  <a:pt x="21324" y="101068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755280" y="671040"/>
            <a:ext cx="8572680" cy="67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1" i="1" lang="en-US" sz="4900" spc="-1" strike="noStrike">
                <a:solidFill>
                  <a:srgbClr val="000000"/>
                </a:solidFill>
                <a:latin typeface="Arial"/>
              </a:rPr>
              <a:t>Gene to split by protein groups?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3456000" y="7002360"/>
            <a:ext cx="326880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 group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770280" y="1673280"/>
            <a:ext cx="361008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 group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71360" y="4724280"/>
            <a:ext cx="127656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 group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5" name="" descr=""/>
          <p:cNvPicPr/>
          <p:nvPr/>
        </p:nvPicPr>
        <p:blipFill>
          <a:blip r:embed="rId1"/>
          <a:stretch/>
        </p:blipFill>
        <p:spPr>
          <a:xfrm>
            <a:off x="1704960" y="2241720"/>
            <a:ext cx="6691320" cy="4563720"/>
          </a:xfrm>
          <a:prstGeom prst="rect">
            <a:avLst/>
          </a:prstGeom>
          <a:ln w="0">
            <a:noFill/>
          </a:ln>
        </p:spPr>
      </p:pic>
      <p:sp>
        <p:nvSpPr>
          <p:cNvPr id="356" name=""/>
          <p:cNvSpPr/>
          <p:nvPr/>
        </p:nvSpPr>
        <p:spPr>
          <a:xfrm flipV="1">
            <a:off x="1257480" y="4245120"/>
            <a:ext cx="2135160" cy="785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3866760" y="2079720"/>
            <a:ext cx="415800" cy="420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 flipH="1" flipV="1">
            <a:off x="3895560" y="5773680"/>
            <a:ext cx="130320" cy="124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flipH="1" flipV="1">
            <a:off x="4210200" y="5744880"/>
            <a:ext cx="23760" cy="1238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 flipV="1">
            <a:off x="4427640" y="5824440"/>
            <a:ext cx="409320" cy="1139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 flipV="1">
            <a:off x="1285920" y="4005360"/>
            <a:ext cx="3246480" cy="117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 flipV="1">
            <a:off x="1362240" y="4408560"/>
            <a:ext cx="2941560" cy="852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H="1">
            <a:off x="4390560" y="2030400"/>
            <a:ext cx="149400" cy="22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 flipH="1">
            <a:off x="4579560" y="2097000"/>
            <a:ext cx="36360" cy="365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Confirming the correct structure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Evidence for a correct structure: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otein homology, transcript data,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ab initio predictions, mass-spec peptides, tiling array, trans-spliced leader sequence, strong splice sites, etc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n-US" sz="3100" spc="-1" strike="noStrike">
                <a:solidFill>
                  <a:srgbClr val="000000"/>
                </a:solidFill>
                <a:latin typeface="Arial"/>
              </a:rPr>
              <a:t>Evidence against a correct structur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Unmatched instances of the abov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Frameshifts in protein alignmen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Overlapping exon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Genes overlapping repeat region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675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Anomalous regions database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ve a database of problem reg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omal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=  conflicts with the curat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umption: problem areas that need the most curation will have more anomalies than other pla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9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054080" y="4925880"/>
            <a:ext cx="8485200" cy="115920"/>
          </a:xfrm>
          <a:prstGeom prst="roundRect">
            <a:avLst>
              <a:gd name="adj" fmla="val 1389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487840" y="4859280"/>
            <a:ext cx="28800" cy="250920"/>
          </a:xfrm>
          <a:custGeom>
            <a:avLst/>
            <a:gdLst>
              <a:gd name="textAreaLeft" fmla="*/ 360 w 28800"/>
              <a:gd name="textAreaRight" fmla="*/ 28440 w 288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6133">
                <a:moveTo>
                  <a:pt x="1200" y="0"/>
                </a:moveTo>
                <a:arcTo wR="1200" hR="1200" stAng="16200000" swAng="-5400000"/>
                <a:lnTo>
                  <a:pt x="0" y="184933"/>
                </a:lnTo>
                <a:arcTo wR="1200" hR="1200" stAng="10800000" swAng="-5400000"/>
                <a:lnTo>
                  <a:pt x="20400" y="186133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452920" y="4859280"/>
            <a:ext cx="28800" cy="250920"/>
          </a:xfrm>
          <a:custGeom>
            <a:avLst/>
            <a:gdLst>
              <a:gd name="textAreaLeft" fmla="*/ 360 w 28800"/>
              <a:gd name="textAreaRight" fmla="*/ 28440 w 288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6133">
                <a:moveTo>
                  <a:pt x="1200" y="0"/>
                </a:moveTo>
                <a:arcTo wR="1200" hR="1200" stAng="16200000" swAng="-5400000"/>
                <a:lnTo>
                  <a:pt x="0" y="184933"/>
                </a:lnTo>
                <a:arcTo wR="1200" hR="1200" stAng="10800000" swAng="-5400000"/>
                <a:lnTo>
                  <a:pt x="20400" y="186133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92420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602400" y="4859280"/>
            <a:ext cx="30240" cy="250920"/>
          </a:xfrm>
          <a:custGeom>
            <a:avLst/>
            <a:gdLst>
              <a:gd name="textAreaLeft" fmla="*/ 360 w 30240"/>
              <a:gd name="textAreaRight" fmla="*/ 29880 w 302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77374">
                <a:moveTo>
                  <a:pt x="1200" y="0"/>
                </a:moveTo>
                <a:arcTo wR="1200" hR="1200" stAng="16200000" swAng="-5400000"/>
                <a:lnTo>
                  <a:pt x="0" y="176174"/>
                </a:lnTo>
                <a:arcTo wR="1200" hR="1200" stAng="10800000" swAng="-5400000"/>
                <a:lnTo>
                  <a:pt x="20400" y="177374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30056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371840" y="4859280"/>
            <a:ext cx="28800" cy="250920"/>
          </a:xfrm>
          <a:custGeom>
            <a:avLst/>
            <a:gdLst>
              <a:gd name="textAreaLeft" fmla="*/ 360 w 28800"/>
              <a:gd name="textAreaRight" fmla="*/ 28440 w 288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6133">
                <a:moveTo>
                  <a:pt x="1200" y="0"/>
                </a:moveTo>
                <a:arcTo wR="1200" hR="1200" stAng="16200000" swAng="-5400000"/>
                <a:lnTo>
                  <a:pt x="0" y="184933"/>
                </a:lnTo>
                <a:arcTo wR="1200" hR="1200" stAng="10800000" swAng="-5400000"/>
                <a:lnTo>
                  <a:pt x="20400" y="186133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52456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63256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384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243480" y="4859280"/>
            <a:ext cx="30240" cy="250920"/>
          </a:xfrm>
          <a:custGeom>
            <a:avLst/>
            <a:gdLst>
              <a:gd name="textAreaLeft" fmla="*/ 360 w 30240"/>
              <a:gd name="textAreaRight" fmla="*/ 29880 w 302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77374">
                <a:moveTo>
                  <a:pt x="1200" y="0"/>
                </a:moveTo>
                <a:arcTo wR="1200" hR="1200" stAng="16200000" swAng="-5400000"/>
                <a:lnTo>
                  <a:pt x="0" y="176174"/>
                </a:lnTo>
                <a:arcTo wR="1200" hR="1200" stAng="10800000" swAng="-5400000"/>
                <a:lnTo>
                  <a:pt x="20400" y="177374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78928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594400" y="4859280"/>
            <a:ext cx="30240" cy="250920"/>
          </a:xfrm>
          <a:custGeom>
            <a:avLst/>
            <a:gdLst>
              <a:gd name="textAreaLeft" fmla="*/ 360 w 30240"/>
              <a:gd name="textAreaRight" fmla="*/ 29880 w 302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77374">
                <a:moveTo>
                  <a:pt x="1200" y="0"/>
                </a:moveTo>
                <a:arcTo wR="1200" hR="1200" stAng="16200000" swAng="-5400000"/>
                <a:lnTo>
                  <a:pt x="0" y="176174"/>
                </a:lnTo>
                <a:arcTo wR="1200" hR="1200" stAng="10800000" swAng="-5400000"/>
                <a:lnTo>
                  <a:pt x="20400" y="177374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562720" y="4859280"/>
            <a:ext cx="27000" cy="250920"/>
          </a:xfrm>
          <a:custGeom>
            <a:avLst/>
            <a:gdLst>
              <a:gd name="textAreaLeft" fmla="*/ 360 w 27000"/>
              <a:gd name="textAreaRight" fmla="*/ 26640 w 270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98379">
                <a:moveTo>
                  <a:pt x="1350" y="0"/>
                </a:moveTo>
                <a:arcTo wR="1350" hR="1350" stAng="16200000" swAng="-5400000"/>
                <a:lnTo>
                  <a:pt x="0" y="197029"/>
                </a:lnTo>
                <a:arcTo wR="1350" hR="1350" stAng="10800000" swAng="-5400000"/>
                <a:lnTo>
                  <a:pt x="20250" y="198379"/>
                </a:lnTo>
                <a:arcTo wR="1350" hR="1350" stAng="5400000" swAng="-5400000"/>
                <a:lnTo>
                  <a:pt x="21600" y="1350"/>
                </a:lnTo>
                <a:arcTo wR="1350" hR="135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336920" y="4859280"/>
            <a:ext cx="27000" cy="250920"/>
          </a:xfrm>
          <a:custGeom>
            <a:avLst/>
            <a:gdLst>
              <a:gd name="textAreaLeft" fmla="*/ 360 w 27000"/>
              <a:gd name="textAreaRight" fmla="*/ 26640 w 270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98379">
                <a:moveTo>
                  <a:pt x="1350" y="0"/>
                </a:moveTo>
                <a:arcTo wR="1350" hR="1350" stAng="16200000" swAng="-5400000"/>
                <a:lnTo>
                  <a:pt x="0" y="197029"/>
                </a:lnTo>
                <a:arcTo wR="1350" hR="1350" stAng="10800000" swAng="-5400000"/>
                <a:lnTo>
                  <a:pt x="20250" y="198379"/>
                </a:lnTo>
                <a:arcTo wR="1350" hR="1350" stAng="5400000" swAng="-5400000"/>
                <a:lnTo>
                  <a:pt x="21600" y="1350"/>
                </a:lnTo>
                <a:arcTo wR="1350" hR="135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562720" y="4859280"/>
            <a:ext cx="27000" cy="250920"/>
          </a:xfrm>
          <a:custGeom>
            <a:avLst/>
            <a:gdLst>
              <a:gd name="textAreaLeft" fmla="*/ 360 w 27000"/>
              <a:gd name="textAreaRight" fmla="*/ 26640 w 270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98379">
                <a:moveTo>
                  <a:pt x="1350" y="0"/>
                </a:moveTo>
                <a:arcTo wR="1350" hR="1350" stAng="16200000" swAng="-5400000"/>
                <a:lnTo>
                  <a:pt x="0" y="197029"/>
                </a:lnTo>
                <a:arcTo wR="1350" hR="1350" stAng="10800000" swAng="-5400000"/>
                <a:lnTo>
                  <a:pt x="20250" y="198379"/>
                </a:lnTo>
                <a:arcTo wR="1350" hR="1350" stAng="5400000" swAng="-5400000"/>
                <a:lnTo>
                  <a:pt x="21600" y="1350"/>
                </a:lnTo>
                <a:arcTo wR="1350" hR="135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64856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80128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284720" y="5916600"/>
            <a:ext cx="226836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blem are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 flipV="1">
            <a:off x="4390560" y="5190840"/>
            <a:ext cx="444600" cy="75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5351400" y="5162040"/>
            <a:ext cx="181080" cy="814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09600" y="5923080"/>
            <a:ext cx="170496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oma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1800360" y="5219280"/>
            <a:ext cx="114120" cy="70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1933560" y="5229360"/>
            <a:ext cx="762120" cy="69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095560" y="5160960"/>
            <a:ext cx="2104920" cy="766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Anomaly database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omalies that have been seen can be flagged to be ignored in fut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nomalies in a region are presented for inspectio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n mas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can track what has been seen and measure progr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9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Simple anomalies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tein homology unmatched by curated C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nmatched conserved coding reg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nmatched predicted exons (twinscan, jigsaw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hort exons (&lt; 30 bas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DS exons overlapping repeat reg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verlapping CDS ex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9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Unmatched anomalies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674720" y="1353960"/>
            <a:ext cx="6730920" cy="485172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16000" y="2556000"/>
            <a:ext cx="244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omal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584360" y="277164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03640" y="6804000"/>
            <a:ext cx="20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952720" y="6156360"/>
            <a:ext cx="14292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87280" y="1476360"/>
            <a:ext cx="302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1008000" y="1618920"/>
            <a:ext cx="2160720" cy="7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335640" y="6875640"/>
            <a:ext cx="20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tein h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 flipV="1">
            <a:off x="3887280" y="6012000"/>
            <a:ext cx="252108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4248000" y="6012000"/>
            <a:ext cx="223200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H="1" flipV="1">
            <a:off x="4535640" y="6012000"/>
            <a:ext cx="201744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H="1" flipV="1">
            <a:off x="6192720" y="5580000"/>
            <a:ext cx="43200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 flipV="1">
            <a:off x="6480000" y="5651280"/>
            <a:ext cx="216000" cy="115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6769080" y="5580000"/>
            <a:ext cx="14292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600360" y="1116000"/>
            <a:ext cx="15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winsc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3526920" y="1476360"/>
            <a:ext cx="28908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712360" y="1258920"/>
            <a:ext cx="115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lice si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8353080" y="1908000"/>
            <a:ext cx="43164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44280" y="2232000"/>
            <a:ext cx="9991800" cy="309564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Frameshift in exon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31640" y="6948360"/>
            <a:ext cx="244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omal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1079640" y="4284720"/>
            <a:ext cx="0" cy="273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368360" y="6227640"/>
            <a:ext cx="20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1655640" y="5435280"/>
            <a:ext cx="0" cy="86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24000" y="1258920"/>
            <a:ext cx="30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DS ex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800360" y="161928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335640" y="6804000"/>
            <a:ext cx="20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tein h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 flipV="1">
            <a:off x="3095280" y="5148000"/>
            <a:ext cx="3313080" cy="165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H="1" flipV="1">
            <a:off x="3744720" y="5003280"/>
            <a:ext cx="2734920" cy="180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H="1" flipV="1">
            <a:off x="4679640" y="5148000"/>
            <a:ext cx="1873080" cy="165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 flipV="1">
            <a:off x="6048000" y="4356000"/>
            <a:ext cx="576360" cy="24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6696000" y="4284720"/>
            <a:ext cx="144360" cy="25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6769080" y="4356000"/>
            <a:ext cx="934920" cy="24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240000" y="1619280"/>
            <a:ext cx="14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am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192720" y="1619280"/>
            <a:ext cx="158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am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8569440" y="1619280"/>
            <a:ext cx="12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am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w3</cp:lastModifiedBy>
  <dcterms:modified xsi:type="dcterms:W3CDTF">2008-09-08T14:56:06Z</dcterms:modified>
  <cp:revision>45</cp:revision>
  <dc:subject/>
  <dc:title>Curation Tools</dc:title>
</cp:coreProperties>
</file>