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CF8341-343B-4A08-9970-D7AC7F97C13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0BF96A-686D-4EDC-AF23-731204D6FFE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954ABE-2C2A-4184-B4E9-B59FC5AA6C4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1B2AA1-DE33-4B0A-AB96-D3D67C2AA18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4BF200-60EC-4A45-B102-84AE23E64FC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1AC835-36A9-46AD-A8D0-7A60A951A35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0D462C-77B1-426D-943D-14E8B0FC793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6DDB71-5446-4EA3-B1D7-0BFE3D9369C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6C4210-1337-4D39-8D1F-817C16A541A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C19543-BE80-4943-ACC3-C9C3600F1F3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BE7E20-70EE-4D3D-916F-56DC56AB946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95EAF1-8CA2-4676-8122-0B2D31890BA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46A66-1502-4B57-AFC2-3E1D702B2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EF0D5-D7BF-421F-B50C-4C14653D3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2B46A-2319-4D0C-A2AF-B8556C162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CEBBE-1DE9-4506-8A29-85C34C36D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8BE14-956B-463D-B94A-C15FC84CD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7246D-6EDA-408A-B2C5-FAAAFE14A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BD93D-CC5E-486F-ADCE-E694F831C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2845B-41DF-439B-AFEB-FD612D02E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C0460-849E-4C09-989A-63B0CFDD9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1CCE9-5C76-42EA-B4A7-7012F197E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C7454-9423-41D6-BE56-228281E38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C987B-6B29-4E7E-9B4C-413A643E4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002C-2F9F-4340-9105-532319009307}" type="datetime">
              <a:rPr b="1" lang="en-US" sz="1200" spc="-1" strike="noStrike">
                <a:solidFill>
                  <a:srgbClr val="898989"/>
                </a:solidFill>
                <a:latin typeface="Arial"/>
              </a:rPr>
              <a:t>07/31/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8964-522E-4778-B2E5-6A2D4F8F7AF7}"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