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DC0C4AF-1936-4242-9ECF-AA2BAD23332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F77D20F-7E8B-4DBF-9833-F0EB1F8CF9D0}"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4B03852-CBE9-4B42-8C56-15E0021212C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10A9521-F092-4D97-AB76-3396E3DF86F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B735F8B-A71E-4737-8337-F986C357F7B0}"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9F567E6-F109-4F2B-8DC1-9A0874E4DF5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F499DF-9BF0-446F-A970-045C9BADC6F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5132A2C-186F-4A89-A88A-34682C1D9AA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CD8668B-BD87-42D6-9C53-D6B6AC77F21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F78FD6-D8C7-4855-ACBE-C052CB17BC8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95F6FBD-3205-4D91-A976-6B7D7589D43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10EECFC-AF86-4015-9105-CAC337EE687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72E30-D035-481A-952A-A1A03E4FEA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445F8-F88C-428E-A60B-5032568A3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F6F7D-77FA-47DB-9061-33EF537F68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ACCC28-9DDD-4202-B1BC-F8FD4DADE4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713DA-B5E4-4150-971E-ACC38AB0D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7A302-E47A-491E-BB0D-1C143E360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2E453-1A68-480C-97FE-8751DA76F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6EC2B-0AC9-4918-90B2-041A94AA0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5BB95-F7DC-4D38-84B9-92F97B16B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536E7-193A-472E-ABD5-60F73439D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91F3E-0A90-4F72-90C9-86C447B63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6E61C-9DA1-4744-82C9-CF68866014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C6CE3-E9A9-4597-AEFD-E266B9193921}" type="datetime">
              <a:rPr b="1" lang="en-US" sz="1200" spc="-1" strike="noStrike">
                <a:solidFill>
                  <a:srgbClr val="898989"/>
                </a:solidFill>
                <a:latin typeface="Arial"/>
              </a:rPr>
              <a:t>07/29/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CA652-0BB0-491F-9EEE-DC25312BB1D5}"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