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C8131E-A71C-44A7-8839-079272BFA7F3}"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28B5F5C-E537-421D-B62F-34F1B9E2736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8BBA6C-0A90-4B11-82C2-B1DA42A9E7E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5EF4ACA-B471-4305-839F-D0D3F1EB2F4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7743F14-2B26-45D2-AEA1-4112DAC3695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0412547-3D56-4FBF-A80C-7CCBB35CC29E}"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006C8D-4A08-4F00-9F66-791A5419D5B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A5A55A-5170-4D52-8ED3-5F465B3A2DE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E713E2-01C8-4906-BA9E-47BF3DE2121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9B24C6-B05D-4A62-9E9C-6149E85CF96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58F1F12-1615-42F9-BE3A-5D84BAA501C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C006D9-04A5-413D-AD07-13BD3F288A1E}"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848A8-16D1-4FE6-8DD6-8C1CAE9351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0854E-8C95-4ABE-99AE-0BA0C225C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E802BB-8B9F-469D-92F7-DF3694B2B7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29B252-50E4-42C1-9EE3-403FB29B5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E0547-8957-459B-B16B-9190A4D72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F6802-D08B-48C9-9FCF-C0719657C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A432E-85D1-4718-AB6D-338D1225C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FE019-58BB-4B51-AF9E-DA8CEAE40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F8E90-2D31-4CED-B3BB-969098D10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36915-2365-4F04-9BC3-0C77CD5AE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BBC46-4686-44F8-9EA5-66ACFCDCA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B352E-E67D-415E-A52B-41050EA436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A39AE-C3DF-4AAA-B3CD-51B927BBE659}" type="datetime">
              <a:rPr b="1" lang="en-US" sz="1200" spc="-1" strike="noStrike">
                <a:solidFill>
                  <a:srgbClr val="898989"/>
                </a:solidFill>
                <a:latin typeface="Arial"/>
              </a:rPr>
              <a:t>07/29/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9D279-39C4-46C2-B566-3F5693393BF7}"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