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7F6FC8-DC29-40A4-8079-4FCBDFDCD85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6D4097-39DB-46EA-BB3C-EC68D59F5B4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FFA148-4553-4E0B-BDC9-5161B110549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64593A-FE18-491A-B852-A70D9D5536E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90CACB-7BAC-458E-BA59-A5637CF32D6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2CD2F5-2FB3-445B-92D1-8E23141C2F4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9CC8DE-BFA7-4E26-8D39-F8D8BDAD40B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8E9118-414A-4B2D-AA93-BDFC8212E1C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63F7BC-DE63-4A3A-8119-D0B5F727CC1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5D5CE5-1914-4CC6-BD8E-4F17953730D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41E5FF-7935-49FB-9FF3-71DE9A3EE39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A7FC42-2625-464B-A7CF-A96623B6E94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C9567-E164-41BB-AF00-CA4DC67C5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2209C-1F1F-4FF2-A1AF-6B7B3B68C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9B9DB-6675-486B-B068-0FD7E5E1C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E24A8-EB2D-4BA9-A53B-F9948BFA3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1F4FC-BA7E-43C7-BCEA-2934A5458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D94DB-D9B7-49A5-965F-F50E06E43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353F7-ACB8-49AA-A9B3-976419257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4F149-8C38-4FF5-A39D-DA2BB2828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63110-1E32-4460-B643-149523F67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08FC5-A551-4861-BA1B-251C95DFB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6E311-4231-46C2-BDFF-A6C9ECA2A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19055-C2A9-4017-8B67-CBBB9FD96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C097-8111-48BB-8CFB-2F0807030966}" type="datetime">
              <a:rPr b="1" lang="en-US" sz="1200" spc="-1" strike="noStrike">
                <a:solidFill>
                  <a:srgbClr val="898989"/>
                </a:solidFill>
                <a:latin typeface="Arial"/>
              </a:rPr>
              <a:t>07/30/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57F8-6709-467F-AC7D-165C4065EA7C}"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