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65B8-6CE1-4BCE-9154-D83220B28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F397-FDB6-4773-886B-02FE73574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6E73-128D-417A-A584-9DBC6B87B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87C8-C911-40D8-A7CD-44AB06A68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BBED-A887-4A47-AB9B-FEA862569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0F97-E213-4686-A62D-04A5ED56E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6562-2E3C-408D-8FB8-CADD5FF24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1B0A-A448-44F5-8124-5D3204309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CDA0-0465-4E5F-88E5-A2B3B2534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3A8A-3B5B-4F39-85F4-5FFD1C657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2011-3912-42CA-BA28-977A2E57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64B3-87F1-424E-AFC3-D7DF4E0C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C1ACF-1CF6-472C-AC11-446F862AE0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cmd line functio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t fil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support libs (http, socke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 (blixem ??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le tools (java is best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” interconnecting programs are bes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tion of functions (Apollo editor + IGB graphics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“view” protocols, common edit protoco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lay this reg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his featur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6:36:04Z</dcterms:created>
  <dc:creator>Genome Research</dc:creator>
  <dc:description/>
  <dc:language>en-US</dc:language>
  <cp:lastModifiedBy>Genome Research</cp:lastModifiedBy>
  <dcterms:modified xsi:type="dcterms:W3CDTF">2008-09-10T08:25:11Z</dcterms:modified>
  <cp:revision>6</cp:revision>
  <dc:subject/>
  <dc:title>Interclient Communication</dc:title>
</cp:coreProperties>
</file>