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C708A2-78C9-484A-A1DF-A012EEA0A18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656984-DE70-4BA3-867B-8AB1DE04D76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119934-0B68-47AB-8AFF-A8205FB6B49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64CD5C-4871-4412-8F57-8EF082A2C5C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8B3D2B-F6C7-44A8-A406-41A79372C7C0}"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5227C5-51B1-4507-9CA1-3BA7D0B7B20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2A2AF1-3D15-4411-8D84-2D2399F840C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B9C010-4582-4173-8DF8-F4A80B9552B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63BAAA-6655-47B9-971D-E58322CA252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56AAC5-1EA2-452E-B245-65054673E80B}"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2A0A6C-48DF-4E86-BA3B-AD029AA0833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91A0B6-49A7-4ECC-BA61-073A0A006E9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F2EE2-EFFB-4F27-A82D-D00A36616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28F39-70F8-4C90-B2EA-6FCF2242A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D3E34-3407-436E-A17F-4F7DDC423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E7BC6-F505-433F-BFE2-B44248289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D0979-A4E1-4B41-9434-201648FE1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FB3D0-6C58-4088-99C2-47AA869FE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1288D-973A-4E5A-9692-CC279E59F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46801-5AF8-49EA-99F3-45C49D1C9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B1294-0C33-4CFA-80BD-7226C8819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B531A-4839-424D-B9EC-96293C235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DF5B-56F1-49CE-9698-CE5B8CE83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95391-C5D1-4FFA-9981-E9C8CB4D7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1CC6-93A7-453B-B848-214989F3784E}" type="datetime">
              <a:rPr b="1" lang="en-US" sz="1200" spc="-1" strike="noStrike">
                <a:solidFill>
                  <a:srgbClr val="898989"/>
                </a:solidFill>
                <a:latin typeface="Arial"/>
              </a:rPr>
              <a:t>07/28/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EB55-9DBE-45A1-B058-2EF497707E33}"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