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A82ACF-12CF-4A97-81EB-804092E1FD6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C7D7B1-86B7-4D15-A4FB-31CFD3BBEB3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BFF69E-3FF2-4C25-80DC-06C2E631AEB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18ABAE-0C58-4C49-BCCB-389A80A4093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31BF32-C90D-436D-A07C-4C74284598B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95E8E5-0B54-493B-BC24-1F990AEF7B7A}"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DC4496-FA9A-4F2E-BFD7-5A36DF3F4E15}"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A21609-48EE-4939-AC60-6907FB1BB46E}"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2D946D-84AC-4C72-9458-63B235CD8CB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7F1A85-8891-4CE7-B25D-7B8F1301118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9D06C4-C1AA-4363-9C58-01D6DD0BDC68}"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368528-7128-4919-A128-60CD91CEA11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A15B4-AABF-4D0E-B592-5BE2CD7BB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56A9C-03E4-4924-8B7E-A6F9965D7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A2DB7-A30F-4079-91D2-E1A885EAC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C9C2B-76EF-4E99-8149-250546A57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644D8-FCA6-41EA-922E-A8F0857FA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3D72C-9156-4513-B9AC-0998D3207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433F3-E293-4CC1-BE9B-548140034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35EF9-2236-47B0-A35D-1ECC56C05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9921D-800A-4868-8EDA-73BF3611F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B3E1C-1919-4C4E-8F28-185C468DD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E622-6FCE-4730-B582-F6B2692CC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2FAC-17FD-414E-9EC6-277A8CDDC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9B3C7-8332-4604-95C4-A5505E4E808A}" type="datetime">
              <a:rPr b="1" lang="en-US" sz="1200" spc="-1" strike="noStrike">
                <a:solidFill>
                  <a:srgbClr val="898989"/>
                </a:solidFill>
                <a:latin typeface="Arial"/>
              </a:rPr>
              <a:t>07/28/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D12C0-8937-4BB2-814E-26F2E35DFE6D}"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