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7AAB-50FB-4D92-975B-26F3370DF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0F84-003D-4F32-9468-A38BD81BB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82AA-F552-4B37-9445-A7D3F8873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11DD-392C-4977-BAD5-E39A00AA3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1814-C58E-4D10-9902-C9AB85233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867F-8023-4F6C-9FDB-499E3CC38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698F-BC4D-4E41-A977-63C3471CC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9E2E-64AB-4A53-B56F-24B4537F4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8533-5EE2-4633-BD93-7450C1968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1DCD-957C-4B69-9CF6-BAB383AD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6F74-334F-4385-8425-4789629F5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165F-E2A5-40C0-821A-FC7FAA1F8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D34D2-0574-40F5-B8FE-18C6411628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cedb and other thing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 Griffiths &amp; Rob Cl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ZMap client, like a Web Browse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rup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independent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ing arbitrary numbers of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h, blah, 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s thread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use thread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sons for using threa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multiple cpu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overlapp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chitecture/Encaps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 inter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actors for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UI must be respo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rvers may take some time to send data, data will take some time to read/convert for dra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lib is not thre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lls/subroutines for contacting servers are thread safe, e.g. system socket calls, Libcurl, expat, glib and other li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ggests a natural split into “GUI” vs. “server handling”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8000" y="1197000"/>
            <a:ext cx="7996320" cy="4319640"/>
          </a:xfrm>
          <a:custGeom>
            <a:avLst/>
            <a:gdLst/>
            <a:ahLst/>
            <a:rect l="l" t="t" r="r" b="b"/>
            <a:pathLst>
              <a:path w="5037" h="2721">
                <a:moveTo>
                  <a:pt x="0" y="635"/>
                </a:moveTo>
                <a:lnTo>
                  <a:pt x="0" y="1996"/>
                </a:lnTo>
                <a:lnTo>
                  <a:pt x="1633" y="1996"/>
                </a:lnTo>
                <a:lnTo>
                  <a:pt x="2585" y="2721"/>
                </a:lnTo>
                <a:lnTo>
                  <a:pt x="3538" y="2721"/>
                </a:lnTo>
                <a:lnTo>
                  <a:pt x="3538" y="2313"/>
                </a:lnTo>
                <a:lnTo>
                  <a:pt x="4944" y="2313"/>
                </a:lnTo>
                <a:lnTo>
                  <a:pt x="4944" y="1678"/>
                </a:lnTo>
                <a:lnTo>
                  <a:pt x="3538" y="1678"/>
                </a:lnTo>
                <a:lnTo>
                  <a:pt x="3538" y="635"/>
                </a:lnTo>
                <a:lnTo>
                  <a:pt x="3540" y="616"/>
                </a:lnTo>
                <a:lnTo>
                  <a:pt x="5037" y="622"/>
                </a:lnTo>
                <a:lnTo>
                  <a:pt x="5035" y="0"/>
                </a:lnTo>
                <a:lnTo>
                  <a:pt x="2449" y="0"/>
                </a:lnTo>
                <a:lnTo>
                  <a:pt x="1727" y="641"/>
                </a:lnTo>
                <a:lnTo>
                  <a:pt x="0" y="635"/>
                </a:lnTo>
                <a:close/>
              </a:path>
            </a:pathLst>
          </a:custGeom>
          <a:noFill/>
          <a:ln w="1260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Th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1916280"/>
            <a:ext cx="1584000" cy="3241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27640" y="1916280"/>
            <a:ext cx="3529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27640" y="3933720"/>
            <a:ext cx="1800000" cy="1079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96360" y="3933720"/>
            <a:ext cx="1152360" cy="104292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557360"/>
            <a:ext cx="7805880" cy="3959280"/>
          </a:xfrm>
          <a:custGeom>
            <a:avLst/>
            <a:gdLst/>
            <a:ahLst/>
            <a:rect l="l" t="t" r="r" b="b"/>
            <a:pathLst>
              <a:path w="4917" h="2494">
                <a:moveTo>
                  <a:pt x="0" y="0"/>
                </a:moveTo>
                <a:lnTo>
                  <a:pt x="0" y="2494"/>
                </a:lnTo>
                <a:lnTo>
                  <a:pt x="1406" y="2494"/>
                </a:lnTo>
                <a:lnTo>
                  <a:pt x="1406" y="1088"/>
                </a:lnTo>
                <a:lnTo>
                  <a:pt x="4899" y="1088"/>
                </a:lnTo>
                <a:lnTo>
                  <a:pt x="4917" y="1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40360" y="3716280"/>
            <a:ext cx="2376360" cy="1584360"/>
          </a:xfrm>
          <a:custGeom>
            <a:avLst/>
            <a:gdLst/>
            <a:ahLst/>
            <a:rect l="l" t="t" r="r" b="b"/>
            <a:pathLst>
              <a:path w="1497" h="998">
                <a:moveTo>
                  <a:pt x="0" y="0"/>
                </a:moveTo>
                <a:lnTo>
                  <a:pt x="0" y="998"/>
                </a:lnTo>
                <a:lnTo>
                  <a:pt x="1497" y="998"/>
                </a:lnTo>
                <a:lnTo>
                  <a:pt x="1497" y="0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2205000"/>
            <a:ext cx="1800360" cy="485640"/>
          </a:xfrm>
          <a:prstGeom prst="leftRightArrow">
            <a:avLst>
              <a:gd name="adj1" fmla="val 50000"/>
              <a:gd name="adj2" fmla="val 738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84360" y="4221000"/>
            <a:ext cx="1800360" cy="486000"/>
          </a:xfrm>
          <a:prstGeom prst="leftRightArrow">
            <a:avLst>
              <a:gd name="adj1" fmla="val 50000"/>
              <a:gd name="adj2" fmla="val 737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72360" y="4221000"/>
            <a:ext cx="1150920" cy="486000"/>
          </a:xfrm>
          <a:prstGeom prst="leftRightArrow">
            <a:avLst>
              <a:gd name="adj1" fmla="val 50000"/>
              <a:gd name="adj2" fmla="val 471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even more detai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916280"/>
            <a:ext cx="1295280" cy="2592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lib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op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1773360"/>
            <a:ext cx="1224000" cy="1296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43640" y="1844640"/>
            <a:ext cx="1655640" cy="1152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84360" y="4437000"/>
            <a:ext cx="914400" cy="1657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960800"/>
            <a:ext cx="21607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4960800"/>
            <a:ext cx="91440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d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9640" y="2205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88000" y="2179800"/>
            <a:ext cx="1265040" cy="485640"/>
          </a:xfrm>
          <a:prstGeom prst="rightArrow">
            <a:avLst>
              <a:gd name="adj1" fmla="val 50000"/>
              <a:gd name="adj2" fmla="val 651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833400" y="4790880"/>
            <a:ext cx="852480" cy="719280"/>
          </a:xfrm>
          <a:custGeom>
            <a:avLst/>
            <a:gdLst>
              <a:gd name="textAreaLeft" fmla="*/ 284040 w 852480"/>
              <a:gd name="textAreaRight" fmla="*/ 730440 w 852480"/>
              <a:gd name="textAreaTop" fmla="*/ 414360 h 719280"/>
              <a:gd name="textAreaBottom" fmla="*/ 61632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7526000">
            <a:off x="2988360" y="3499560"/>
            <a:ext cx="719280" cy="486000"/>
          </a:xfrm>
          <a:prstGeom prst="rightArrow">
            <a:avLst>
              <a:gd name="adj1" fmla="val 50000"/>
              <a:gd name="adj2" fmla="val 37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9236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20240" y="270828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5320" y="56088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p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27240" y="4365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Check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81800" y="364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30040" y="16477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D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gs to rememb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your program with –pthreads so you get the thread safe versions of the system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the non-standard libraries you want to use with –pthreads (like my own acedb server connection package…sig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out for glib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stand back and light the blue touch pap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 have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-threaded Z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an arbitrary number of threads associated with it, i.e. can contact an arbitrary number of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the usual “stop”/”reload” but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otype runs against multiple acedb servers, soon to include DAS 2 ser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Rob is working on the drawing but that’s another talk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Worm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Hav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other Sanger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new stuf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 is us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entral repository for worm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ool for “putting it all togeth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of the main annot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3500280"/>
            <a:ext cx="609480" cy="60984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it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1628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2708280"/>
            <a:ext cx="914400" cy="60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3860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58920" y="5084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1628640"/>
            <a:ext cx="914400" cy="6098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08720" y="443700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5373720"/>
            <a:ext cx="914400" cy="68580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27280" y="2349360"/>
            <a:ext cx="649440" cy="1008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340000" y="4221000"/>
            <a:ext cx="936720" cy="1152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050920" y="3933720"/>
            <a:ext cx="108108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2997360"/>
            <a:ext cx="108108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851280" y="2276280"/>
            <a:ext cx="1081080" cy="10810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3933720"/>
            <a:ext cx="2881080" cy="7905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5640" y="4221000"/>
            <a:ext cx="1584360" cy="1440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4360" y="234936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067280" y="2781360"/>
            <a:ext cx="2881080" cy="792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80360" y="3429000"/>
            <a:ext cx="914400" cy="60948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11640" y="3789360"/>
            <a:ext cx="295272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00720" y="2744640"/>
            <a:ext cx="1800000" cy="1401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93080" y="170028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ix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93080" y="400536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43280" y="2817720"/>
            <a:ext cx="914400" cy="1257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2421000"/>
            <a:ext cx="914400" cy="204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59280" y="5229360"/>
            <a:ext cx="1942920" cy="1295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/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19280" y="3203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320364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9477200">
            <a:off x="6443280" y="270792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2131200">
            <a:off x="6300360" y="400536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2234600">
            <a:off x="1692000" y="4724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5516600">
            <a:off x="3104280" y="4303800"/>
            <a:ext cx="792360" cy="485640"/>
          </a:xfrm>
          <a:prstGeom prst="rightArrow">
            <a:avLst>
              <a:gd name="adj1" fmla="val 48694"/>
              <a:gd name="adj2" fmla="val 6007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7613000">
            <a:off x="4874400" y="4402800"/>
            <a:ext cx="750960" cy="486000"/>
          </a:xfrm>
          <a:prstGeom prst="rightArrow">
            <a:avLst>
              <a:gd name="adj1" fmla="val 47435"/>
              <a:gd name="adj2" fmla="val 6775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us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’ve run out of memory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you just make SMap do this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would be nice if FMap could…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, start smoking today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tuf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otation, annotation, annota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Map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haps most used component of ace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 annotation tool for many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grated with blixem/dotter/genefinder and of course the underlying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is tied to Aced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Map aim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 client/server version of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n annotation client that is not tied to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generally supported data format such as DAS 2, Otter or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intain the good bits of FMap but junk some of the irritating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09:56:09Z</dcterms:created>
  <dc:creator>Griffiths</dc:creator>
  <dc:description/>
  <dc:language>en-US</dc:language>
  <cp:lastModifiedBy>Griffiths</cp:lastModifiedBy>
  <dcterms:modified xsi:type="dcterms:W3CDTF">2004-03-16T10:41:06Z</dcterms:modified>
  <cp:revision>34</cp:revision>
  <dc:subject/>
  <dc:title>Acedb – SMap, GFF(2/3), ZMap, DAS 2….</dc:title>
</cp:coreProperties>
</file>