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0DF978-4900-4DF4-A1D7-B48E563072D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B1A316-21A4-4FC4-9172-68C932D63BE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487D83-1D3D-4DED-863E-B680189A3D3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9093D0-F9CD-484D-8B1F-2F5D3D2746C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CA70C2-9F72-4067-B995-3A67C828D76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D7989B8-D235-4917-A984-4FB0F95F86F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6354FF-5F40-4707-9FE8-2AB06711BE7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7665F2-184F-4E07-B4AF-BC00E0204BB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4DD6D0-E32D-4780-9D90-91E2519C8A9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FF56DC-06C2-4FD8-A112-26E6E29E4D9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7C9C56-1005-45B8-A2AF-85A27822159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EC9999-3ED1-4D3A-85BC-12EA648172A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4E0B07-7047-48A7-A492-C9251A0554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F6960-CFD2-44AF-9F41-C00F5D1E2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8CC2A-3AED-4ED5-81A8-81FCF37FA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FDBE3-5036-44FE-9FF9-310AEFD34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18D41-5554-44D0-8240-2FF748CD5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404EB-4923-479B-8495-10FEDF412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1DDE7-C3F8-4C45-BE22-0A7137E31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38E71-9145-4019-9353-94166E881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E055E-1542-468C-A324-77CCC9B6D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6CC13-AFDA-40BA-A103-23A2B22CD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EE375-53BD-4456-8368-FD67E1BA3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824A3-FF1E-43DC-841C-49EA60127E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6FF33-DDCB-4D4C-BB42-D75E1A3FF956}" type="datetime">
              <a:rPr b="1" lang="en-US" sz="1200" spc="-1" strike="noStrike">
                <a:solidFill>
                  <a:srgbClr val="898989"/>
                </a:solidFill>
                <a:latin typeface="Arial"/>
              </a:rPr>
              <a:t>07/30/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AA0E1-C41E-4404-A488-8BF933569C19}"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