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01D96-AA51-4158-ABDC-3538B648CC8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98EB4-6E79-4E48-A4F9-768C6BF3379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16764-7888-45E4-AD2A-EF833D0DED3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27E73-01EE-4094-8E76-A98320A16A6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D766E-EA1C-48A4-98C9-6ED56C1D57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D0009-8691-4C47-9A2B-414E2F380DD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919AC-AC4B-499C-A4F7-93B831F6E45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E9E82-A1D6-42D2-9B08-5F8A98BA952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51388-E65C-4B34-B4D9-504F066FC28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C1929-F62D-441A-81EA-B9575646ED9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5B52B-0256-4910-9373-B2A651EB865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994E0-C9D5-4BCA-86E4-15BBF4AD823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07ECF-C220-4A3A-AE72-D6F830C7A3C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DF95C-AB60-4830-97FA-70573519F3C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898D9-82DC-400A-8BDE-181C0D0EA7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36FA5-61A7-4718-BD14-F95017390B8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C4AC3-3ECE-491E-84D0-FECE3D75022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A4496-8927-4314-BF65-94B6850368F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5A49A-A4FB-4C19-A56E-5EEDBA40336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E9E6B-F4D8-4FC8-8DFC-8EB1E9C7FFD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A5427-A604-4A70-A0C9-799D6F8FC77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C7A90-EC5A-47C6-B903-70E2D961717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BB175-0DDB-42FD-93E4-432CCB3DB46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B3967-236A-45A3-A90B-DE881CC2085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25600" indent="0" algn="ctr"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39243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000"/>
          </a:bodyPr>
          <a:p>
            <a:pPr marL="4160880" indent="0" algn="ctr">
              <a:spcBef>
                <a:spcPts val="201"/>
              </a:spcBef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5562720" y="5499000"/>
            <a:ext cx="3606840" cy="1054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543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828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25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5640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543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828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25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5640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057720" y="2158920"/>
            <a:ext cx="311148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6000"/>
          </a:bodyPr>
          <a:p>
            <a:pPr marL="38952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2424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8506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07676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206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24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651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082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7734240" y="603252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266760" indent="0">
              <a:lnSpc>
                <a:spcPct val="133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1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2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3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4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5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6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2"/>
          <a:stretch/>
        </p:blipFill>
        <p:spPr>
          <a:xfrm>
            <a:off x="7124760" y="662940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body"/>
          </p:nvPr>
        </p:nvSpPr>
        <p:spPr>
          <a:xfrm>
            <a:off x="990360" y="990360"/>
            <a:ext cx="8178840" cy="563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56088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6688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6172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45656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206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24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651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082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7124760" y="662940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7960" y="101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1"/>
          </p:nvPr>
        </p:nvSpPr>
        <p:spPr>
          <a:xfrm>
            <a:off x="8310600" y="693864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024ED-65E4-4C23-BDDD-EDFF735C84C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7960" y="101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2"/>
          </p:nvPr>
        </p:nvSpPr>
        <p:spPr>
          <a:xfrm>
            <a:off x="8310600" y="693864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B711B-AC82-4A2B-98E8-19A9F35782A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66816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0548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33164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708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9512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95120" indent="-4266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95120" indent="-4266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44600" y="1104840"/>
            <a:ext cx="4635360" cy="25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44600" y="3746160"/>
            <a:ext cx="463536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grg@sanger.ac.uk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61760" y="711000"/>
            <a:ext cx="8623080" cy="253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The otterlace / Zmap annotation system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29760" y="3594240"/>
            <a:ext cx="4305240" cy="15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James Gilber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jgrg@sanger.ac.u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8" name=""/>
          <p:cNvSpPr/>
          <p:nvPr/>
        </p:nvSpPr>
        <p:spPr>
          <a:xfrm>
            <a:off x="4876920" y="3594240"/>
            <a:ext cx="4800600" cy="15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Ed Griffith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Monaco"/>
                <a:ea typeface="Monaco"/>
                <a:hlinkClick r:id="rId1"/>
              </a:rPr>
              <a:t>edgrif@sanger.ac.u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</a:rPr>
              <a:t>Data concerns</a:t>
            </a:r>
            <a:endParaRPr b="0" lang="en-US" sz="48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799920" y="1942920"/>
            <a:ext cx="8559720" cy="468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5000"/>
          </a:bodyPr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enome assembly vers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-map between assemblies using Ensembl projection AP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annot interrogate DAS sources for assembly vers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too much data to present to the annotato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one based analysis pipeline has disadvantag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 not have smart filtering method (retained introns win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ynamic loading of subsets of the dat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Software Concerns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/Tk moribun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used by otterlace, replacing would be costl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tk Canvas choic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Zmap uses Foocan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tk will (eventually) choose a generic can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MVC mode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Will not need to deal with 32k viewport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ll be an expensive replacement to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demo here?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omponents of</a:t>
            </a:r>
            <a:br>
              <a:rPr sz="6400"/>
            </a:b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otterlace system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 – Ensembl database of manual gene annotations from the HAVANA group (otter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/Tk – control and editin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 – acedb local database storage (lac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/Gtk – Zmap feature displa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6520" y="228600"/>
            <a:ext cx="4280040" cy="10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Data flow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5486400" y="228600"/>
            <a:ext cx="1433520" cy="1293840"/>
            <a:chOff x="5486400" y="228600"/>
            <a:chExt cx="1433520" cy="1293840"/>
          </a:xfrm>
        </p:grpSpPr>
        <p:sp>
          <p:nvSpPr>
            <p:cNvPr id="583" name=""/>
            <p:cNvSpPr/>
            <p:nvPr/>
          </p:nvSpPr>
          <p:spPr>
            <a:xfrm>
              <a:off x="5486400" y="2286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486400" y="4316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5774760" y="825480"/>
            <a:ext cx="86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ced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558720" y="3416400"/>
            <a:ext cx="1433520" cy="1293840"/>
            <a:chOff x="558720" y="3416400"/>
            <a:chExt cx="1433520" cy="1293840"/>
          </a:xfrm>
        </p:grpSpPr>
        <p:sp>
          <p:nvSpPr>
            <p:cNvPr id="587" name=""/>
            <p:cNvSpPr/>
            <p:nvPr/>
          </p:nvSpPr>
          <p:spPr>
            <a:xfrm>
              <a:off x="558720" y="34164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58720" y="36194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665280" y="3835440"/>
            <a:ext cx="1229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nsem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pipelin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0" name=""/>
          <p:cNvSpPr/>
          <p:nvPr/>
        </p:nvSpPr>
        <p:spPr>
          <a:xfrm>
            <a:off x="3378240" y="4737240"/>
            <a:ext cx="1270080" cy="126972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"/>
          <p:cNvSpPr/>
          <p:nvPr/>
        </p:nvSpPr>
        <p:spPr>
          <a:xfrm>
            <a:off x="3504240" y="4978440"/>
            <a:ext cx="1037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pach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cript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558720" y="5041800"/>
            <a:ext cx="1433520" cy="1293840"/>
            <a:chOff x="558720" y="5041800"/>
            <a:chExt cx="1433520" cy="1293840"/>
          </a:xfrm>
        </p:grpSpPr>
        <p:sp>
          <p:nvSpPr>
            <p:cNvPr id="593" name=""/>
            <p:cNvSpPr/>
            <p:nvPr/>
          </p:nvSpPr>
          <p:spPr>
            <a:xfrm>
              <a:off x="558720" y="50418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58720" y="52448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558720" y="1866960"/>
            <a:ext cx="1433520" cy="1293840"/>
            <a:chOff x="558720" y="1866960"/>
            <a:chExt cx="1433520" cy="1293840"/>
          </a:xfrm>
        </p:grpSpPr>
        <p:sp>
          <p:nvSpPr>
            <p:cNvPr id="596" name=""/>
            <p:cNvSpPr/>
            <p:nvPr/>
          </p:nvSpPr>
          <p:spPr>
            <a:xfrm>
              <a:off x="558720" y="186696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58720" y="207000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665280" y="5460840"/>
            <a:ext cx="1229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nsem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tt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9" name=""/>
          <p:cNvSpPr/>
          <p:nvPr/>
        </p:nvSpPr>
        <p:spPr>
          <a:xfrm>
            <a:off x="8115480" y="2006640"/>
            <a:ext cx="1269720" cy="1270080"/>
          </a:xfrm>
          <a:custGeom>
            <a:avLst/>
            <a:gdLst>
              <a:gd name="textAreaLeft" fmla="*/ 55800 w 1269720"/>
              <a:gd name="textAreaRight" fmla="*/ 1213920 w 1269720"/>
              <a:gd name="textAreaTop" fmla="*/ 55800 h 1270080"/>
              <a:gd name="textAreaBottom" fmla="*/ 1214280 h 1270080"/>
            </a:gdLst>
            <a:ahLst/>
            <a:rect l="textAreaLeft" t="textAreaTop" r="textAreaRight" b="textAreaBottom"/>
            <a:pathLst>
              <a:path w="21600" h="21606">
                <a:moveTo>
                  <a:pt x="3240" y="0"/>
                </a:moveTo>
                <a:arcTo wR="3240" hR="3240" stAng="16200000" swAng="-5400000"/>
                <a:lnTo>
                  <a:pt x="0" y="18366"/>
                </a:lnTo>
                <a:arcTo wR="3240" hR="3240" stAng="10800000" swAng="-5400000"/>
                <a:lnTo>
                  <a:pt x="18360" y="21606"/>
                </a:lnTo>
                <a:arcTo wR="3240" hR="3240" stAng="5400000" swAng="-5400000"/>
                <a:lnTo>
                  <a:pt x="21600" y="3240"/>
                </a:lnTo>
                <a:arcTo wR="3240" hR="3240" stAng="0" swAng="-5400000"/>
                <a:close/>
              </a:path>
            </a:pathLst>
          </a:cu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"/>
          <p:cNvSpPr/>
          <p:nvPr/>
        </p:nvSpPr>
        <p:spPr>
          <a:xfrm>
            <a:off x="8350920" y="2438280"/>
            <a:ext cx="817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1" name=""/>
          <p:cNvSpPr/>
          <p:nvPr/>
        </p:nvSpPr>
        <p:spPr>
          <a:xfrm>
            <a:off x="8115480" y="4737240"/>
            <a:ext cx="1269720" cy="126972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2" name=""/>
          <p:cNvSpPr/>
          <p:nvPr/>
        </p:nvSpPr>
        <p:spPr>
          <a:xfrm>
            <a:off x="8123760" y="5168880"/>
            <a:ext cx="1271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tterlac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7060680" y="2895480"/>
            <a:ext cx="69876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"/>
          <p:cNvSpPr/>
          <p:nvPr/>
        </p:nvSpPr>
        <p:spPr>
          <a:xfrm flipH="1" flipV="1">
            <a:off x="2247480" y="4419720"/>
            <a:ext cx="787320" cy="3175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2305080" y="5753160"/>
            <a:ext cx="73008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"/>
          <p:cNvSpPr/>
          <p:nvPr/>
        </p:nvSpPr>
        <p:spPr>
          <a:xfrm flipH="1" flipV="1">
            <a:off x="2158920" y="3187800"/>
            <a:ext cx="1130400" cy="12571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5052600" y="5753160"/>
            <a:ext cx="277020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8" name=""/>
          <p:cNvSpPr/>
          <p:nvPr/>
        </p:nvSpPr>
        <p:spPr>
          <a:xfrm flipH="1" flipV="1">
            <a:off x="6997320" y="3847680"/>
            <a:ext cx="825480" cy="8002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8763120" y="3503160"/>
            <a:ext cx="0" cy="10558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0" name=""/>
          <p:cNvSpPr/>
          <p:nvPr/>
        </p:nvSpPr>
        <p:spPr>
          <a:xfrm>
            <a:off x="8026560" y="1168560"/>
            <a:ext cx="1460520" cy="4952880"/>
          </a:xfrm>
          <a:custGeom>
            <a:avLst/>
            <a:gdLst>
              <a:gd name="textAreaLeft" fmla="*/ 55800 w 1460520"/>
              <a:gd name="textAreaRight" fmla="*/ 1404720 w 1460520"/>
              <a:gd name="textAreaTop" fmla="*/ 55800 h 4952880"/>
              <a:gd name="textAreaBottom" fmla="*/ 4897080 h 4952880"/>
            </a:gdLst>
            <a:ahLst/>
            <a:rect l="textAreaLeft" t="textAreaTop" r="textAreaRight" b="textAreaBottom"/>
            <a:pathLst>
              <a:path w="21600" h="73237">
                <a:moveTo>
                  <a:pt x="2817" y="0"/>
                </a:moveTo>
                <a:arcTo wR="2817" hR="2817" stAng="16200000" swAng="-5400000"/>
                <a:lnTo>
                  <a:pt x="0" y="70420"/>
                </a:lnTo>
                <a:arcTo wR="2817" hR="2817" stAng="10800000" swAng="-5400000"/>
                <a:lnTo>
                  <a:pt x="18783" y="73237"/>
                </a:lnTo>
                <a:arcTo wR="2817" hR="2817" stAng="5400000" swAng="-5400000"/>
                <a:lnTo>
                  <a:pt x="21600" y="2817"/>
                </a:lnTo>
                <a:arcTo wR="2817" hR="2817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1" name=""/>
          <p:cNvSpPr/>
          <p:nvPr/>
        </p:nvSpPr>
        <p:spPr>
          <a:xfrm>
            <a:off x="8472240" y="1422360"/>
            <a:ext cx="549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2" name=""/>
          <p:cNvSpPr/>
          <p:nvPr/>
        </p:nvSpPr>
        <p:spPr>
          <a:xfrm>
            <a:off x="722880" y="2247840"/>
            <a:ext cx="11116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D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ourc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"/>
          <p:cNvSpPr/>
          <p:nvPr/>
        </p:nvSpPr>
        <p:spPr>
          <a:xfrm>
            <a:off x="5078520" y="4127400"/>
            <a:ext cx="2273040" cy="1308240"/>
          </a:xfrm>
          <a:prstGeom prst="pie">
            <a:avLst/>
          </a:pr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4" name=""/>
          <p:cNvSpPr/>
          <p:nvPr/>
        </p:nvSpPr>
        <p:spPr>
          <a:xfrm>
            <a:off x="5575320" y="2438280"/>
            <a:ext cx="1270080" cy="127008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5" name=""/>
          <p:cNvSpPr/>
          <p:nvPr/>
        </p:nvSpPr>
        <p:spPr>
          <a:xfrm>
            <a:off x="5756400" y="2705040"/>
            <a:ext cx="9000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ced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6" name=""/>
          <p:cNvSpPr/>
          <p:nvPr/>
        </p:nvSpPr>
        <p:spPr>
          <a:xfrm>
            <a:off x="8221320" y="3797280"/>
            <a:ext cx="10753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Xat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"/>
          <p:cNvSpPr/>
          <p:nvPr/>
        </p:nvSpPr>
        <p:spPr>
          <a:xfrm>
            <a:off x="6137280" y="5524560"/>
            <a:ext cx="5965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tt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8" name=""/>
          <p:cNvSpPr/>
          <p:nvPr/>
        </p:nvSpPr>
        <p:spPr>
          <a:xfrm>
            <a:off x="5649840" y="4648320"/>
            <a:ext cx="195156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ttp / conver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6222960" y="1674720"/>
            <a:ext cx="0" cy="64944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"/>
          <p:cNvSpPr/>
          <p:nvPr/>
        </p:nvSpPr>
        <p:spPr>
          <a:xfrm>
            <a:off x="380880" y="1650960"/>
            <a:ext cx="4496040" cy="4864320"/>
          </a:xfrm>
          <a:custGeom>
            <a:avLst/>
            <a:gdLst>
              <a:gd name="textAreaLeft" fmla="*/ 55440 w 4496040"/>
              <a:gd name="textAreaRight" fmla="*/ 4440600 w 4496040"/>
              <a:gd name="textAreaTop" fmla="*/ 55440 h 4864320"/>
              <a:gd name="textAreaBottom" fmla="*/ 4808880 h 4864320"/>
            </a:gdLst>
            <a:ahLst/>
            <a:rect l="textAreaLeft" t="textAreaTop" r="textAreaRight" b="textAreaBottom"/>
            <a:pathLst>
              <a:path w="21600" h="23369">
                <a:moveTo>
                  <a:pt x="915" y="0"/>
                </a:moveTo>
                <a:arcTo wR="915" hR="915" stAng="16200000" swAng="-5400000"/>
                <a:lnTo>
                  <a:pt x="0" y="22454"/>
                </a:lnTo>
                <a:arcTo wR="915" hR="915" stAng="10800000" swAng="-5400000"/>
                <a:lnTo>
                  <a:pt x="20685" y="23369"/>
                </a:lnTo>
                <a:arcTo wR="915" hR="915" stAng="5400000" swAng="-5400000"/>
                <a:lnTo>
                  <a:pt x="21600" y="915"/>
                </a:lnTo>
                <a:arcTo wR="915" hR="91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1" name=""/>
          <p:cNvSpPr/>
          <p:nvPr/>
        </p:nvSpPr>
        <p:spPr>
          <a:xfrm>
            <a:off x="3554280" y="1866960"/>
            <a:ext cx="1113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Remo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  <a:ea typeface="ヒラギノ角ゴ Pro W3"/>
              </a:rPr>
              <a:t>otterlace ⇔ Zmap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23" name=""/>
          <p:cNvSpPr/>
          <p:nvPr/>
        </p:nvSpPr>
        <p:spPr>
          <a:xfrm>
            <a:off x="774720" y="2590920"/>
            <a:ext cx="2082960" cy="30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4" name=""/>
          <p:cNvSpPr/>
          <p:nvPr/>
        </p:nvSpPr>
        <p:spPr>
          <a:xfrm>
            <a:off x="6743880" y="2590920"/>
            <a:ext cx="2527200" cy="30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5" name=""/>
          <p:cNvSpPr/>
          <p:nvPr/>
        </p:nvSpPr>
        <p:spPr>
          <a:xfrm>
            <a:off x="1095120" y="3013200"/>
            <a:ext cx="163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(property notif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6" name=""/>
          <p:cNvSpPr/>
          <p:nvPr/>
        </p:nvSpPr>
        <p:spPr>
          <a:xfrm>
            <a:off x="6976080" y="3073320"/>
            <a:ext cx="2062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X11::XRemo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"/>
          <p:cNvSpPr/>
          <p:nvPr/>
        </p:nvSpPr>
        <p:spPr>
          <a:xfrm>
            <a:off x="4155120" y="3962520"/>
            <a:ext cx="1252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Monaco"/>
                <a:ea typeface="Monaco"/>
              </a:rPr>
              <a:t>X-at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3072960" y="3060720"/>
            <a:ext cx="3505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9" name=""/>
          <p:cNvSpPr/>
          <p:nvPr/>
        </p:nvSpPr>
        <p:spPr>
          <a:xfrm>
            <a:off x="3111480" y="3784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0" name=""/>
          <p:cNvSpPr/>
          <p:nvPr/>
        </p:nvSpPr>
        <p:spPr>
          <a:xfrm>
            <a:off x="3770280" y="2590920"/>
            <a:ext cx="2901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lient (perl) xml reques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1" name=""/>
          <p:cNvSpPr/>
          <p:nvPr/>
        </p:nvSpPr>
        <p:spPr>
          <a:xfrm>
            <a:off x="3014280" y="3314880"/>
            <a:ext cx="183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e (xm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3072960" y="5629320"/>
            <a:ext cx="3505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"/>
          <p:cNvSpPr/>
          <p:nvPr/>
        </p:nvSpPr>
        <p:spPr>
          <a:xfrm>
            <a:off x="3111480" y="4981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4" name=""/>
          <p:cNvSpPr/>
          <p:nvPr/>
        </p:nvSpPr>
        <p:spPr>
          <a:xfrm>
            <a:off x="4804920" y="5156280"/>
            <a:ext cx="183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e (xm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5" name=""/>
          <p:cNvSpPr/>
          <p:nvPr/>
        </p:nvSpPr>
        <p:spPr>
          <a:xfrm>
            <a:off x="2955240" y="4508640"/>
            <a:ext cx="308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lient (zmap) xml reques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6" name=""/>
          <p:cNvSpPr/>
          <p:nvPr/>
        </p:nvSpPr>
        <p:spPr>
          <a:xfrm>
            <a:off x="6784560" y="4686480"/>
            <a:ext cx="163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T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(property notif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flexible / extensible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8178840" cy="467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way communication via X server atom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tensible xml format langua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ssion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initialisation / termination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teractive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highlighting features, cut / paste of feature data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ata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add, modify, delete featur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1668600" y="1951200"/>
            <a:ext cx="6921360" cy="52448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40" name=""/>
          <p:cNvGrpSpPr/>
          <p:nvPr/>
        </p:nvGrpSpPr>
        <p:grpSpPr>
          <a:xfrm>
            <a:off x="214200" y="1009440"/>
            <a:ext cx="1703520" cy="1041480"/>
            <a:chOff x="214200" y="1009440"/>
            <a:chExt cx="1703520" cy="1041480"/>
          </a:xfrm>
        </p:grpSpPr>
        <p:sp>
          <p:nvSpPr>
            <p:cNvPr id="641" name=""/>
            <p:cNvSpPr/>
            <p:nvPr/>
          </p:nvSpPr>
          <p:spPr>
            <a:xfrm>
              <a:off x="254160" y="1015920"/>
              <a:ext cx="1663560" cy="10350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14200" y="1009440"/>
              <a:ext cx="109476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lon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lector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8137440" y="1009440"/>
            <a:ext cx="1514160" cy="1073160"/>
            <a:chOff x="8137440" y="1009440"/>
            <a:chExt cx="1514160" cy="1073160"/>
          </a:xfrm>
        </p:grpSpPr>
        <p:sp>
          <p:nvSpPr>
            <p:cNvPr id="644" name=""/>
            <p:cNvSpPr/>
            <p:nvPr/>
          </p:nvSpPr>
          <p:spPr>
            <a:xfrm>
              <a:off x="8137440" y="1015920"/>
              <a:ext cx="1514160" cy="106668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649000" y="1009440"/>
              <a:ext cx="9882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lon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display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221040" y="2787480"/>
            <a:ext cx="1855440" cy="686520"/>
            <a:chOff x="221040" y="2787480"/>
            <a:chExt cx="1855440" cy="686520"/>
          </a:xfrm>
        </p:grpSpPr>
        <p:sp>
          <p:nvSpPr>
            <p:cNvPr id="647" name=""/>
            <p:cNvSpPr/>
            <p:nvPr/>
          </p:nvSpPr>
          <p:spPr>
            <a:xfrm>
              <a:off x="254160" y="2793960"/>
              <a:ext cx="1822320" cy="6732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21040" y="2787480"/>
              <a:ext cx="108108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indow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235080" y="4317840"/>
            <a:ext cx="1761840" cy="1866960"/>
            <a:chOff x="235080" y="4317840"/>
            <a:chExt cx="1761840" cy="1866960"/>
          </a:xfrm>
        </p:grpSpPr>
        <p:sp>
          <p:nvSpPr>
            <p:cNvPr id="650" name=""/>
            <p:cNvSpPr/>
            <p:nvPr/>
          </p:nvSpPr>
          <p:spPr>
            <a:xfrm>
              <a:off x="254160" y="4317840"/>
              <a:ext cx="1742760" cy="186696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35080" y="4444560"/>
              <a:ext cx="1135800" cy="16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it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lec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6099120" y="3468600"/>
            <a:ext cx="4073400" cy="2373120"/>
            <a:chOff x="6099120" y="3468600"/>
            <a:chExt cx="4073400" cy="2373120"/>
          </a:xfrm>
        </p:grpSpPr>
        <p:sp>
          <p:nvSpPr>
            <p:cNvPr id="653" name=""/>
            <p:cNvSpPr/>
            <p:nvPr/>
          </p:nvSpPr>
          <p:spPr>
            <a:xfrm>
              <a:off x="6099120" y="3468600"/>
              <a:ext cx="3975120" cy="237312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619120" y="5115960"/>
              <a:ext cx="15534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Highligh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990720" y="279360"/>
            <a:ext cx="81788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Finding Stuff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" descr=""/>
          <p:cNvPicPr/>
          <p:nvPr/>
        </p:nvPicPr>
        <p:blipFill>
          <a:blip r:embed="rId1"/>
          <a:stretch/>
        </p:blipFill>
        <p:spPr>
          <a:xfrm>
            <a:off x="2120760" y="1943280"/>
            <a:ext cx="5289840" cy="48272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57" name=""/>
          <p:cNvGrpSpPr/>
          <p:nvPr/>
        </p:nvGrpSpPr>
        <p:grpSpPr>
          <a:xfrm>
            <a:off x="6945480" y="3390840"/>
            <a:ext cx="2874960" cy="1292400"/>
            <a:chOff x="6945480" y="3390840"/>
            <a:chExt cx="2874960" cy="1292400"/>
          </a:xfrm>
        </p:grpSpPr>
        <p:sp>
          <p:nvSpPr>
            <p:cNvPr id="658" name=""/>
            <p:cNvSpPr/>
            <p:nvPr/>
          </p:nvSpPr>
          <p:spPr>
            <a:xfrm>
              <a:off x="6945480" y="3390840"/>
              <a:ext cx="2874960" cy="12924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361720" y="3422160"/>
              <a:ext cx="130824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hol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ranscript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254160" y="2882880"/>
            <a:ext cx="3787560" cy="692280"/>
            <a:chOff x="254160" y="2882880"/>
            <a:chExt cx="3787560" cy="692280"/>
          </a:xfrm>
        </p:grpSpPr>
        <p:sp>
          <p:nvSpPr>
            <p:cNvPr id="661" name=""/>
            <p:cNvSpPr/>
            <p:nvPr/>
          </p:nvSpPr>
          <p:spPr>
            <a:xfrm>
              <a:off x="254160" y="2882880"/>
              <a:ext cx="3787560" cy="69228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81560" y="3028680"/>
              <a:ext cx="55080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op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507960" y="5168880"/>
            <a:ext cx="3564000" cy="735120"/>
            <a:chOff x="507960" y="5168880"/>
            <a:chExt cx="3564000" cy="735120"/>
          </a:xfrm>
        </p:grpSpPr>
        <p:sp>
          <p:nvSpPr>
            <p:cNvPr id="664" name=""/>
            <p:cNvSpPr/>
            <p:nvPr/>
          </p:nvSpPr>
          <p:spPr>
            <a:xfrm>
              <a:off x="507960" y="5168880"/>
              <a:ext cx="3564000" cy="73512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67440" y="5314680"/>
              <a:ext cx="103392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botto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1432440" y="631080"/>
            <a:ext cx="72824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Multiple window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1625760" y="1625760"/>
            <a:ext cx="6910200" cy="51638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668" name=""/>
          <p:cNvSpPr/>
          <p:nvPr/>
        </p:nvSpPr>
        <p:spPr>
          <a:xfrm>
            <a:off x="990720" y="355680"/>
            <a:ext cx="817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Displaying Matche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990720" y="355680"/>
            <a:ext cx="817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Syntenic Region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1"/>
          <a:stretch/>
        </p:blipFill>
        <p:spPr>
          <a:xfrm>
            <a:off x="1905120" y="1790640"/>
            <a:ext cx="6354720" cy="531360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