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846DEC-5D34-43E4-B8E7-C1B18309E3C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E137DD-1FA9-49F5-9BCF-39D8C27D9B1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B29A1E-5844-4816-A2E5-254526EEE58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6B0094-BB98-41EE-A7CB-EF6E2F46C3B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80B363-BB4F-4B36-9031-8E7C6935DF2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0F1EE1-DE3D-493A-A1D6-F75A6401E7C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9B9EE9-AD0F-4425-9A16-10695773F30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C8BC6A-9B78-4B13-872D-0BA9A62B22D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A6B9F1-43C3-4A56-BFF3-51772BC1C59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3281DE-7149-4E35-9114-DEB70DCF80A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C861F3-5077-4CA0-9022-F6FDBBAE712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2CBDB6-2F21-4A21-A33C-8AF87B058BC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92609-331B-4ECE-92AC-83E5B9C5F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3C3DB-8E92-4964-A71A-FA8B4BBA4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62737-5565-46E7-96D6-2C31AA6A0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68EBE-D2EE-44CE-B744-09FE72B26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15100-F024-4BC2-A6EB-D62837FA4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3B3BB-8876-4063-94A4-57D9B56E4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89A6D-2C7B-4856-BCAF-2F7102646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DC59F-9DA5-4DA8-9C0E-D94FB0126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CDDAD-50B5-4096-A762-B5EDE0140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27705-EC06-4163-BFAD-4729E2A92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AF138-B642-4BB6-BF23-C42320CBA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B9339-CA63-4CE4-AD7D-09922F7E0D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34CFA-979C-4F95-B669-5BBA73ED1C9B}" type="datetime">
              <a:rPr b="1" lang="en-US" sz="1200" spc="-1" strike="noStrike">
                <a:solidFill>
                  <a:srgbClr val="898989"/>
                </a:solidFill>
                <a:latin typeface="Arial"/>
              </a:rPr>
              <a:t>07/31/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9959-A089-4206-963E-E63B27F7B3F6}"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