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0EA3-FD24-43F6-8304-CB47D244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0F4A-36C5-4926-B886-7CF2F0F3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2A83-B18A-4F10-8732-846238D3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E426-150E-4492-85F6-64D6730B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BEA-FAE0-44B9-BD85-C602A44E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4692-A20F-4A5D-962B-91CDF01B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CD6-55DB-425F-9BD4-06F06027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818-0244-4FFF-8D6D-48E94C2E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419-723B-424E-9C83-1C425408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8BEE-DBCC-49D9-BE38-D0F895F7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720A-0E7A-46FF-910B-40963A17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516-C30B-4664-972E-8EFB9112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84E0-1675-421D-804B-475C4BA66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cmd line func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t fil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upport libs (http, socke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(blixem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le tools (java is best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lient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” interconnecting programs ar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ion of functions (Apollo editor + IGB graphics 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“view” protocols, common edit protoco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lay this reg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his featu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36:04Z</dcterms:created>
  <dc:creator>Genome Research</dc:creator>
  <dc:description/>
  <dc:language>en-US</dc:language>
  <cp:lastModifiedBy>Genome Research</cp:lastModifiedBy>
  <dcterms:modified xsi:type="dcterms:W3CDTF">2008-09-10T08:25:11Z</dcterms:modified>
  <cp:revision>6</cp:revision>
  <dc:subject/>
  <dc:title>Interclient Communication</dc:title>
</cp:coreProperties>
</file>