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8DF8B-A42F-4D42-9325-16129929E9A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60360" y="801720"/>
            <a:ext cx="504036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1007640" y="5073840"/>
            <a:ext cx="5543640" cy="483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C816-9C42-4F88-993C-EBFB5044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C8C-B732-4601-9D26-DB21C7F3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DD7-5BB1-41E9-841E-9AE49BB9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B39-0163-43C3-8E53-B28557E3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E5A-7660-4702-AB4A-EB73677D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3C2-6FB7-4825-B4F8-B468449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32B-F407-4158-9F62-89770883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890-1278-41A6-87A5-98B61D50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FEF-CAB4-4C9C-B144-F8FDD753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BBE-4F46-4667-B910-AB187AE1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6109-FB26-4598-8A04-57F0F15C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19A-DBCD-4876-909F-9FE7F5E7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FD38C-2976-4C2F-A9D1-34D604C88A35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Syntenic Alignment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ore is better......??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ssues with Syntenic Annotatio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avigation and View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Selecting species/haplotypes/knockouts and  sections to work 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ultiple block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Find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Viewing feature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ignment format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Dealing with all that dat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We want to go from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890720" y="1763640"/>
            <a:ext cx="67500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19288" r="0" b="19288"/>
          <a:stretch/>
        </p:blipFill>
        <p:spPr>
          <a:xfrm>
            <a:off x="1998720" y="2700360"/>
            <a:ext cx="634212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to maybe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79640" y="1979640"/>
            <a:ext cx="6378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or this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40000" y="1979640"/>
            <a:ext cx="57672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earching Multiple Region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11280" y="1800360"/>
            <a:ext cx="532764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94040" y="1800360"/>
            <a:ext cx="5744880" cy="5352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Multiple Window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ta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Chaining/Netting of Blastz results is some kind of current de facto standar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Volume of data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Move from “loading everything” to loading the minimum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DejaVu Sans"/>
              </a:rPr>
              <a:t>Allow user to choose areas of interest and load data within that area 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