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5D248-CD17-4655-9FC7-D3AC92562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563EC-7A69-48A5-9894-A63FBC463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85850-9310-43B0-BF58-2BBB03E5E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3393C-ED8B-45D6-B657-8CF875726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48185-0E15-4352-9C7C-8B9D33C41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AAE68-C587-46A4-890A-EE76E8CE4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B9102-71D1-47AD-899B-9C206DCE1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E1724-BDB9-4968-AE0A-996C36954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C7448-9B76-4C62-BFCD-8F7ABD6E3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C1606-B7A8-41E9-A54C-4CD72F979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A99CC-A379-4259-AAA1-CC376831F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D3962-5CE5-4BB1-8140-D98CFB1EC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B124C-4A74-4820-92DC-F73D615230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 usage examp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temis/acedb GFF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0T08:40:26Z</dcterms:created>
  <dc:creator>Genome Research</dc:creator>
  <dc:description/>
  <dc:language>en-US</dc:language>
  <cp:lastModifiedBy>Genome Research</cp:lastModifiedBy>
  <dcterms:modified xsi:type="dcterms:W3CDTF">2008-09-10T08:41:45Z</dcterms:modified>
  <cp:revision>1</cp:revision>
  <dc:subject/>
  <dc:title>Summary…</dc:title>
</cp:coreProperties>
</file>