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C4D0-B40A-4A9E-9C64-1BB167A99B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6005-5AF6-415C-A311-4EC0238D76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FB13-8805-4FCD-9CB6-77012B79C6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C5EF-F258-4972-97CF-9DA4A21260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36DF-0C89-4291-87AC-955BA4D81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49D0-AC88-46BD-A8B3-3339739A86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ADEC-82BA-4601-A9C8-8993037546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08FA-D2C3-4BD8-A64F-24BEEE887E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772A0-FFB5-4CA4-A3B4-CB3122CD7B4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E1C6-301A-40ED-8C4C-23CA286FC3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FF44-3D98-4AD1-9058-7DE28A5BE6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D5B5-E8E5-433A-8793-CAE9D3DB37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AFAA-7FD3-4567-8F98-139A16ECF0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E03E-7FAE-409F-ACFA-6301154921A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C7C5-F154-4A12-917B-95763B833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4FCE-3824-4D5D-9FF9-4897840C0E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5724-467A-4624-A56B-FBC4CC3A0CB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35E39-99EF-400A-823B-739B1DE846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2D4E-9ED4-4F93-B864-2F01F197E2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BC1E-0EC1-407C-B506-4853C32DCDC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5313-E339-45F1-95A9-0B18A08DF5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B242-E43B-4F1D-BF20-5D070E23D28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39C26-EFC2-4F02-A9EE-5D5D3FBB0D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2D5B-4CA5-4644-B8BF-6DDD0009190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90360" y="2323800"/>
            <a:ext cx="8178840" cy="137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256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6088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4160880" indent="-3859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5562720" y="5499000"/>
            <a:ext cx="3606840" cy="105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4543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828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252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5640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30360" indent="-29808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6000"/>
          </a:bodyPr>
          <a:p>
            <a:pPr marL="38952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424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506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7676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1480" indent="-255600">
              <a:spcBef>
                <a:spcPts val="31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7734240" y="603252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266760" indent="0">
              <a:lnSpc>
                <a:spcPct val="133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1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2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3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4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5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  <a:p>
            <a:pPr lvl="6" marL="266760" indent="-63720">
              <a:lnSpc>
                <a:spcPct val="133000"/>
              </a:lnSpc>
              <a:spcBef>
                <a:spcPts val="799"/>
              </a:spcBef>
              <a:buClr>
                <a:srgbClr val="000000"/>
              </a:buClr>
              <a:buFont typeface="Bitstream Vera Sans Mo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tstream Vera Sans Mono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Bitstream Vera Sans Mono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60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6688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6172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5656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762200" indent="-386280">
              <a:spcBef>
                <a:spcPts val="3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20640" indent="-41760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24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651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08240" indent="-6372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663560" indent="-63360"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24760" y="6629400"/>
            <a:ext cx="204156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1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4B1-12FB-4BCF-8E77-DD42A711E3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1011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ctr">
            <a:noAutofit/>
          </a:bodyPr>
          <a:p>
            <a:pPr marL="44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07960" y="1778040"/>
            <a:ext cx="9144000" cy="5842080"/>
          </a:xfrm>
          <a:prstGeom prst="rect">
            <a:avLst/>
          </a:prstGeom>
          <a:noFill/>
          <a:ln w="0">
            <a:noFill/>
          </a:ln>
        </p:spPr>
        <p:txBody>
          <a:bodyPr lIns="50760" rIns="96120" tIns="50760" bIns="50760" anchor="t">
            <a:normAutofit/>
          </a:bodyPr>
          <a:p>
            <a:pPr marL="3826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8310600" y="693864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57DD-2632-452F-B247-235C9BC22F1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66816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054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33164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708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95120" indent="-426600">
              <a:spcBef>
                <a:spcPts val="20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95120" indent="-426600">
              <a:spcBef>
                <a:spcPts val="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600" y="110484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44600" y="374616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3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grg@sanger.ac.uk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61760" y="711000"/>
            <a:ext cx="862308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The otterlace / Zmap annotation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29760" y="3594240"/>
            <a:ext cx="4305240" cy="15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James Gilber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jgrg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4876920" y="3594240"/>
            <a:ext cx="48006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Ed Griffith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Monaco"/>
                <a:ea typeface="Monaco"/>
                <a:hlinkClick r:id="rId1"/>
              </a:rPr>
              <a:t>edgrif@sanger.ac.u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</a:rPr>
              <a:t>Data concerns</a:t>
            </a:r>
            <a:endParaRPr b="0" lang="en-US" sz="48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9920" y="1942920"/>
            <a:ext cx="8559720" cy="468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e assembly vers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-map between assemblies using Ensembl projection AP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not interrogate DAS sources for assembly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too much data to present to the annotat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one based analysis pipeline has disadvan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78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not have smart filtering method (retained introns w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37560" indent="-3963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ynamic loading of subsets of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Software Concerns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moribun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d by otterlace, replacing would be cost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tk Canvas cho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map uses Foo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k will (eventually) choose a generic canv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VC mod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ill not need to deal with 32k viewpor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be an expensive replacement to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emo here?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components of</a:t>
            </a:r>
            <a:br>
              <a:rPr sz="6400"/>
            </a:b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otterlace system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 – Ensembl database of manual gene annotations from the HAVANA group (otte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l/Tk – control and edit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 – acedb local database storage (la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/Gtk – Zmap feature displ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6520" y="228600"/>
            <a:ext cx="428004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Data flow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486400" y="228600"/>
            <a:ext cx="1433520" cy="1293840"/>
            <a:chOff x="5486400" y="228600"/>
            <a:chExt cx="1433520" cy="1293840"/>
          </a:xfrm>
        </p:grpSpPr>
        <p:sp>
          <p:nvSpPr>
            <p:cNvPr id="583" name=""/>
            <p:cNvSpPr/>
            <p:nvPr/>
          </p:nvSpPr>
          <p:spPr>
            <a:xfrm>
              <a:off x="5486400" y="2286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86400" y="4316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5774760" y="82548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58720" y="3416400"/>
            <a:ext cx="1433520" cy="1293840"/>
            <a:chOff x="558720" y="3416400"/>
            <a:chExt cx="1433520" cy="1293840"/>
          </a:xfrm>
        </p:grpSpPr>
        <p:sp>
          <p:nvSpPr>
            <p:cNvPr id="587" name=""/>
            <p:cNvSpPr/>
            <p:nvPr/>
          </p:nvSpPr>
          <p:spPr>
            <a:xfrm>
              <a:off x="558720" y="34164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8720" y="36194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665280" y="38354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3378240" y="4737240"/>
            <a:ext cx="127008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3504240" y="4978440"/>
            <a:ext cx="1037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pach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crip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558720" y="5041800"/>
            <a:ext cx="1433520" cy="1293840"/>
            <a:chOff x="558720" y="5041800"/>
            <a:chExt cx="1433520" cy="1293840"/>
          </a:xfrm>
        </p:grpSpPr>
        <p:sp>
          <p:nvSpPr>
            <p:cNvPr id="593" name=""/>
            <p:cNvSpPr/>
            <p:nvPr/>
          </p:nvSpPr>
          <p:spPr>
            <a:xfrm>
              <a:off x="558720" y="504180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8720" y="524484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558720" y="1866960"/>
            <a:ext cx="1433520" cy="1293840"/>
            <a:chOff x="558720" y="1866960"/>
            <a:chExt cx="1433520" cy="1293840"/>
          </a:xfrm>
        </p:grpSpPr>
        <p:sp>
          <p:nvSpPr>
            <p:cNvPr id="596" name=""/>
            <p:cNvSpPr/>
            <p:nvPr/>
          </p:nvSpPr>
          <p:spPr>
            <a:xfrm>
              <a:off x="558720" y="1866960"/>
              <a:ext cx="1433520" cy="129384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8720" y="2070000"/>
              <a:ext cx="1433520" cy="2034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665280" y="5460840"/>
            <a:ext cx="1229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Ensem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8115480" y="2006640"/>
            <a:ext cx="1269720" cy="1270080"/>
          </a:xfrm>
          <a:custGeom>
            <a:avLst/>
            <a:gdLst>
              <a:gd name="textAreaLeft" fmla="*/ 55800 w 1269720"/>
              <a:gd name="textAreaRight" fmla="*/ 1213920 w 1269720"/>
              <a:gd name="textAreaTop" fmla="*/ 55800 h 1270080"/>
              <a:gd name="textAreaBottom" fmla="*/ 1214280 h 1270080"/>
            </a:gdLst>
            <a:ahLst/>
            <a:rect l="textAreaLeft" t="textAreaTop" r="textAreaRight" b="textAreaBottom"/>
            <a:pathLst>
              <a:path w="21600" h="21606">
                <a:moveTo>
                  <a:pt x="3240" y="0"/>
                </a:moveTo>
                <a:arcTo wR="3240" hR="3240" stAng="16200000" swAng="-5400000"/>
                <a:lnTo>
                  <a:pt x="0" y="18366"/>
                </a:lnTo>
                <a:arcTo wR="3240" hR="3240" stAng="10800000" swAng="-5400000"/>
                <a:lnTo>
                  <a:pt x="18360" y="21606"/>
                </a:lnTo>
                <a:arcTo wR="3240" hR="3240" stAng="5400000" swAng="-5400000"/>
                <a:lnTo>
                  <a:pt x="21600" y="3240"/>
                </a:lnTo>
                <a:arcTo wR="3240" hR="3240" stAng="0" swAng="-5400000"/>
                <a:close/>
              </a:path>
            </a:pathLst>
          </a:cu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8350920" y="2438280"/>
            <a:ext cx="81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8115480" y="4737240"/>
            <a:ext cx="1269720" cy="126972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8123760" y="5168880"/>
            <a:ext cx="127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otterla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7060680" y="289548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247480" y="4419720"/>
            <a:ext cx="787320" cy="3175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2305080" y="5753160"/>
            <a:ext cx="7300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2158920" y="3187800"/>
            <a:ext cx="1130400" cy="1257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052600" y="5753160"/>
            <a:ext cx="27702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6997320" y="3847680"/>
            <a:ext cx="825480" cy="8002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8763120" y="3503160"/>
            <a:ext cx="0" cy="105588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026560" y="1168560"/>
            <a:ext cx="1460520" cy="4952880"/>
          </a:xfrm>
          <a:custGeom>
            <a:avLst/>
            <a:gdLst>
              <a:gd name="textAreaLeft" fmla="*/ 55800 w 1460520"/>
              <a:gd name="textAreaRight" fmla="*/ 1404720 w 1460520"/>
              <a:gd name="textAreaTop" fmla="*/ 55800 h 4952880"/>
              <a:gd name="textAreaBottom" fmla="*/ 4897080 h 4952880"/>
            </a:gdLst>
            <a:ahLst/>
            <a:rect l="textAreaLeft" t="textAreaTop" r="textAreaRight" b="textAreaBottom"/>
            <a:pathLst>
              <a:path w="21600" h="73237">
                <a:moveTo>
                  <a:pt x="2817" y="0"/>
                </a:moveTo>
                <a:arcTo wR="2817" hR="2817" stAng="16200000" swAng="-5400000"/>
                <a:lnTo>
                  <a:pt x="0" y="70420"/>
                </a:lnTo>
                <a:arcTo wR="2817" hR="2817" stAng="10800000" swAng="-5400000"/>
                <a:lnTo>
                  <a:pt x="18783" y="73237"/>
                </a:lnTo>
                <a:arcTo wR="2817" hR="2817" stAng="5400000" swAng="-5400000"/>
                <a:lnTo>
                  <a:pt x="21600" y="2817"/>
                </a:lnTo>
                <a:arcTo wR="2817" hR="2817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472240" y="1422360"/>
            <a:ext cx="54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722880" y="2247840"/>
            <a:ext cx="1111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5078520" y="4127400"/>
            <a:ext cx="2273040" cy="1308240"/>
          </a:xfrm>
          <a:prstGeom prst="pie">
            <a:avLst/>
          </a:pr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5575320" y="2438280"/>
            <a:ext cx="1270080" cy="1270080"/>
          </a:xfrm>
          <a:prstGeom prst="roundRect">
            <a:avLst>
              <a:gd name="adj" fmla="val 15000"/>
            </a:avLst>
          </a:prstGeom>
          <a:solidFill>
            <a:srgbClr val="ffd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5756400" y="2705040"/>
            <a:ext cx="900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acedb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8221320" y="3797280"/>
            <a:ext cx="10753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X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6137280" y="5524560"/>
            <a:ext cx="596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5649840" y="4648320"/>
            <a:ext cx="1951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http / conve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222960" y="1674720"/>
            <a:ext cx="0" cy="649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380880" y="1650960"/>
            <a:ext cx="4496040" cy="4864320"/>
          </a:xfrm>
          <a:custGeom>
            <a:avLst/>
            <a:gdLst>
              <a:gd name="textAreaLeft" fmla="*/ 55440 w 4496040"/>
              <a:gd name="textAreaRight" fmla="*/ 4440600 w 4496040"/>
              <a:gd name="textAreaTop" fmla="*/ 55440 h 4864320"/>
              <a:gd name="textAreaBottom" fmla="*/ 4808880 h 4864320"/>
            </a:gdLst>
            <a:ahLst/>
            <a:rect l="textAreaLeft" t="textAreaTop" r="textAreaRight" b="textAreaBottom"/>
            <a:pathLst>
              <a:path w="21600" h="23369">
                <a:moveTo>
                  <a:pt x="915" y="0"/>
                </a:moveTo>
                <a:arcTo wR="915" hR="915" stAng="16200000" swAng="-5400000"/>
                <a:lnTo>
                  <a:pt x="0" y="22454"/>
                </a:lnTo>
                <a:arcTo wR="915" hR="915" stAng="10800000" swAng="-5400000"/>
                <a:lnTo>
                  <a:pt x="20685" y="23369"/>
                </a:lnTo>
                <a:arcTo wR="915" hR="915" stAng="5400000" swAng="-5400000"/>
                <a:lnTo>
                  <a:pt x="21600" y="915"/>
                </a:lnTo>
                <a:arcTo wR="915" hR="915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3554280" y="1866960"/>
            <a:ext cx="111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  <a:ea typeface="ヒラギノ角ゴ Pro W3"/>
              </a:rPr>
              <a:t>otterlace ⇔ Zmap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774720" y="2590920"/>
            <a:ext cx="208296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6743880" y="2590920"/>
            <a:ext cx="2527200" cy="308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1095120" y="301320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6976080" y="3073320"/>
            <a:ext cx="20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X11::XRemo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4155120" y="3962520"/>
            <a:ext cx="1252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Monaco"/>
                <a:ea typeface="Monaco"/>
              </a:rPr>
              <a:t>X-ato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3072960" y="30607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3111480" y="3784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3770280" y="2590920"/>
            <a:ext cx="29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perl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3014280" y="33148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072960" y="5629320"/>
            <a:ext cx="3505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8168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4804920" y="5156280"/>
            <a:ext cx="183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response (xm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2955240" y="4508640"/>
            <a:ext cx="308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Gill Sans"/>
              </a:rPr>
              <a:t>client (zmap) xml reques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6784560" y="4686480"/>
            <a:ext cx="1632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T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Gill Sans"/>
              </a:rPr>
              <a:t>(property notify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487d"/>
                </a:solidFill>
                <a:latin typeface="Gill Sans"/>
              </a:rPr>
              <a:t>flexible / extensible</a:t>
            </a:r>
            <a:endParaRPr b="0" lang="en-US" sz="6400" spc="-1" strike="noStrike">
              <a:solidFill>
                <a:srgbClr val="00487d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178840" cy="467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way communication via X server ato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71400" indent="-41724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tensible xml format langu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ssion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nitialisation / termina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active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ighlighting features, cut / paste of feature data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comm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52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79360"/>
                <a:tab algn="l" pos="118116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dd, modify, delete featur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668600" y="1951200"/>
            <a:ext cx="6921360" cy="5244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40" name=""/>
          <p:cNvGrpSpPr/>
          <p:nvPr/>
        </p:nvGrpSpPr>
        <p:grpSpPr>
          <a:xfrm>
            <a:off x="214200" y="1009440"/>
            <a:ext cx="1703520" cy="1041480"/>
            <a:chOff x="214200" y="1009440"/>
            <a:chExt cx="1703520" cy="1041480"/>
          </a:xfrm>
        </p:grpSpPr>
        <p:sp>
          <p:nvSpPr>
            <p:cNvPr id="641" name=""/>
            <p:cNvSpPr/>
            <p:nvPr/>
          </p:nvSpPr>
          <p:spPr>
            <a:xfrm>
              <a:off x="254160" y="1015920"/>
              <a:ext cx="1663560" cy="10350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4200" y="1009440"/>
              <a:ext cx="109476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o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8137440" y="1009440"/>
            <a:ext cx="1514160" cy="1073160"/>
            <a:chOff x="8137440" y="1009440"/>
            <a:chExt cx="1514160" cy="1073160"/>
          </a:xfrm>
        </p:grpSpPr>
        <p:sp>
          <p:nvSpPr>
            <p:cNvPr id="644" name=""/>
            <p:cNvSpPr/>
            <p:nvPr/>
          </p:nvSpPr>
          <p:spPr>
            <a:xfrm>
              <a:off x="8137440" y="1015920"/>
              <a:ext cx="1514160" cy="10666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649000" y="1009440"/>
              <a:ext cx="9882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lon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display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1040" y="2787480"/>
            <a:ext cx="1855440" cy="686520"/>
            <a:chOff x="221040" y="2787480"/>
            <a:chExt cx="1855440" cy="686520"/>
          </a:xfrm>
        </p:grpSpPr>
        <p:sp>
          <p:nvSpPr>
            <p:cNvPr id="647" name=""/>
            <p:cNvSpPr/>
            <p:nvPr/>
          </p:nvSpPr>
          <p:spPr>
            <a:xfrm>
              <a:off x="254160" y="2793960"/>
              <a:ext cx="1822320" cy="6732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1040" y="2787480"/>
              <a:ext cx="108108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235080" y="4317840"/>
            <a:ext cx="1761840" cy="1866960"/>
            <a:chOff x="235080" y="4317840"/>
            <a:chExt cx="1761840" cy="1866960"/>
          </a:xfrm>
        </p:grpSpPr>
        <p:sp>
          <p:nvSpPr>
            <p:cNvPr id="650" name=""/>
            <p:cNvSpPr/>
            <p:nvPr/>
          </p:nvSpPr>
          <p:spPr>
            <a:xfrm>
              <a:off x="254160" y="4317840"/>
              <a:ext cx="1742760" cy="186696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5080" y="4444560"/>
              <a:ext cx="1135800" cy="16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arc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it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el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099120" y="3468600"/>
            <a:ext cx="4073400" cy="2373120"/>
            <a:chOff x="6099120" y="3468600"/>
            <a:chExt cx="4073400" cy="2373120"/>
          </a:xfrm>
        </p:grpSpPr>
        <p:sp>
          <p:nvSpPr>
            <p:cNvPr id="653" name=""/>
            <p:cNvSpPr/>
            <p:nvPr/>
          </p:nvSpPr>
          <p:spPr>
            <a:xfrm>
              <a:off x="6099120" y="3468600"/>
              <a:ext cx="3975120" cy="2373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619120" y="5115960"/>
              <a:ext cx="155340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ighligh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990720" y="279360"/>
            <a:ext cx="81788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Finding Stuff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2120760" y="1943280"/>
            <a:ext cx="5289840" cy="48272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grpSp>
        <p:nvGrpSpPr>
          <p:cNvPr id="657" name=""/>
          <p:cNvGrpSpPr/>
          <p:nvPr/>
        </p:nvGrpSpPr>
        <p:grpSpPr>
          <a:xfrm>
            <a:off x="6945480" y="3390840"/>
            <a:ext cx="2874960" cy="1292400"/>
            <a:chOff x="6945480" y="3390840"/>
            <a:chExt cx="2874960" cy="1292400"/>
          </a:xfrm>
        </p:grpSpPr>
        <p:sp>
          <p:nvSpPr>
            <p:cNvPr id="658" name=""/>
            <p:cNvSpPr/>
            <p:nvPr/>
          </p:nvSpPr>
          <p:spPr>
            <a:xfrm>
              <a:off x="6945480" y="3390840"/>
              <a:ext cx="2874960" cy="129240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361720" y="3422160"/>
              <a:ext cx="1308240" cy="6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Whole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 marL="15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ranscrip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54160" y="2882880"/>
            <a:ext cx="3787560" cy="692280"/>
            <a:chOff x="254160" y="2882880"/>
            <a:chExt cx="3787560" cy="692280"/>
          </a:xfrm>
        </p:grpSpPr>
        <p:sp>
          <p:nvSpPr>
            <p:cNvPr id="661" name=""/>
            <p:cNvSpPr/>
            <p:nvPr/>
          </p:nvSpPr>
          <p:spPr>
            <a:xfrm>
              <a:off x="254160" y="2882880"/>
              <a:ext cx="3787560" cy="69228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81560" y="3028680"/>
              <a:ext cx="5508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top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507960" y="5168880"/>
            <a:ext cx="3564000" cy="735120"/>
            <a:chOff x="507960" y="5168880"/>
            <a:chExt cx="3564000" cy="735120"/>
          </a:xfrm>
        </p:grpSpPr>
        <p:sp>
          <p:nvSpPr>
            <p:cNvPr id="664" name=""/>
            <p:cNvSpPr/>
            <p:nvPr/>
          </p:nvSpPr>
          <p:spPr>
            <a:xfrm>
              <a:off x="507960" y="5168880"/>
              <a:ext cx="3564000" cy="735120"/>
            </a:xfrm>
            <a:prstGeom prst="pi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67440" y="5314680"/>
              <a:ext cx="10339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93600" tIns="38160" bIns="38160" anchor="ctr">
              <a:spAutoFit/>
            </a:bodyPr>
            <a:p>
              <a:pPr marL="158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bottom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32440" y="631080"/>
            <a:ext cx="7282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Multiple window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25760" y="1625760"/>
            <a:ext cx="6910200" cy="516384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68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Displaying Match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990720" y="355680"/>
            <a:ext cx="817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87d"/>
                </a:solidFill>
                <a:latin typeface="Gill Sans"/>
                <a:ea typeface="Gill Sans"/>
              </a:rPr>
              <a:t>Zmap – Syntenic Reg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1905120" y="1790640"/>
            <a:ext cx="6354720" cy="5313600"/>
          </a:xfrm>
          <a:prstGeom prst="rect">
            <a:avLst/>
          </a:prstGeom>
          <a:ln w="0">
            <a:noFill/>
          </a:ln>
          <a:effectLst>
            <a:outerShdw dist="190440" dir="5400000" blurRad="0" rotWithShape="0">
              <a:srgbClr val="000000">
                <a:alpha val="5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