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7.jpeg" ContentType="image/jpeg"/>
  <Override PartName="/ppt/media/image25.gif" ContentType="image/gi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30.png" ContentType="image/png"/>
  <Override PartName="/ppt/media/image20.png" ContentType="image/png"/>
  <Override PartName="/ppt/media/image32.png" ContentType="image/png"/>
  <Override PartName="/ppt/media/image18.pct" ContentType="image/x-pict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.pct" ContentType="image/x-pict"/>
  <Override PartName="/ppt/media/image5.jpeg" ContentType="image/jpeg"/>
  <Override PartName="/ppt/media/image4.jpeg" ContentType="image/jpeg"/>
  <Override PartName="/ppt/media/image33.png" ContentType="image/png"/>
  <Override PartName="/ppt/media/image3.png" ContentType="image/png"/>
  <Override PartName="/ppt/media/image35.jpeg" ContentType="image/jpeg"/>
  <Override PartName="/ppt/media/image10.png" ContentType="image/png"/>
  <Override PartName="/ppt/media/image31.png" ContentType="image/png"/>
  <Override PartName="/ppt/media/image1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B54-2A78-4B53-9B10-EEC77F896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5A0E-B804-4D9F-80B0-E930FE1D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1803-2961-4DF5-BA9E-10B151D69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B14-0CBF-46FD-86A8-34A951FF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765-A597-47AB-9C0C-057C3043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BA5-D94F-40AB-B83D-A9320A01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A692-1ABB-4C50-9FEE-10FF9DA4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E59-452A-4483-97DE-AFDE86AE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8FD-A32D-4648-AA06-18ADBF46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F608-CB34-432C-837C-A8DE96FA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3EF-8988-4D33-AAC2-2D3A1C39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050120"/>
            <a:ext cx="77724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991-6A0D-4004-AE3B-F6F0051C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1960" y="6400800"/>
            <a:ext cx="4647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Genome Annotation Tools Workshop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E545-2118-4A2B-8A80-AAEB4D3EB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png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anger.ac.uk/Software/Artemis/databases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png"/><Relationship Id="rId9" Type="http://schemas.openxmlformats.org/officeDocument/2006/relationships/hyperlink" Target="http://www.who.int/en/" TargetMode="External"/><Relationship Id="rId10" Type="http://schemas.openxmlformats.org/officeDocument/2006/relationships/image" Target="../media/image37.png"/><Relationship Id="rId11" Type="http://schemas.openxmlformats.org/officeDocument/2006/relationships/hyperlink" Target="http://www.defra.gov.uk/" TargetMode="External"/><Relationship Id="rId12" Type="http://schemas.openxmlformats.org/officeDocument/2006/relationships/image" Target="../media/image38.png"/><Relationship Id="rId13" Type="http://schemas.openxmlformats.org/officeDocument/2006/relationships/hyperlink" Target="http://www.sanger.ac.uk/Projects/Protozoa/" TargetMode="External"/><Relationship Id="rId14" Type="http://schemas.openxmlformats.org/officeDocument/2006/relationships/image" Target="../media/image39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ct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960" y="2711520"/>
            <a:ext cx="456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Comparis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352760" y="4398840"/>
            <a:ext cx="761760" cy="782640"/>
            <a:chOff x="4352760" y="4398840"/>
            <a:chExt cx="761760" cy="78264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43527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 flipH="1">
              <a:off x="4826160" y="4398840"/>
              <a:ext cx="288360" cy="78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3280" y="1828800"/>
            <a:ext cx="309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7320" y="38088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seudo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1300320"/>
            <a:ext cx="8772480" cy="4625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345480" y="990720"/>
            <a:ext cx="282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creted effector protein (type-II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02920" y="1522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  <a:ea typeface="Arial"/>
              </a:rPr>
              <a:t>Phas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5745" r="0" b="0"/>
          <a:stretch/>
        </p:blipFill>
        <p:spPr>
          <a:xfrm>
            <a:off x="1600200" y="851040"/>
            <a:ext cx="5578560" cy="554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3222720"/>
            <a:ext cx="131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uter membrane pept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10520" y="5913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0520" y="1036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10880" y="347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69200" y="2116080"/>
            <a:ext cx="123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eisseria meningitid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sero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0" b="13102"/>
          <a:stretch/>
        </p:blipFill>
        <p:spPr>
          <a:xfrm>
            <a:off x="5870520" y="2448000"/>
            <a:ext cx="281628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866880"/>
            <a:ext cx="4523040" cy="324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4419720" y="3657600"/>
            <a:ext cx="1295280" cy="38088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292676"/>
                <a:lnTo>
                  <a:pt x="20948" y="8775"/>
                </a:lnTo>
                <a:lnTo>
                  <a:pt x="17280" y="0"/>
                </a:lnTo>
                <a:lnTo>
                  <a:pt x="12308" y="8775"/>
                </a:lnTo>
                <a:lnTo>
                  <a:pt x="14468" y="8775"/>
                </a:lnTo>
                <a:arcTo wR="7560" hR="21600" stAng="3107324" swAng="1935242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6720" y="4724280"/>
            <a:ext cx="309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ed to single user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7520" y="45720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1560" y="1905120"/>
            <a:ext cx="29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 from local / remote di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95280" y="1012680"/>
            <a:ext cx="6858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 using Chado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GMOD project (gmod.org) Umbrella organization to develop software for creating and administering model organism datab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Chado - relational database schema - uses postg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epresents biological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quence, ontologies, sequence comparisons, phenotypes, genotypes, publications, and phyloge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biological ontologies making it very express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012680"/>
            <a:ext cx="6858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/ACT Database Connection</a:t>
            </a: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 </a:t>
            </a:r>
            <a:br>
              <a:rPr sz="2400"/>
            </a:br>
            <a:br>
              <a:rPr sz="1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JDBC (Java Database Connectivit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use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iBatis Data Mapper frame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aps Java objects to SQL parameters/result se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each of the tables in the Chado schem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has a corresponding XML descriptor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separates SQL from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http://ibatis.apach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0" r="0" b="-1635"/>
          <a:stretch/>
        </p:blipFill>
        <p:spPr>
          <a:xfrm>
            <a:off x="701640" y="304920"/>
            <a:ext cx="2879640" cy="584496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299120" y="1300320"/>
            <a:ext cx="2655000" cy="291960"/>
            <a:chOff x="4299120" y="1300320"/>
            <a:chExt cx="2655000" cy="291960"/>
          </a:xfrm>
        </p:grpSpPr>
        <p:sp>
          <p:nvSpPr>
            <p:cNvPr id="120" name=""/>
            <p:cNvSpPr/>
            <p:nvPr/>
          </p:nvSpPr>
          <p:spPr>
            <a:xfrm>
              <a:off x="4299120" y="1306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21800" y="1300320"/>
              <a:ext cx="1732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Database (via JDBC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302000" y="2900520"/>
            <a:ext cx="1897560" cy="291960"/>
            <a:chOff x="4302000" y="2900520"/>
            <a:chExt cx="1897560" cy="291960"/>
          </a:xfrm>
        </p:grpSpPr>
        <p:sp>
          <p:nvSpPr>
            <p:cNvPr id="123" name=""/>
            <p:cNvSpPr/>
            <p:nvPr/>
          </p:nvSpPr>
          <p:spPr>
            <a:xfrm>
              <a:off x="4302000" y="29066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760" y="2900520"/>
              <a:ext cx="100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Local Fil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99120" y="4729320"/>
            <a:ext cx="3062880" cy="291960"/>
            <a:chOff x="4299120" y="4729320"/>
            <a:chExt cx="3062880" cy="291960"/>
          </a:xfrm>
        </p:grpSpPr>
        <p:sp>
          <p:nvSpPr>
            <p:cNvPr id="126" name=""/>
            <p:cNvSpPr/>
            <p:nvPr/>
          </p:nvSpPr>
          <p:spPr>
            <a:xfrm>
              <a:off x="4299120" y="47354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9640" y="4729320"/>
              <a:ext cx="2052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mote Files (via J2SSH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723960" y="762120"/>
            <a:ext cx="7886520" cy="3174840"/>
            <a:chOff x="723960" y="762120"/>
            <a:chExt cx="7886520" cy="31748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068800" y="762120"/>
              <a:ext cx="3541680" cy="31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23960" y="901800"/>
              <a:ext cx="3543120" cy="275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4191120" y="152280"/>
            <a:ext cx="2437920" cy="990360"/>
            <a:chOff x="4191120" y="152280"/>
            <a:chExt cx="2437920" cy="990360"/>
          </a:xfrm>
        </p:grpSpPr>
        <p:sp>
          <p:nvSpPr>
            <p:cNvPr id="132" name=""/>
            <p:cNvSpPr/>
            <p:nvPr/>
          </p:nvSpPr>
          <p:spPr>
            <a:xfrm flipV="1">
              <a:off x="4191120" y="533160"/>
              <a:ext cx="682200" cy="609480"/>
            </a:xfrm>
            <a:prstGeom prst="line">
              <a:avLst/>
            </a:prstGeom>
            <a:ln w="44280">
              <a:solidFill>
                <a:srgbClr val="a2003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76120" y="152280"/>
              <a:ext cx="1852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mit butt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29000" y="2971440"/>
            <a:ext cx="2438280" cy="3339000"/>
            <a:chOff x="3429000" y="2971440"/>
            <a:chExt cx="2438280" cy="3339000"/>
          </a:xfrm>
        </p:grpSpPr>
        <p:sp>
          <p:nvSpPr>
            <p:cNvPr id="135" name=""/>
            <p:cNvSpPr/>
            <p:nvPr/>
          </p:nvSpPr>
          <p:spPr>
            <a:xfrm>
              <a:off x="3429000" y="4038480"/>
              <a:ext cx="2438280" cy="10670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886200" y="5638680"/>
              <a:ext cx="1514520" cy="67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4114800" y="2971440"/>
              <a:ext cx="990720" cy="2737080"/>
              <a:chOff x="4114800" y="2971440"/>
              <a:chExt cx="990720" cy="273708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114800" y="2971080"/>
                <a:ext cx="990720" cy="1066680"/>
              </a:xfrm>
              <a:custGeom>
                <a:avLst/>
                <a:gdLst>
                  <a:gd name="textAreaLeft" fmla="*/ 0 w 990720"/>
                  <a:gd name="textAreaRight" fmla="*/ 991080 w 990720"/>
                  <a:gd name="textAreaTop" fmla="*/ -360 h 1066680"/>
                  <a:gd name="textAreaBottom" fmla="*/ 106668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00" y="0"/>
                    </a:moveTo>
                    <a:lnTo>
                      <a:pt x="13532" y="3860"/>
                    </a:lnTo>
                    <a:lnTo>
                      <a:pt x="11250" y="3860"/>
                    </a:lnTo>
                    <a:lnTo>
                      <a:pt x="11250" y="10350"/>
                    </a:lnTo>
                    <a:lnTo>
                      <a:pt x="17740" y="10350"/>
                    </a:lnTo>
                    <a:lnTo>
                      <a:pt x="17740" y="8068"/>
                    </a:lnTo>
                    <a:lnTo>
                      <a:pt x="21600" y="10800"/>
                    </a:lnTo>
                    <a:lnTo>
                      <a:pt x="17740" y="13532"/>
                    </a:lnTo>
                    <a:lnTo>
                      <a:pt x="17740" y="11250"/>
                    </a:lnTo>
                    <a:lnTo>
                      <a:pt x="3860" y="11250"/>
                    </a:lnTo>
                    <a:lnTo>
                      <a:pt x="3860" y="13532"/>
                    </a:lnTo>
                    <a:lnTo>
                      <a:pt x="0" y="10800"/>
                    </a:lnTo>
                    <a:lnTo>
                      <a:pt x="3860" y="8068"/>
                    </a:lnTo>
                    <a:lnTo>
                      <a:pt x="3860" y="10350"/>
                    </a:lnTo>
                    <a:lnTo>
                      <a:pt x="10350" y="10350"/>
                    </a:lnTo>
                    <a:lnTo>
                      <a:pt x="10350" y="3860"/>
                    </a:lnTo>
                    <a:lnTo>
                      <a:pt x="8068" y="3860"/>
                    </a:lnTo>
                    <a:close/>
                  </a:path>
                </a:pathLst>
              </a:custGeom>
              <a:solidFill>
                <a:srgbClr val="000000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95680" y="5121360"/>
                <a:ext cx="228600" cy="587160"/>
              </a:xfrm>
              <a:prstGeom prst="downArrow">
                <a:avLst>
                  <a:gd name="adj1" fmla="val 29167"/>
                  <a:gd name="adj2" fmla="val 8805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5320" y="4495320"/>
            <a:ext cx="2209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114800"/>
            <a:ext cx="2590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ading from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equence + Feature + Majority of Qualifi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riting to Ch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Only on comm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90320" y="9907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/PSU Canonical Ge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294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4768560" cy="563868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6400800" y="915840"/>
            <a:ext cx="2389320" cy="657360"/>
            <a:chOff x="6400800" y="915840"/>
            <a:chExt cx="2389320" cy="657360"/>
          </a:xfrm>
        </p:grpSpPr>
        <p:sp>
          <p:nvSpPr>
            <p:cNvPr id="146" name=""/>
            <p:cNvSpPr/>
            <p:nvPr/>
          </p:nvSpPr>
          <p:spPr>
            <a:xfrm>
              <a:off x="6400800" y="107784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42480" y="915840"/>
              <a:ext cx="15476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Graphical view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f hierarch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create/build model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724800" y="3200400"/>
            <a:ext cx="1839600" cy="827280"/>
            <a:chOff x="6724800" y="3200400"/>
            <a:chExt cx="1839600" cy="827280"/>
          </a:xfrm>
        </p:grpSpPr>
        <p:sp>
          <p:nvSpPr>
            <p:cNvPr id="149" name=""/>
            <p:cNvSpPr/>
            <p:nvPr/>
          </p:nvSpPr>
          <p:spPr>
            <a:xfrm>
              <a:off x="6724800" y="3200400"/>
              <a:ext cx="761760" cy="228600"/>
            </a:xfrm>
            <a:prstGeom prst="leftArrow">
              <a:avLst>
                <a:gd name="adj1" fmla="val 19444"/>
                <a:gd name="adj2" fmla="val 83307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19680" y="3200400"/>
              <a:ext cx="1044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9200000">
              <a:off x="6800760" y="358092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25080" y="3727440"/>
            <a:ext cx="1537200" cy="1144440"/>
            <a:chOff x="325080" y="3727440"/>
            <a:chExt cx="1537200" cy="1144440"/>
          </a:xfrm>
        </p:grpSpPr>
        <p:sp>
          <p:nvSpPr>
            <p:cNvPr id="153" name=""/>
            <p:cNvSpPr/>
            <p:nvPr/>
          </p:nvSpPr>
          <p:spPr>
            <a:xfrm rot="10800000">
              <a:off x="1066320" y="4080960"/>
              <a:ext cx="762120" cy="228600"/>
            </a:xfrm>
            <a:prstGeom prst="leftArrow">
              <a:avLst>
                <a:gd name="adj1" fmla="val 19444"/>
                <a:gd name="adj2" fmla="val 83346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080" y="3727440"/>
              <a:ext cx="153720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Controlled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ocabula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onaco"/>
                </a:rPr>
                <a:t>-controlled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Monaco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pr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Monaco"/>
                </a:rPr>
                <a:t>-in-house ontolog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24000" y="5283360"/>
            <a:ext cx="1493280" cy="489960"/>
            <a:chOff x="324000" y="5283360"/>
            <a:chExt cx="1493280" cy="489960"/>
          </a:xfrm>
        </p:grpSpPr>
        <p:sp>
          <p:nvSpPr>
            <p:cNvPr id="156" name=""/>
            <p:cNvSpPr/>
            <p:nvPr/>
          </p:nvSpPr>
          <p:spPr>
            <a:xfrm rot="10800000">
              <a:off x="1055160" y="5497560"/>
              <a:ext cx="762120" cy="228240"/>
            </a:xfrm>
            <a:prstGeom prst="leftArrow">
              <a:avLst>
                <a:gd name="adj1" fmla="val 19444"/>
                <a:gd name="adj2" fmla="val 83478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000" y="5283360"/>
              <a:ext cx="98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Ortholog /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Parlao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70480" y="380880"/>
            <a:ext cx="331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onaco"/>
              </a:rPr>
              <a:t>Artemis - Gene Buil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2160" y="1704960"/>
            <a:ext cx="2147760" cy="1307880"/>
            <a:chOff x="452160" y="1704960"/>
            <a:chExt cx="2147760" cy="1307880"/>
          </a:xfrm>
        </p:grpSpPr>
        <p:sp>
          <p:nvSpPr>
            <p:cNvPr id="160" name=""/>
            <p:cNvSpPr/>
            <p:nvPr/>
          </p:nvSpPr>
          <p:spPr>
            <a:xfrm rot="12600000">
              <a:off x="1193040" y="2437920"/>
              <a:ext cx="1446120" cy="228600"/>
            </a:xfrm>
            <a:prstGeom prst="leftArrow">
              <a:avLst>
                <a:gd name="adj1" fmla="val 22611"/>
                <a:gd name="adj2" fmla="val 115039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2160" y="1704960"/>
              <a:ext cx="103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Refresh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nnota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4240" y="5867280"/>
            <a:ext cx="2388960" cy="489960"/>
            <a:chOff x="354240" y="5867280"/>
            <a:chExt cx="2388960" cy="489960"/>
          </a:xfrm>
        </p:grpSpPr>
        <p:sp>
          <p:nvSpPr>
            <p:cNvPr id="163" name=""/>
            <p:cNvSpPr/>
            <p:nvPr/>
          </p:nvSpPr>
          <p:spPr>
            <a:xfrm rot="10800000">
              <a:off x="1123920" y="6077880"/>
              <a:ext cx="1619280" cy="228600"/>
            </a:xfrm>
            <a:prstGeom prst="leftArrow">
              <a:avLst>
                <a:gd name="adj1" fmla="val 20833"/>
                <a:gd name="adj2" fmla="val 113171"/>
              </a:avLst>
            </a:prstGeom>
            <a:solidFill>
              <a:srgbClr val="000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" y="5867280"/>
              <a:ext cx="1023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Altern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Monaco"/>
                </a:rPr>
                <a:t>view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0200" y="2819520"/>
            <a:ext cx="2438280" cy="106668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3276720"/>
            <a:ext cx="2590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47160" y="4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Communit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9144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Multiple Artemi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705720" y="27432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914400" cy="809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1199880" cy="11923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191120" y="2057400"/>
            <a:ext cx="2209680" cy="4038480"/>
            <a:chOff x="4191120" y="2057400"/>
            <a:chExt cx="2209680" cy="4038480"/>
          </a:xfrm>
        </p:grpSpPr>
        <p:sp>
          <p:nvSpPr>
            <p:cNvPr id="174" name=""/>
            <p:cNvSpPr/>
            <p:nvPr/>
          </p:nvSpPr>
          <p:spPr>
            <a:xfrm>
              <a:off x="4191120" y="335268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2057400"/>
              <a:ext cx="0" cy="403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600" y="20574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0600" y="342900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00600" y="47242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6095880"/>
              <a:ext cx="160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105520" y="129528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5105520" y="2641680"/>
            <a:ext cx="914400" cy="71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7"/>
          <a:stretch/>
        </p:blipFill>
        <p:spPr>
          <a:xfrm>
            <a:off x="5105520" y="39369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8"/>
          <a:stretch/>
        </p:blipFill>
        <p:spPr>
          <a:xfrm>
            <a:off x="5105520" y="530856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1143000" y="1295280"/>
            <a:ext cx="2286000" cy="1444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640160" y="9907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Log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574640" y="1182600"/>
          <a:ext cx="5816880" cy="415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4640" y="1182600"/>
                    <a:ext cx="58168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851560" y="961920"/>
            <a:ext cx="390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aco"/>
              </a:rPr>
              <a:t>Software Downloa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922480"/>
            <a:ext cx="2438640" cy="1067040"/>
          </a:xfrm>
          <a:prstGeom prst="can">
            <a:avLst>
              <a:gd name="adj" fmla="val 25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379320"/>
            <a:ext cx="25905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82880" y="441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aco"/>
              </a:rPr>
              <a:t>Editing the Same 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990360" cy="990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705720" y="1798560"/>
            <a:ext cx="2147760" cy="793800"/>
          </a:xfrm>
          <a:prstGeom prst="rect">
            <a:avLst/>
          </a:prstGeom>
          <a:solidFill>
            <a:srgbClr val="c0c0c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:PFA0005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20034"/>
                </a:solidFill>
                <a:latin typeface="Arial"/>
              </a:rPr>
              <a:t>timelastmodifi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.08.2008 08:36:41 B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114800" y="1143000"/>
            <a:ext cx="914400" cy="71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399960" y="3886200"/>
            <a:ext cx="6381720" cy="2057400"/>
            <a:chOff x="399960" y="3886200"/>
            <a:chExt cx="6381720" cy="2057400"/>
          </a:xfrm>
        </p:grpSpPr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5581440" y="4751280"/>
              <a:ext cx="1200240" cy="119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4209840" y="5106960"/>
              <a:ext cx="914400" cy="711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5" name=""/>
            <p:cNvSpPr/>
            <p:nvPr/>
          </p:nvSpPr>
          <p:spPr>
            <a:xfrm>
              <a:off x="399960" y="4648320"/>
              <a:ext cx="297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optimistic version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Monaco"/>
                </a:rPr>
                <a:t>- warning already changed in the datab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3143160" y="3886200"/>
              <a:ext cx="838080" cy="990720"/>
            </a:xfrm>
            <a:prstGeom prst="line">
              <a:avLst/>
            </a:prstGeom>
            <a:ln w="114480">
              <a:solidFill>
                <a:srgbClr val="a2003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78480" y="3886200"/>
              <a:ext cx="19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: PFA0005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3047760" y="1980360"/>
            <a:ext cx="990360" cy="838440"/>
          </a:xfrm>
          <a:prstGeom prst="line">
            <a:avLst/>
          </a:prstGeom>
          <a:ln w="114480">
            <a:solidFill>
              <a:srgbClr val="a2003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3440" y="2362320"/>
            <a:ext cx="19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: PFA0005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Malaria Re-annotation Workshop (Oct 200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9840" y="17524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Used alpha-Artemis version in DB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30+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urse stress tested &amp; highlighted bug fixes &amp; improv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ost Cour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access via VPN connections &amp; launch Artemis with Java Web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ontinued in-house an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rites log to Sanger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127160"/>
            <a:ext cx="77724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Future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rtemis - chado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Software/Artemis/databas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itional gene builder functiona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maximise what can be done with 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e.g orthologue/paralogue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better conflict handling when commi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test and optimise for larger databa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multiple organis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492360" y="1773360"/>
            <a:ext cx="205920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equence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&amp; 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C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tin Asle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t Barr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er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Ulrike B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ö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a 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erdeño-Tárraga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isa Cross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Ga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Hol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 Peacock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ubert Renau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ohammed Sebaih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eorge Vernik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" y="3141720"/>
            <a:ext cx="1497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ie-Adè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   </a:t>
            </a: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ajandream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im Ca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Paul Moon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hinmay Pa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Nick P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drian Tiv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d Zuiderwij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80360" y="565200"/>
            <a:ext cx="14684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ren Mung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an Good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Zahra H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Heidi Ha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ndy Sa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rk Simm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nielle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379280" y="2133720"/>
            <a:ext cx="14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arbara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ndrew Bar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Louise Cla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raig Cor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ola Lenn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exandra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oug Or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79640" y="2565360"/>
            <a:ext cx="1450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Har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David Saun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Kathy Se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Robert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92600" y="549360"/>
            <a:ext cx="17960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arol Chu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ecky Atk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ren Brooks</a:t>
            </a: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Inna Chere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Tracey Chillingwor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ancy Haml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haron Mo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Brian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ally White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77840" y="3860640"/>
            <a:ext cx="185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Subcl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ike Quail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lair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Ester Rabbinowits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ohn Woodw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84320" y="5229360"/>
            <a:ext cx="16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Admin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ne Ne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95840" y="24444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44440" y="6191280"/>
            <a:ext cx="990720" cy="666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78160" y="6400800"/>
            <a:ext cx="57132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1187280" y="6238800"/>
            <a:ext cx="505080" cy="61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0" t="0" r="79689" b="16172"/>
          <a:stretch/>
        </p:blipFill>
        <p:spPr>
          <a:xfrm>
            <a:off x="1692360" y="6361200"/>
            <a:ext cx="685800" cy="496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834200" y="3284640"/>
            <a:ext cx="16088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l Iv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Gareth Bloom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Celine Carr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Theresa Feltw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ria Fook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Kay Jag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Matloob Qures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Jason Skel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80360" y="3789360"/>
            <a:ext cx="1763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Comparative 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ndrew Jack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Paul Sco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Helena Seth-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Alan Wal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2987640" y="6400800"/>
            <a:ext cx="762120" cy="3952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851280" cy="1432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7380360" y="5557680"/>
            <a:ext cx="1727280" cy="12560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57320" y="1374840"/>
            <a:ext cx="2161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  <a:ea typeface="Arial"/>
              </a:rPr>
              <a:t>Projec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Julian Parkh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Stephen Bentle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Matthew Berrim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Christiane Hertz-Fow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Arnab P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Arial"/>
                <a:ea typeface="Arial"/>
              </a:rPr>
              <a:t>Nick Thomson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8"/>
          <a:stretch/>
        </p:blipFill>
        <p:spPr>
          <a:xfrm>
            <a:off x="152280" y="5538960"/>
            <a:ext cx="4343400" cy="554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WHO logo">
            <a:hlinkClick r:id="rId9"/>
          </p:cNvPr>
          <p:cNvPicPr/>
          <p:nvPr/>
        </p:nvPicPr>
        <p:blipFill>
          <a:blip r:embed="rId10"/>
          <a:srcRect l="0" t="0" r="85872" b="0"/>
          <a:stretch/>
        </p:blipFill>
        <p:spPr>
          <a:xfrm>
            <a:off x="3792600" y="6237360"/>
            <a:ext cx="568440" cy="579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Department for Environment Food and Rural Affairs Logo">
            <a:hlinkClick r:id="rId11"/>
          </p:cNvPr>
          <p:cNvPicPr/>
          <p:nvPr/>
        </p:nvPicPr>
        <p:blipFill>
          <a:blip r:embed="rId12"/>
          <a:srcRect l="3417" t="3515" r="0" b="23541"/>
          <a:stretch/>
        </p:blipFill>
        <p:spPr>
          <a:xfrm>
            <a:off x="4368960" y="6381720"/>
            <a:ext cx="792000" cy="466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Trypanosoma brucei">
            <a:hlinkClick r:id="rId13"/>
          </p:cNvPr>
          <p:cNvPicPr/>
          <p:nvPr/>
        </p:nvPicPr>
        <p:blipFill>
          <a:blip r:embed="rId14"/>
          <a:srcRect l="0" t="0" r="0" b="18146"/>
          <a:stretch/>
        </p:blipFill>
        <p:spPr>
          <a:xfrm>
            <a:off x="3780000" y="189000"/>
            <a:ext cx="17287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99840" y="91440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</a:rPr>
              <a:t>Arte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NA sequence viewer and annotation too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MBL / Genbank / G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dit - sequence, contig order,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navi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overlay lin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- optionally view on separate tr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different levels of gran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run fasta/blastp sear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nalysis graphs (GC, GC skew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665280"/>
            <a:ext cx="3459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42464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58040" y="614988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PSU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9112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4920" y="502128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Annotat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221148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124080" y="2790720"/>
            <a:ext cx="2286000" cy="2239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98920" y="374184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Finish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934320" y="3657600"/>
            <a:ext cx="18777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09200" y="6461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ff"/>
                </a:solidFill>
                <a:latin typeface="Arial"/>
                <a:ea typeface="Arial"/>
              </a:rPr>
              <a:t>Database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26400">
            <a:off x="5181120" y="4570200"/>
            <a:ext cx="1036800" cy="460080"/>
          </a:xfrm>
          <a:custGeom>
            <a:avLst/>
            <a:gdLst>
              <a:gd name="textAreaLeft" fmla="*/ 129600 w 1036800"/>
              <a:gd name="textAreaRight" fmla="*/ 907200 w 1036800"/>
              <a:gd name="textAreaTop" fmla="*/ 114840 h 460080"/>
              <a:gd name="textAreaBottom" fmla="*/ 345240 h 46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 rot="2126400">
            <a:off x="2641680" y="29350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26400">
            <a:off x="1676160" y="2287440"/>
            <a:ext cx="349200" cy="155880"/>
          </a:xfrm>
          <a:custGeom>
            <a:avLst/>
            <a:gdLst>
              <a:gd name="textAreaLeft" fmla="*/ 43560 w 349200"/>
              <a:gd name="textAreaRight" fmla="*/ 305640 w 349200"/>
              <a:gd name="textAreaTop" fmla="*/ 38880 h 155880"/>
              <a:gd name="textAreaBottom" fmla="*/ 117000 h 15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57200" y="2971800"/>
            <a:ext cx="5699880" cy="3322080"/>
            <a:chOff x="457200" y="2971800"/>
            <a:chExt cx="5699880" cy="3322080"/>
          </a:xfrm>
        </p:grpSpPr>
        <p:sp>
          <p:nvSpPr>
            <p:cNvPr id="65" name=""/>
            <p:cNvSpPr/>
            <p:nvPr/>
          </p:nvSpPr>
          <p:spPr>
            <a:xfrm>
              <a:off x="457200" y="2971800"/>
              <a:ext cx="1484280" cy="3000240"/>
            </a:xfrm>
            <a:custGeom>
              <a:avLst/>
              <a:gdLst/>
              <a:ahLst/>
              <a:rect l="l" t="t" r="r" b="b"/>
              <a:pathLst>
                <a:path w="2400" h="2256">
                  <a:moveTo>
                    <a:pt x="384" y="0"/>
                  </a:moveTo>
                  <a:cubicBezTo>
                    <a:pt x="192" y="460"/>
                    <a:pt x="0" y="920"/>
                    <a:pt x="336" y="1296"/>
                  </a:cubicBezTo>
                  <a:cubicBezTo>
                    <a:pt x="672" y="1672"/>
                    <a:pt x="1536" y="1964"/>
                    <a:pt x="2400" y="225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21080400">
              <a:off x="3672000" y="5601960"/>
              <a:ext cx="2460600" cy="509400"/>
            </a:xfrm>
            <a:custGeom>
              <a:avLst/>
              <a:gdLst/>
              <a:ahLst/>
              <a:rect l="l" t="t" r="r" b="b"/>
              <a:pathLst>
                <a:path w="672" h="112">
                  <a:moveTo>
                    <a:pt x="0" y="96"/>
                  </a:moveTo>
                  <a:cubicBezTo>
                    <a:pt x="64" y="104"/>
                    <a:pt x="128" y="112"/>
                    <a:pt x="240" y="96"/>
                  </a:cubicBezTo>
                  <a:cubicBezTo>
                    <a:pt x="352" y="80"/>
                    <a:pt x="512" y="40"/>
                    <a:pt x="6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996840" cy="115704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1905120" y="3504960"/>
            <a:ext cx="1714320" cy="2972880"/>
            <a:chOff x="1905120" y="3504960"/>
            <a:chExt cx="1714320" cy="2972880"/>
          </a:xfrm>
        </p:grpSpPr>
        <p:sp>
          <p:nvSpPr>
            <p:cNvPr id="69" name=""/>
            <p:cNvSpPr/>
            <p:nvPr/>
          </p:nvSpPr>
          <p:spPr>
            <a:xfrm flipV="1">
              <a:off x="2739960" y="3504960"/>
              <a:ext cx="304920" cy="242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6"/>
            <a:srcRect l="0" t="0" r="26965" b="0"/>
            <a:stretch/>
          </p:blipFill>
          <p:spPr>
            <a:xfrm>
              <a:off x="3048120" y="5937120"/>
              <a:ext cx="57132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1905120" y="5943600"/>
              <a:ext cx="849240" cy="4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684160" y="601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787120" y="1523880"/>
            <a:ext cx="6204600" cy="1806120"/>
            <a:chOff x="2787120" y="1523880"/>
            <a:chExt cx="6204600" cy="1806120"/>
          </a:xfrm>
        </p:grpSpPr>
        <p:grpSp>
          <p:nvGrpSpPr>
            <p:cNvPr id="74" name=""/>
            <p:cNvGrpSpPr/>
            <p:nvPr/>
          </p:nvGrpSpPr>
          <p:grpSpPr>
            <a:xfrm>
              <a:off x="2787120" y="1523880"/>
              <a:ext cx="4567320" cy="968040"/>
              <a:chOff x="2787120" y="1523880"/>
              <a:chExt cx="4567320" cy="968040"/>
            </a:xfrm>
          </p:grpSpPr>
          <p:sp>
            <p:nvSpPr>
              <p:cNvPr id="75" name="">
                <a:hlinkClick r:id="rId8" action="ppaction://hlinksldjump"/>
              </p:cNvPr>
              <p:cNvSpPr/>
              <p:nvPr/>
            </p:nvSpPr>
            <p:spPr>
              <a:xfrm rot="20114400">
                <a:off x="2819160" y="205740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78760" y="1523880"/>
                <a:ext cx="37756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uence available on the We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 Blast search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41320" y="2422440"/>
              <a:ext cx="3650400" cy="907560"/>
              <a:chOff x="5341320" y="2422440"/>
              <a:chExt cx="3650400" cy="907560"/>
            </a:xfrm>
          </p:grpSpPr>
          <p:sp>
            <p:nvSpPr>
              <p:cNvPr id="78" name="">
                <a:hlinkClick r:id="rId9" action="ppaction://hlinksldjump"/>
              </p:cNvPr>
              <p:cNvSpPr/>
              <p:nvPr/>
            </p:nvSpPr>
            <p:spPr>
              <a:xfrm rot="20114400">
                <a:off x="5373360" y="2895480"/>
                <a:ext cx="685800" cy="304920"/>
              </a:xfrm>
              <a:custGeom>
                <a:avLst/>
                <a:gdLst>
                  <a:gd name="textAreaLeft" fmla="*/ 85680 w 685800"/>
                  <a:gd name="textAreaRight" fmla="*/ 600120 w 685800"/>
                  <a:gd name="textAreaTop" fmla="*/ 76320 h 304920"/>
                  <a:gd name="textAreaBottom" fmla="*/ 22896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135840" y="2422440"/>
                <a:ext cx="28558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DS predictions available on the Web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3520" y="833400"/>
            <a:ext cx="3776400" cy="533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0" t="0" r="0" b="273747"/>
          <a:stretch/>
        </p:blipFill>
        <p:spPr>
          <a:xfrm>
            <a:off x="4489560" y="985680"/>
            <a:ext cx="442584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39625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DNA sequence comparison vie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gions of similarity &amp;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nherits all of Artemis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can launch Artemis from 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010280" y="1066680"/>
            <a:ext cx="914040" cy="934920"/>
            <a:chOff x="7010280" y="1066680"/>
            <a:chExt cx="914040" cy="9349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701028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 flipH="1">
              <a:off x="7578360" y="1066680"/>
              <a:ext cx="345960" cy="93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882" t="6589" r="7088" b="7558"/>
          <a:stretch/>
        </p:blipFill>
        <p:spPr>
          <a:xfrm>
            <a:off x="388800" y="1219320"/>
            <a:ext cx="6932880" cy="5173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1008" t="6645" r="7088" b="7686"/>
          <a:stretch/>
        </p:blipFill>
        <p:spPr>
          <a:xfrm>
            <a:off x="390600" y="1225440"/>
            <a:ext cx="6916680" cy="5157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89360" y="3657600"/>
            <a:ext cx="155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bronchisep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9360" y="609588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ara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9720" y="114300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ff"/>
                </a:solidFill>
                <a:latin typeface="Arial"/>
              </a:rPr>
              <a:t>B. pertus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0480" y="318960"/>
            <a:ext cx="708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Chromosomal rearrangements in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  <a:ea typeface="Arial"/>
              </a:rPr>
              <a:t>Borde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1520" y="1447920"/>
            <a:ext cx="152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61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238 I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8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16720" y="39625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6324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2 IS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19:59Z</dcterms:created>
  <dc:creator>TJC</dc:creator>
  <dc:description/>
  <dc:language>en-US</dc:language>
  <cp:lastModifiedBy>Sanger Institute</cp:lastModifiedBy>
  <cp:lastPrinted>2008-02-15T11:23:55Z</cp:lastPrinted>
  <dcterms:modified xsi:type="dcterms:W3CDTF">2008-09-16T09:12:50Z</dcterms:modified>
  <cp:revision>111</cp:revision>
  <dc:subject/>
  <dc:title>PowerPoint Presentation</dc:title>
</cp:coreProperties>
</file>