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B9D94B-EB6C-4887-9B92-B0AFEF5DBB75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260360" y="801720"/>
            <a:ext cx="50403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1007640" y="5073840"/>
            <a:ext cx="5543640" cy="483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BF85-2E91-45D6-8D32-9D0B2CDC5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8045-1A5B-4218-BFF1-160098737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8FCB-F26B-48A8-8EED-B196CF96A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E0CA-24B9-4D7D-AED6-C65A1645B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B35D-3288-4D77-A5BB-5196F971B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8444-2928-4090-ABF3-FC75A0902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D469-8BAC-40E2-AE90-B72428928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3269-2E4A-44AD-95AB-42103B812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99E6-0679-4CB2-A3DD-8C01B9BB2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BE1D-9D4A-4F20-B017-FC91E281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DBC2-D44B-44EA-802B-11F196F6C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0BB5-AAEE-4151-9D63-8380B0D1F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129528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1727280" indent="-2160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0CA23A-5CC8-4F52-B1B0-7CA622BC1971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Syntenic Alignment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More is better......???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Issues with Syntenic Annotation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9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Navigation and Viewing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Selecting species/haplotypes/knockouts and  sections to work on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ultiple block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Find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View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27320" indent="-3204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ignment format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Dealing with all that data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We want to go from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90720" y="1763640"/>
            <a:ext cx="675000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19288" r="0" b="19288"/>
          <a:stretch/>
        </p:blipFill>
        <p:spPr>
          <a:xfrm>
            <a:off x="1998720" y="2700360"/>
            <a:ext cx="6342120" cy="32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maybe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79640" y="1979640"/>
            <a:ext cx="6378480" cy="473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or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40000" y="1979640"/>
            <a:ext cx="576720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Searching Multiple Region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11280" y="1800360"/>
            <a:ext cx="5327640" cy="54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94040" y="1800360"/>
            <a:ext cx="5744880" cy="53528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Window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Data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Chaining/Netting of Blastz results is some kind of current de facto standard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Volume of data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ove from “loading everything” to loading the minimum..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low user to choose areas of interest and load data within that area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