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8243-3401-478B-A4E7-2791CBA25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45DC-9C62-4106-9224-B700DC29E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C3F4-15E0-4D6E-8014-93DD07E61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5944-F360-4B0D-898D-D4FA00753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F4C9-4F4F-4D65-B286-E30FB8385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B5F8-E35A-44E6-A4C9-A768E34C1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C88E-1DF1-49DF-9481-84B73BF1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287A-23FB-40F2-8968-961395A46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90AD-4DEC-4B3A-921B-9155B0939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DDF8-6B99-4BFC-A291-C1275CFF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871A-DF9B-4C8A-9A1D-CD932B10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4C97-6056-4C76-A991-F0EE29A3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04DC-8747-437C-B81F-14AFE21A7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edb and other thing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Griffiths &amp; Rob C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ZMap client, like a Web Brows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dependent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ing arbitrary numbers of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h, blah, 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thread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thread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sons for using thr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multiple cpu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overlapp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tecture/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 int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ctors for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 must be respo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rs may take some time to send data, data will take some time to read/convert for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lib is not thre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s/subroutines for contacting servers are thread safe, e.g. system socket calls, Libcurl, expat, glib and other l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ggests a natural split into “GUI” vs. “server handling”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8000" y="1197000"/>
            <a:ext cx="7996320" cy="4319640"/>
          </a:xfrm>
          <a:custGeom>
            <a:avLst/>
            <a:gdLst/>
            <a:ahLst/>
            <a:rect l="l" t="t" r="r" b="b"/>
            <a:pathLst>
              <a:path w="5037" h="2721">
                <a:moveTo>
                  <a:pt x="0" y="635"/>
                </a:moveTo>
                <a:lnTo>
                  <a:pt x="0" y="1996"/>
                </a:lnTo>
                <a:lnTo>
                  <a:pt x="1633" y="1996"/>
                </a:lnTo>
                <a:lnTo>
                  <a:pt x="2585" y="2721"/>
                </a:lnTo>
                <a:lnTo>
                  <a:pt x="3538" y="2721"/>
                </a:lnTo>
                <a:lnTo>
                  <a:pt x="3538" y="2313"/>
                </a:lnTo>
                <a:lnTo>
                  <a:pt x="4944" y="2313"/>
                </a:lnTo>
                <a:lnTo>
                  <a:pt x="4944" y="1678"/>
                </a:lnTo>
                <a:lnTo>
                  <a:pt x="3538" y="1678"/>
                </a:lnTo>
                <a:lnTo>
                  <a:pt x="3538" y="635"/>
                </a:lnTo>
                <a:lnTo>
                  <a:pt x="3540" y="616"/>
                </a:lnTo>
                <a:lnTo>
                  <a:pt x="5037" y="622"/>
                </a:lnTo>
                <a:lnTo>
                  <a:pt x="5035" y="0"/>
                </a:lnTo>
                <a:lnTo>
                  <a:pt x="2449" y="0"/>
                </a:lnTo>
                <a:lnTo>
                  <a:pt x="1727" y="641"/>
                </a:lnTo>
                <a:lnTo>
                  <a:pt x="0" y="635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916280"/>
            <a:ext cx="1584000" cy="3241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1916280"/>
            <a:ext cx="3529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3933720"/>
            <a:ext cx="1800000" cy="1079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933720"/>
            <a:ext cx="1152360" cy="104292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7805880" cy="3959280"/>
          </a:xfrm>
          <a:custGeom>
            <a:avLst/>
            <a:gdLst/>
            <a:ahLst/>
            <a:rect l="l" t="t" r="r" b="b"/>
            <a:pathLst>
              <a:path w="4917" h="2494">
                <a:moveTo>
                  <a:pt x="0" y="0"/>
                </a:moveTo>
                <a:lnTo>
                  <a:pt x="0" y="2494"/>
                </a:lnTo>
                <a:lnTo>
                  <a:pt x="1406" y="2494"/>
                </a:lnTo>
                <a:lnTo>
                  <a:pt x="1406" y="1088"/>
                </a:lnTo>
                <a:lnTo>
                  <a:pt x="4899" y="1088"/>
                </a:lnTo>
                <a:lnTo>
                  <a:pt x="4917" y="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3716280"/>
            <a:ext cx="2376360" cy="1584360"/>
          </a:xfrm>
          <a:custGeom>
            <a:avLst/>
            <a:gdLst/>
            <a:ahLst/>
            <a:rect l="l" t="t" r="r" b="b"/>
            <a:pathLst>
              <a:path w="1497" h="998">
                <a:moveTo>
                  <a:pt x="0" y="0"/>
                </a:moveTo>
                <a:lnTo>
                  <a:pt x="0" y="998"/>
                </a:lnTo>
                <a:lnTo>
                  <a:pt x="1497" y="998"/>
                </a:lnTo>
                <a:lnTo>
                  <a:pt x="1497" y="0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2205000"/>
            <a:ext cx="1800360" cy="485640"/>
          </a:xfrm>
          <a:prstGeom prst="leftRightArrow">
            <a:avLst>
              <a:gd name="adj1" fmla="val 50000"/>
              <a:gd name="adj2" fmla="val 738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221000"/>
            <a:ext cx="1800360" cy="486000"/>
          </a:xfrm>
          <a:prstGeom prst="leftRightArrow">
            <a:avLst>
              <a:gd name="adj1" fmla="val 50000"/>
              <a:gd name="adj2" fmla="val 737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4221000"/>
            <a:ext cx="1150920" cy="486000"/>
          </a:xfrm>
          <a:prstGeom prst="leftRightArrow">
            <a:avLst>
              <a:gd name="adj1" fmla="val 50000"/>
              <a:gd name="adj2" fmla="val 471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even more detai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916280"/>
            <a:ext cx="1295280" cy="25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lib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p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1773360"/>
            <a:ext cx="1224000" cy="1296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1844640"/>
            <a:ext cx="1655640" cy="1152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437000"/>
            <a:ext cx="914400" cy="1657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960800"/>
            <a:ext cx="21607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60800"/>
            <a:ext cx="91440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d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220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179800"/>
            <a:ext cx="1265040" cy="485640"/>
          </a:xfrm>
          <a:prstGeom prst="rightArrow">
            <a:avLst>
              <a:gd name="adj1" fmla="val 50000"/>
              <a:gd name="adj2" fmla="val 651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833400" y="4790880"/>
            <a:ext cx="852480" cy="7192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14360 h 719280"/>
              <a:gd name="textAreaBottom" fmla="*/ 6163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7526000">
            <a:off x="2988360" y="3499560"/>
            <a:ext cx="719280" cy="486000"/>
          </a:xfrm>
          <a:prstGeom prst="rightArrow">
            <a:avLst>
              <a:gd name="adj1" fmla="val 50000"/>
              <a:gd name="adj2" fmla="val 37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20240" y="27082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5320" y="5608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7240" y="4365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Check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1800" y="36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30040" y="1647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D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your program with –pthreads so you get the thread safe versions of the system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the non-standard libraries you want to use with –pthreads (like my own acedb server connection package…si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out for glib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tand back and light the blue touch pap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have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threaded Z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an arbitrary number of threads associated with it, i.e. can contact an arbitrary number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the usual “stop”/”reload”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 runs against multiple acedb servers, soon to include DAS 2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b is working on the drawing but that’s another talk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Worm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Ha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other Sange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ew stuf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 is us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entral repository for worm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ool for “putting it all togeth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in annot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3500280"/>
            <a:ext cx="609480" cy="60984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628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708280"/>
            <a:ext cx="914400" cy="60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860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5084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443700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5373720"/>
            <a:ext cx="914400" cy="68580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2349360"/>
            <a:ext cx="649440" cy="100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340000" y="4221000"/>
            <a:ext cx="93672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050920" y="3933720"/>
            <a:ext cx="108108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997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851280" y="2276280"/>
            <a:ext cx="1081080" cy="1081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933720"/>
            <a:ext cx="2881080" cy="7905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221000"/>
            <a:ext cx="1584360" cy="1440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234936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67280" y="2781360"/>
            <a:ext cx="2881080" cy="79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3429000"/>
            <a:ext cx="914400" cy="6094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3789360"/>
            <a:ext cx="2952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744640"/>
            <a:ext cx="1800000" cy="1401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170028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ix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400536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2817720"/>
            <a:ext cx="914400" cy="1257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421000"/>
            <a:ext cx="914400" cy="204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59280" y="5229360"/>
            <a:ext cx="1942920" cy="1295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/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20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20364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9477200">
            <a:off x="6443280" y="270792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131200">
            <a:off x="6300360" y="400536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234600">
            <a:off x="1692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5516600">
            <a:off x="3104280" y="4303800"/>
            <a:ext cx="792360" cy="485640"/>
          </a:xfrm>
          <a:prstGeom prst="rightArrow">
            <a:avLst>
              <a:gd name="adj1" fmla="val 48694"/>
              <a:gd name="adj2" fmla="val 600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7613000">
            <a:off x="4874400" y="4402800"/>
            <a:ext cx="750960" cy="486000"/>
          </a:xfrm>
          <a:prstGeom prst="rightArrow">
            <a:avLst>
              <a:gd name="adj1" fmla="val 47435"/>
              <a:gd name="adj2" fmla="val 6775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us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’ve run out of memory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just make SMap do thi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ould be nice if FMap could…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, start smoking today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tuf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otation, annotation, annot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Map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haps most used component of ace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annotation tool for man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with blixem/dotter/genefinder and of course the underlying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s tied to Aced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ap aim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 client/server version of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n annotation client that is not tied to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generally supported data format such as DAS 2, Otter or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tain the good bits of FMap but junk some of the irritating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9:56:09Z</dcterms:created>
  <dc:creator>Griffiths</dc:creator>
  <dc:description/>
  <dc:language>en-US</dc:language>
  <cp:lastModifiedBy>Griffiths</cp:lastModifiedBy>
  <dcterms:modified xsi:type="dcterms:W3CDTF">2004-03-16T10:41:06Z</dcterms:modified>
  <cp:revision>34</cp:revision>
  <dc:subject/>
  <dc:title>Acedb – SMap, GFF(2/3), ZMap, DAS 2….</dc:title>
</cp:coreProperties>
</file>