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488D-F381-4B17-BC19-22FCB5011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0BA1-0CDA-4E3B-A38E-B67881FD9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E560-DD58-4F9A-B1D1-1DFE8DC15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978B-845F-4DC5-BDDF-C418E4E39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FCC7-FCDA-454F-9A53-776586D0F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0EBD-22F0-4E6A-B6F1-C800BB5B7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0E27-35D2-461A-979E-C3B30CF30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6DE7-66F7-419A-9C97-E619BA57C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609D-2060-431C-863A-BC807AF78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8E9F-6462-46EA-8D26-BAB9ED3E5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9304-C9D2-483F-B8EC-EE0743503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372A-5DA5-4530-B14D-2A65F4F75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A217B-479D-479D-A9BD-B1389759AC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 usage exam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temis/acedb GFF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0T08:40:26Z</dcterms:created>
  <dc:creator>Genome Research</dc:creator>
  <dc:description/>
  <dc:language>en-US</dc:language>
  <cp:lastModifiedBy>Genome Research</cp:lastModifiedBy>
  <dcterms:modified xsi:type="dcterms:W3CDTF">2008-09-10T08:41:45Z</dcterms:modified>
  <cp:revision>1</cp:revision>
  <dc:subject/>
  <dc:title>Summary…</dc:title>
</cp:coreProperties>
</file>