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BD4BD1-44B5-4E4E-B5CC-7C6149EC4CF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D661D5-5394-432A-90B7-592D956C1F7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9D7F7D-B930-49CA-B2CC-C028DDC49E5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778DB7-29F2-435B-8819-9A63BA75279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AED03E-3133-4387-8863-30F994AD5C8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137C57-1CD5-4460-AC16-150A1960AEB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369FCF-E984-46F9-B5EA-11F24FACDF0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21E4FA-1F8C-4BE1-B830-A7D4315A4A5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3C4F35-CE84-49A9-9284-4B9AB5F4073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A76AF7-88F3-4353-865D-8487057DF3B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86BDBF-6463-4080-A07A-92CCCAFEC07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7EC413-D3E0-4BEA-9C7C-8D371E67D11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1576B-3ABE-4C3E-8332-6C1E80E84A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CFE8A-FB2D-4600-8F35-797525D60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4DDF0-3299-40E6-8756-03E62568D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9ED4E-3473-4CEC-8E73-E323C3BB0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4B19F-4BCE-4544-A8A8-81CD2068E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529FA-0BEA-4BE0-9EF9-8498E6CB5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EF01E-8B7E-4326-A96A-80B010ABD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B1416-D994-4E05-AC30-73800F5A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1EC93-E8A5-47DE-8AF9-068634939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45075-0276-4266-AC64-0CDFB02C0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C3DAF-4500-4C52-AE83-5636BAF0C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181E-506F-428B-B68B-8EA55A56A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D285-21A3-4B9F-816D-18DD4B6011D2}" type="datetime">
              <a:rPr b="1" lang="en-US" sz="1200" spc="-1" strike="noStrike">
                <a:solidFill>
                  <a:srgbClr val="898989"/>
                </a:solidFill>
                <a:latin typeface="Arial"/>
              </a:rPr>
              <a:t>07/28/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2946-1EBD-4F47-B2E6-906EF90A337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