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FB92B-582B-4827-802E-1C66C94E0F4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F1279-EC14-4374-A06B-5F27CC305B6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C6863-0D36-4DC5-B822-43A1BA3CB3A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9A984-0769-408A-9845-BBD78B4F660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07CAF-130A-43DB-9188-333F6A55F0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42C8B-F5A4-4E25-94A9-05E743300BD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0E769-130B-4156-A30F-0012389122D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8BCA7-48FA-4D8E-B14D-A79D3F38A79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32BCB-3BCE-47CE-9725-DAD1787CDEE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0555B-BAAA-4D40-973F-5C5C72D2E99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363D9-2A41-4F7F-8354-D698AFAE802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E20C3-D6E7-4D82-882D-87E3A4753F0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7605A-5DC2-420B-A1D5-0B49A815AED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91095-FAF1-42C9-808C-7DECCC14154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2CEB3-738E-4D8C-BDA9-25CF69AEE6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A4590-37E9-4E27-B9A4-56AD2F1ED84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F5376-934E-4602-86A9-A1F01B0A624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2CCBB-02AE-4011-A03C-C478EC5894B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754C3-0858-4B31-A72C-8E3B6FDC055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FCE48-8D74-48EC-B096-710ED075CC1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18B1F-BA36-4E9E-B510-1B53E2B2DBA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61F3A-66F2-446D-8722-C7924A0F15A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1DA65-02D2-46F8-A3E0-05EEEFB43E5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05CC2-3728-4795-8B4E-16A768E474F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25600" indent="0" algn="ctr"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39243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60880" indent="0" algn="ctr">
              <a:spcBef>
                <a:spcPts val="201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5562720" y="5499000"/>
            <a:ext cx="3606840" cy="1054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057720" y="2158920"/>
            <a:ext cx="311148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6000"/>
          </a:bodyPr>
          <a:p>
            <a:pPr marL="38952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2424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8506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07676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7734240" y="603252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266760" indent="0">
              <a:lnSpc>
                <a:spcPct val="133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1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2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3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4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5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6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body"/>
          </p:nvPr>
        </p:nvSpPr>
        <p:spPr>
          <a:xfrm>
            <a:off x="990360" y="9903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560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66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6172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45656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1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172F7-4488-4F37-A694-BC0615B8DAE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2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13C39-98AC-4E86-B233-CE2B2B7EA61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66816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054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33164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70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9512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44600" y="1104840"/>
            <a:ext cx="4635360" cy="25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44600" y="3746160"/>
            <a:ext cx="463536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grg@sanger.ac.uk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61760" y="711000"/>
            <a:ext cx="8623080" cy="25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The otterlace / Zmap annotation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29760" y="3594240"/>
            <a:ext cx="4305240" cy="15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James Gilber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jgrg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"/>
          <p:cNvSpPr/>
          <p:nvPr/>
        </p:nvSpPr>
        <p:spPr>
          <a:xfrm>
            <a:off x="4876920" y="3594240"/>
            <a:ext cx="480060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Ed Griffith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Monaco"/>
                <a:ea typeface="Monaco"/>
                <a:hlinkClick r:id="rId1"/>
              </a:rPr>
              <a:t>edgrif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</a:rPr>
              <a:t>Data concerns</a:t>
            </a:r>
            <a:endParaRPr b="0" lang="en-US" sz="48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799920" y="1942920"/>
            <a:ext cx="8559720" cy="468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enome assembly vers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-map between assemblies using Ensembl projection AP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nnot interrogate DAS sources for assembly vers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too much data to present to the annotato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one based analysis pipeline has disadvantag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 not have smart filtering method (retained introns win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ynamic loading of subsets of the dat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Software Concerns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moribun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sed by otterlace, replacing would be costl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tk Canvas choic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Zmap uses Foo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tk will (eventually) choose a generic 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MVC mode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Will not need to deal with 32k viewpor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ll be an expensive replacement to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emo here?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omponents of</a:t>
            </a:r>
            <a:br>
              <a:rPr sz="6400"/>
            </a:b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otterlace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 – Ensembl database of manual gene annotations from the HAVANA group (otter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– control and editi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 – acedb local database storage (lac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/Gtk – Zmap feature displa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6520" y="228600"/>
            <a:ext cx="4280040" cy="10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ata flow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5486400" y="228600"/>
            <a:ext cx="1433520" cy="1293840"/>
            <a:chOff x="5486400" y="228600"/>
            <a:chExt cx="1433520" cy="1293840"/>
          </a:xfrm>
        </p:grpSpPr>
        <p:sp>
          <p:nvSpPr>
            <p:cNvPr id="583" name=""/>
            <p:cNvSpPr/>
            <p:nvPr/>
          </p:nvSpPr>
          <p:spPr>
            <a:xfrm>
              <a:off x="5486400" y="2286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486400" y="4316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5774760" y="825480"/>
            <a:ext cx="86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558720" y="3416400"/>
            <a:ext cx="1433520" cy="1293840"/>
            <a:chOff x="558720" y="3416400"/>
            <a:chExt cx="1433520" cy="1293840"/>
          </a:xfrm>
        </p:grpSpPr>
        <p:sp>
          <p:nvSpPr>
            <p:cNvPr id="587" name=""/>
            <p:cNvSpPr/>
            <p:nvPr/>
          </p:nvSpPr>
          <p:spPr>
            <a:xfrm>
              <a:off x="558720" y="34164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58720" y="36194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665280" y="38354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"/>
          <p:cNvSpPr/>
          <p:nvPr/>
        </p:nvSpPr>
        <p:spPr>
          <a:xfrm>
            <a:off x="3378240" y="4737240"/>
            <a:ext cx="127008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"/>
          <p:cNvSpPr/>
          <p:nvPr/>
        </p:nvSpPr>
        <p:spPr>
          <a:xfrm>
            <a:off x="3504240" y="4978440"/>
            <a:ext cx="1037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pach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cript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558720" y="5041800"/>
            <a:ext cx="1433520" cy="1293840"/>
            <a:chOff x="558720" y="5041800"/>
            <a:chExt cx="1433520" cy="1293840"/>
          </a:xfrm>
        </p:grpSpPr>
        <p:sp>
          <p:nvSpPr>
            <p:cNvPr id="593" name=""/>
            <p:cNvSpPr/>
            <p:nvPr/>
          </p:nvSpPr>
          <p:spPr>
            <a:xfrm>
              <a:off x="558720" y="50418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58720" y="52448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558720" y="1866960"/>
            <a:ext cx="1433520" cy="1293840"/>
            <a:chOff x="558720" y="1866960"/>
            <a:chExt cx="1433520" cy="1293840"/>
          </a:xfrm>
        </p:grpSpPr>
        <p:sp>
          <p:nvSpPr>
            <p:cNvPr id="596" name=""/>
            <p:cNvSpPr/>
            <p:nvPr/>
          </p:nvSpPr>
          <p:spPr>
            <a:xfrm>
              <a:off x="558720" y="186696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58720" y="207000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665280" y="54608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"/>
          <p:cNvSpPr/>
          <p:nvPr/>
        </p:nvSpPr>
        <p:spPr>
          <a:xfrm>
            <a:off x="8115480" y="2006640"/>
            <a:ext cx="1269720" cy="1270080"/>
          </a:xfrm>
          <a:custGeom>
            <a:avLst/>
            <a:gdLst>
              <a:gd name="textAreaLeft" fmla="*/ 55800 w 1269720"/>
              <a:gd name="textAreaRight" fmla="*/ 1213920 w 1269720"/>
              <a:gd name="textAreaTop" fmla="*/ 55800 h 1270080"/>
              <a:gd name="textAreaBottom" fmla="*/ 1214280 h 1270080"/>
            </a:gdLst>
            <a:ahLst/>
            <a:rect l="textAreaLeft" t="textAreaTop" r="textAreaRight" b="textAreaBottom"/>
            <a:pathLst>
              <a:path w="21600" h="21606">
                <a:moveTo>
                  <a:pt x="3240" y="0"/>
                </a:moveTo>
                <a:arcTo wR="3240" hR="3240" stAng="16200000" swAng="-5400000"/>
                <a:lnTo>
                  <a:pt x="0" y="18366"/>
                </a:lnTo>
                <a:arcTo wR="3240" hR="3240" stAng="10800000" swAng="-5400000"/>
                <a:lnTo>
                  <a:pt x="18360" y="21606"/>
                </a:lnTo>
                <a:arcTo wR="3240" hR="3240" stAng="5400000" swAng="-5400000"/>
                <a:lnTo>
                  <a:pt x="21600" y="3240"/>
                </a:lnTo>
                <a:arcTo wR="3240" hR="3240" stAng="0" swAng="-5400000"/>
                <a:close/>
              </a:path>
            </a:pathLst>
          </a:cu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"/>
          <p:cNvSpPr/>
          <p:nvPr/>
        </p:nvSpPr>
        <p:spPr>
          <a:xfrm>
            <a:off x="8350920" y="2438280"/>
            <a:ext cx="817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"/>
          <p:cNvSpPr/>
          <p:nvPr/>
        </p:nvSpPr>
        <p:spPr>
          <a:xfrm>
            <a:off x="8115480" y="4737240"/>
            <a:ext cx="126972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"/>
          <p:cNvSpPr/>
          <p:nvPr/>
        </p:nvSpPr>
        <p:spPr>
          <a:xfrm>
            <a:off x="8123760" y="5168880"/>
            <a:ext cx="1271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lac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7060680" y="2895480"/>
            <a:ext cx="69876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"/>
          <p:cNvSpPr/>
          <p:nvPr/>
        </p:nvSpPr>
        <p:spPr>
          <a:xfrm flipH="1" flipV="1">
            <a:off x="2247480" y="4419720"/>
            <a:ext cx="787320" cy="3175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2305080" y="5753160"/>
            <a:ext cx="73008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"/>
          <p:cNvSpPr/>
          <p:nvPr/>
        </p:nvSpPr>
        <p:spPr>
          <a:xfrm flipH="1" flipV="1">
            <a:off x="2158920" y="3187800"/>
            <a:ext cx="1130400" cy="12571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5052600" y="5753160"/>
            <a:ext cx="277020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8" name=""/>
          <p:cNvSpPr/>
          <p:nvPr/>
        </p:nvSpPr>
        <p:spPr>
          <a:xfrm flipH="1" flipV="1">
            <a:off x="6997320" y="3847680"/>
            <a:ext cx="825480" cy="8002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8763120" y="3503160"/>
            <a:ext cx="0" cy="10558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"/>
          <p:cNvSpPr/>
          <p:nvPr/>
        </p:nvSpPr>
        <p:spPr>
          <a:xfrm>
            <a:off x="8026560" y="1168560"/>
            <a:ext cx="1460520" cy="4952880"/>
          </a:xfrm>
          <a:custGeom>
            <a:avLst/>
            <a:gdLst>
              <a:gd name="textAreaLeft" fmla="*/ 55800 w 1460520"/>
              <a:gd name="textAreaRight" fmla="*/ 1404720 w 1460520"/>
              <a:gd name="textAreaTop" fmla="*/ 55800 h 4952880"/>
              <a:gd name="textAreaBottom" fmla="*/ 4897080 h 4952880"/>
            </a:gdLst>
            <a:ahLst/>
            <a:rect l="textAreaLeft" t="textAreaTop" r="textAreaRight" b="textAreaBottom"/>
            <a:pathLst>
              <a:path w="21600" h="73237">
                <a:moveTo>
                  <a:pt x="2817" y="0"/>
                </a:moveTo>
                <a:arcTo wR="2817" hR="2817" stAng="16200000" swAng="-5400000"/>
                <a:lnTo>
                  <a:pt x="0" y="70420"/>
                </a:lnTo>
                <a:arcTo wR="2817" hR="2817" stAng="10800000" swAng="-5400000"/>
                <a:lnTo>
                  <a:pt x="18783" y="73237"/>
                </a:lnTo>
                <a:arcTo wR="2817" hR="2817" stAng="5400000" swAng="-5400000"/>
                <a:lnTo>
                  <a:pt x="21600" y="2817"/>
                </a:lnTo>
                <a:arcTo wR="2817" hR="2817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"/>
          <p:cNvSpPr/>
          <p:nvPr/>
        </p:nvSpPr>
        <p:spPr>
          <a:xfrm>
            <a:off x="8472240" y="1422360"/>
            <a:ext cx="54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2" name=""/>
          <p:cNvSpPr/>
          <p:nvPr/>
        </p:nvSpPr>
        <p:spPr>
          <a:xfrm>
            <a:off x="722880" y="2247840"/>
            <a:ext cx="1111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D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ourc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"/>
          <p:cNvSpPr/>
          <p:nvPr/>
        </p:nvSpPr>
        <p:spPr>
          <a:xfrm>
            <a:off x="5078520" y="4127400"/>
            <a:ext cx="2273040" cy="1308240"/>
          </a:xfrm>
          <a:prstGeom prst="pie">
            <a:avLst/>
          </a:pr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4" name=""/>
          <p:cNvSpPr/>
          <p:nvPr/>
        </p:nvSpPr>
        <p:spPr>
          <a:xfrm>
            <a:off x="5575320" y="2438280"/>
            <a:ext cx="1270080" cy="127008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"/>
          <p:cNvSpPr/>
          <p:nvPr/>
        </p:nvSpPr>
        <p:spPr>
          <a:xfrm>
            <a:off x="5756400" y="2705040"/>
            <a:ext cx="900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"/>
          <p:cNvSpPr/>
          <p:nvPr/>
        </p:nvSpPr>
        <p:spPr>
          <a:xfrm>
            <a:off x="8221320" y="3797280"/>
            <a:ext cx="10753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X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"/>
          <p:cNvSpPr/>
          <p:nvPr/>
        </p:nvSpPr>
        <p:spPr>
          <a:xfrm>
            <a:off x="6137280" y="5524560"/>
            <a:ext cx="5965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"/>
          <p:cNvSpPr/>
          <p:nvPr/>
        </p:nvSpPr>
        <p:spPr>
          <a:xfrm>
            <a:off x="5649840" y="4648320"/>
            <a:ext cx="195156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 / conver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6222960" y="1674720"/>
            <a:ext cx="0" cy="64944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"/>
          <p:cNvSpPr/>
          <p:nvPr/>
        </p:nvSpPr>
        <p:spPr>
          <a:xfrm>
            <a:off x="380880" y="1650960"/>
            <a:ext cx="4496040" cy="4864320"/>
          </a:xfrm>
          <a:custGeom>
            <a:avLst/>
            <a:gdLst>
              <a:gd name="textAreaLeft" fmla="*/ 55440 w 4496040"/>
              <a:gd name="textAreaRight" fmla="*/ 4440600 w 4496040"/>
              <a:gd name="textAreaTop" fmla="*/ 55440 h 4864320"/>
              <a:gd name="textAreaBottom" fmla="*/ 4808880 h 4864320"/>
            </a:gdLst>
            <a:ahLst/>
            <a:rect l="textAreaLeft" t="textAreaTop" r="textAreaRight" b="textAreaBottom"/>
            <a:pathLst>
              <a:path w="21600" h="23369">
                <a:moveTo>
                  <a:pt x="915" y="0"/>
                </a:moveTo>
                <a:arcTo wR="915" hR="915" stAng="16200000" swAng="-5400000"/>
                <a:lnTo>
                  <a:pt x="0" y="22454"/>
                </a:lnTo>
                <a:arcTo wR="915" hR="915" stAng="10800000" swAng="-5400000"/>
                <a:lnTo>
                  <a:pt x="20685" y="23369"/>
                </a:lnTo>
                <a:arcTo wR="915" hR="915" stAng="5400000" swAng="-5400000"/>
                <a:lnTo>
                  <a:pt x="21600" y="915"/>
                </a:lnTo>
                <a:arcTo wR="915" hR="91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"/>
          <p:cNvSpPr/>
          <p:nvPr/>
        </p:nvSpPr>
        <p:spPr>
          <a:xfrm>
            <a:off x="3554280" y="1866960"/>
            <a:ext cx="1113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  <a:ea typeface="ヒラギノ角ゴ Pro W3"/>
              </a:rPr>
              <a:t>otterlace ⇔ Zmap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23" name=""/>
          <p:cNvSpPr/>
          <p:nvPr/>
        </p:nvSpPr>
        <p:spPr>
          <a:xfrm>
            <a:off x="774720" y="2590920"/>
            <a:ext cx="208296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"/>
          <p:cNvSpPr/>
          <p:nvPr/>
        </p:nvSpPr>
        <p:spPr>
          <a:xfrm>
            <a:off x="6743880" y="2590920"/>
            <a:ext cx="252720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5" name=""/>
          <p:cNvSpPr/>
          <p:nvPr/>
        </p:nvSpPr>
        <p:spPr>
          <a:xfrm>
            <a:off x="1095120" y="301320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6" name=""/>
          <p:cNvSpPr/>
          <p:nvPr/>
        </p:nvSpPr>
        <p:spPr>
          <a:xfrm>
            <a:off x="6976080" y="3073320"/>
            <a:ext cx="2062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X11::X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"/>
          <p:cNvSpPr/>
          <p:nvPr/>
        </p:nvSpPr>
        <p:spPr>
          <a:xfrm>
            <a:off x="4155120" y="3962520"/>
            <a:ext cx="1252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Monaco"/>
                <a:ea typeface="Monaco"/>
              </a:rPr>
              <a:t>X-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3072960" y="30607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"/>
          <p:cNvSpPr/>
          <p:nvPr/>
        </p:nvSpPr>
        <p:spPr>
          <a:xfrm>
            <a:off x="3111480" y="3784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0" name=""/>
          <p:cNvSpPr/>
          <p:nvPr/>
        </p:nvSpPr>
        <p:spPr>
          <a:xfrm>
            <a:off x="3770280" y="2590920"/>
            <a:ext cx="2901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perl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"/>
          <p:cNvSpPr/>
          <p:nvPr/>
        </p:nvSpPr>
        <p:spPr>
          <a:xfrm>
            <a:off x="3014280" y="33148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3072960" y="56293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"/>
          <p:cNvSpPr/>
          <p:nvPr/>
        </p:nvSpPr>
        <p:spPr>
          <a:xfrm>
            <a:off x="3111480" y="4981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4" name=""/>
          <p:cNvSpPr/>
          <p:nvPr/>
        </p:nvSpPr>
        <p:spPr>
          <a:xfrm>
            <a:off x="4804920" y="51562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"/>
          <p:cNvSpPr/>
          <p:nvPr/>
        </p:nvSpPr>
        <p:spPr>
          <a:xfrm>
            <a:off x="2955240" y="4508640"/>
            <a:ext cx="308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zmap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"/>
          <p:cNvSpPr/>
          <p:nvPr/>
        </p:nvSpPr>
        <p:spPr>
          <a:xfrm>
            <a:off x="6784560" y="468648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T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flexible / extensible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8178840" cy="467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way communication via X server atom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tensible xml format langua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ssion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initialisation / termination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teractive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highlighting features, cut / paste of feature data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add, modify, delete featur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1668600" y="1951200"/>
            <a:ext cx="6921360" cy="5244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40" name=""/>
          <p:cNvGrpSpPr/>
          <p:nvPr/>
        </p:nvGrpSpPr>
        <p:grpSpPr>
          <a:xfrm>
            <a:off x="214200" y="1009440"/>
            <a:ext cx="1703520" cy="1041480"/>
            <a:chOff x="214200" y="1009440"/>
            <a:chExt cx="1703520" cy="1041480"/>
          </a:xfrm>
        </p:grpSpPr>
        <p:sp>
          <p:nvSpPr>
            <p:cNvPr id="641" name=""/>
            <p:cNvSpPr/>
            <p:nvPr/>
          </p:nvSpPr>
          <p:spPr>
            <a:xfrm>
              <a:off x="254160" y="1015920"/>
              <a:ext cx="1663560" cy="10350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14200" y="1009440"/>
              <a:ext cx="109476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or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8137440" y="1009440"/>
            <a:ext cx="1514160" cy="1073160"/>
            <a:chOff x="8137440" y="1009440"/>
            <a:chExt cx="1514160" cy="1073160"/>
          </a:xfrm>
        </p:grpSpPr>
        <p:sp>
          <p:nvSpPr>
            <p:cNvPr id="644" name=""/>
            <p:cNvSpPr/>
            <p:nvPr/>
          </p:nvSpPr>
          <p:spPr>
            <a:xfrm>
              <a:off x="8137440" y="1015920"/>
              <a:ext cx="1514160" cy="10666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649000" y="1009440"/>
              <a:ext cx="9882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display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221040" y="2787480"/>
            <a:ext cx="1855440" cy="686520"/>
            <a:chOff x="221040" y="2787480"/>
            <a:chExt cx="1855440" cy="686520"/>
          </a:xfrm>
        </p:grpSpPr>
        <p:sp>
          <p:nvSpPr>
            <p:cNvPr id="647" name=""/>
            <p:cNvSpPr/>
            <p:nvPr/>
          </p:nvSpPr>
          <p:spPr>
            <a:xfrm>
              <a:off x="254160" y="2793960"/>
              <a:ext cx="1822320" cy="6732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21040" y="2787480"/>
              <a:ext cx="108108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ndow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235080" y="4317840"/>
            <a:ext cx="1761840" cy="1866960"/>
            <a:chOff x="235080" y="4317840"/>
            <a:chExt cx="1761840" cy="1866960"/>
          </a:xfrm>
        </p:grpSpPr>
        <p:sp>
          <p:nvSpPr>
            <p:cNvPr id="650" name=""/>
            <p:cNvSpPr/>
            <p:nvPr/>
          </p:nvSpPr>
          <p:spPr>
            <a:xfrm>
              <a:off x="254160" y="4317840"/>
              <a:ext cx="1742760" cy="186696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35080" y="4444560"/>
              <a:ext cx="1135800" cy="16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t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6099120" y="3468600"/>
            <a:ext cx="4073400" cy="2373120"/>
            <a:chOff x="6099120" y="3468600"/>
            <a:chExt cx="4073400" cy="2373120"/>
          </a:xfrm>
        </p:grpSpPr>
        <p:sp>
          <p:nvSpPr>
            <p:cNvPr id="653" name=""/>
            <p:cNvSpPr/>
            <p:nvPr/>
          </p:nvSpPr>
          <p:spPr>
            <a:xfrm>
              <a:off x="6099120" y="3468600"/>
              <a:ext cx="3975120" cy="2373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619120" y="5115960"/>
              <a:ext cx="15534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Highligh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990720" y="279360"/>
            <a:ext cx="81788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Finding Stuff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2120760" y="1943280"/>
            <a:ext cx="5289840" cy="48272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57" name=""/>
          <p:cNvGrpSpPr/>
          <p:nvPr/>
        </p:nvGrpSpPr>
        <p:grpSpPr>
          <a:xfrm>
            <a:off x="6945480" y="3390840"/>
            <a:ext cx="2874960" cy="1292400"/>
            <a:chOff x="6945480" y="3390840"/>
            <a:chExt cx="2874960" cy="1292400"/>
          </a:xfrm>
        </p:grpSpPr>
        <p:sp>
          <p:nvSpPr>
            <p:cNvPr id="658" name=""/>
            <p:cNvSpPr/>
            <p:nvPr/>
          </p:nvSpPr>
          <p:spPr>
            <a:xfrm>
              <a:off x="6945480" y="3390840"/>
              <a:ext cx="2874960" cy="12924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361720" y="3422160"/>
              <a:ext cx="130824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hol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ranscript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254160" y="2882880"/>
            <a:ext cx="3787560" cy="692280"/>
            <a:chOff x="254160" y="2882880"/>
            <a:chExt cx="3787560" cy="692280"/>
          </a:xfrm>
        </p:grpSpPr>
        <p:sp>
          <p:nvSpPr>
            <p:cNvPr id="661" name=""/>
            <p:cNvSpPr/>
            <p:nvPr/>
          </p:nvSpPr>
          <p:spPr>
            <a:xfrm>
              <a:off x="254160" y="2882880"/>
              <a:ext cx="3787560" cy="6922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81560" y="3028680"/>
              <a:ext cx="55080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op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507960" y="5168880"/>
            <a:ext cx="3564000" cy="735120"/>
            <a:chOff x="507960" y="5168880"/>
            <a:chExt cx="3564000" cy="735120"/>
          </a:xfrm>
        </p:grpSpPr>
        <p:sp>
          <p:nvSpPr>
            <p:cNvPr id="664" name=""/>
            <p:cNvSpPr/>
            <p:nvPr/>
          </p:nvSpPr>
          <p:spPr>
            <a:xfrm>
              <a:off x="507960" y="5168880"/>
              <a:ext cx="3564000" cy="735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67440" y="5314680"/>
              <a:ext cx="103392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botto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1432440" y="631080"/>
            <a:ext cx="72824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Multiple window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1625760" y="1625760"/>
            <a:ext cx="6910200" cy="5163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668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Displaying Matche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Syntenic Region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1905120" y="1790640"/>
            <a:ext cx="6354720" cy="531360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