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455A-614E-4F64-AD6B-ADB2F3810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0111-A538-4036-A960-2188D4A81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D62E-2E97-49F4-B5B4-4455A31CB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A62C-1A76-4DD8-BA51-0DE37E3FA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774E-41DC-425D-8456-99A748938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E302-AE92-4693-AB94-668ADA23E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0E8E-76F3-4DC6-8AA0-A5B758B7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753A-AF2D-4DD9-9F07-B269C2434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12DB-08E6-4B06-808F-FD55E535D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A8EF-DA01-416E-AAE6-64EDCF30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9241-C3B5-4A92-9992-26D96912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2EF8-53B5-4A9E-B96B-A79EF031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9EFDC-B662-413E-ADB2-A69AF705F7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DA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ew good days in Cape T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basic http commands naturally f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– gets data from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– add new data, modify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– augment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– deletes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 – server that supports DA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 – keyword causing http server to call DAS2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 -  DAS 2 request in URL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URL 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das/source/version/namespac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xamples (all use http GE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sources (e.g. gen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versions of 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meta-info/namespaces for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everything in a name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“gene”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gene 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ly there are the following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elist –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ylesheet – detailed description of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ature – genomic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quence – and and protein 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ion – genomic features by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wormbase/1/typelis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"http://localhost/das/wormbase/1/stylesheet/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thod_ontology="http://song.sourceforge.net/ontologies/sofa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Sequence:tRNAscan-SE-1.11" method="Sequence" source="tRNAscan-SE-1.11"&gt;TRNAscan-SE-1.11 Sequenc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curated" method="gene" source="curated"&gt;Curated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RNA" method="gene" source="RNA"&gt;RNA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framework" method="gene" source="framework"&gt;Framework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curated" method="transcript" source="curated"&gt;Curated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RNA" method="transcript" source="RNA"&gt;RNA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coding_test:curated" method="coding_test" source="curated"&gt;Curated coding_tes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NDB_CDSl" method="transcript" source="NDB_CDSl"&gt;NDB_CDSl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WABA_briggsae_cosmid" method="alignment" source="WABA_briggsae_cosmid"&gt;WABA_briggsae_cosmid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BEST" method="alignment" source="BLAT_EST_BEST"&gt;BLAT_EST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OTHER" method="alignment" source="BLAT_EST_OTHER"&gt;BLAT_EST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BEST" method="alignment" source="BLAT_mRNA_BEST"&gt;BLAT_mRNA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OTHER" method="alignment" source="BLAT_mRNA_OTHER"&gt;BLAT_mRNA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erimental:RNAi" method="experimental" source="RNAi"&gt;RNAi experimental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ression:Expr_profile" method="Expression" source="Expr_profile"&gt;Expr_profile Expression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TYP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mo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das/wormbase/1/stylesheet/Sequence:tRNAscan-SE-1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TYLE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:base="http://localhost/das/wormbase/1/stylesheet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YPE id="Sequence:tRNAscan-SE-1.11" xml:base="http://localhost/das/wormbase/1/stylesheet/Sequence:tRNAscan-SE-1.11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bgcolor" value="whit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height" value="3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gcolor" value="black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key" value="tRNAs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citation" value="These are tRNA predictions made using Sean Eddy&amp;#39;s tRNAscan program.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ontcolor" value="slateblu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STYLESHEE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forma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/das/wormbase/1/feature/transcript:curated/M7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http://localhost/das/wormbase/1/featur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mat="DAS2XML"&gt;                           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we could have put  format=“GFF3” here for GFF form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 id="transcript:curated/Sequence:M7.1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LOCATION id="../sequence/IV" start="11093983" end="11093354" strand="-1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../stylesheet/transcript:curated" source="curated" method="transcript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ISPLAY_NAME&gt;M7.1&lt;/DISPLAY_NA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iquitin-conjugating enzyme E2-17 KD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let-70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c-2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S xml:base="http://localhost/das/wormbase/1/stylesheet/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SUBPART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c.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F form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das/wormbase/I/region/III/500/2000?format=GF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:base="http://localhost/das/wormbase/I/feature/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t="GFF3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omic_canonic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ding_tes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crip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85517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9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3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mv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5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4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sjj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FEATURELIS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XML “Ba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an href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/das/mouse/43/region/seq0043/5000/20000"&gt;My favourite seq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et back to a gene would req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../../gene/g0043/"&gt;Painful hrefs"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its also possible to use the html "Base" instruction to do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ase href="http://yourserver/das/mouse/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you can simply 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name="gene/g00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ng a new ex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/das/mouse/build4/CDS/cds12345     (n.b. exon must have an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-data &lt;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location start= end= seqid=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parent="../../mRNA/t00043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etc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an exon from mRNA t0004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ETE /das/mouse/build4/CDS/cds123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, wher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s at SANBI, University of the Western Cape, Cape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sanbi.ac.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e is run by Winston 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coln Stein of CSHL is on sabbatical there…lucky for me as it was -15C at CS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ent to work on DAS 2 with Lincoln because I want to use it for ZMap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cli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 + XML = good existing lib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 libcurl, v. portable, easy to use, includes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ML:   SAX or D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xml2: bizarre SAX interface does not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expat: seems perfect, is basis of perl xml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lso Moz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working client that queries/outputs results from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command usag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 format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commands - 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erver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client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DAS 2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odas docs/sample ser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ext:pub.open-bio.org:/home/repository/biodas/da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type server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dev.wormbase.org/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is the sequence viewer/annotation window of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arbitrary sequence with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faces to other parts of acedb to allow gene-finding, alignment display,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used by lots of annotators here and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and more projects are using relational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only works against acedb D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annotators are used to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why not split off the FMap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9480" y="4889520"/>
            <a:ext cx="678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so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700280"/>
            <a:ext cx="1512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198756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56000" y="1700280"/>
            <a:ext cx="6408360" cy="1346040"/>
            <a:chOff x="2556000" y="1700280"/>
            <a:chExt cx="6408360" cy="1346040"/>
          </a:xfrm>
        </p:grpSpPr>
        <p:sp>
          <p:nvSpPr>
            <p:cNvPr id="56" name=""/>
            <p:cNvSpPr/>
            <p:nvPr/>
          </p:nvSpPr>
          <p:spPr>
            <a:xfrm>
              <a:off x="2556000" y="170028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0360" y="198756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788000" y="1700280"/>
              <a:ext cx="3744720" cy="914400"/>
              <a:chOff x="4788000" y="1700280"/>
              <a:chExt cx="3744720" cy="914400"/>
            </a:xfrm>
          </p:grpSpPr>
          <p:sp>
            <p:nvSpPr>
              <p:cNvPr id="59" name=""/>
              <p:cNvSpPr/>
              <p:nvPr/>
            </p:nvSpPr>
            <p:spPr>
              <a:xfrm>
                <a:off x="4788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020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72360" y="1987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003640" y="1916280"/>
              <a:ext cx="3744720" cy="914400"/>
              <a:chOff x="5003640" y="1916280"/>
              <a:chExt cx="3744720" cy="914400"/>
            </a:xfrm>
          </p:grpSpPr>
          <p:sp>
            <p:nvSpPr>
              <p:cNvPr id="63" name=""/>
              <p:cNvSpPr/>
              <p:nvPr/>
            </p:nvSpPr>
            <p:spPr>
              <a:xfrm>
                <a:off x="5003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35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588000" y="2203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219640" y="2131920"/>
              <a:ext cx="3744720" cy="914400"/>
              <a:chOff x="5219640" y="2131920"/>
              <a:chExt cx="3744720" cy="914400"/>
            </a:xfrm>
          </p:grpSpPr>
          <p:sp>
            <p:nvSpPr>
              <p:cNvPr id="67" name=""/>
              <p:cNvSpPr/>
              <p:nvPr/>
            </p:nvSpPr>
            <p:spPr>
              <a:xfrm>
                <a:off x="5219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451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04000" y="241920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2556000" y="4005360"/>
            <a:ext cx="6408360" cy="1346040"/>
            <a:chOff x="2556000" y="4005360"/>
            <a:chExt cx="6408360" cy="1346040"/>
          </a:xfrm>
        </p:grpSpPr>
        <p:sp>
          <p:nvSpPr>
            <p:cNvPr id="71" name=""/>
            <p:cNvSpPr/>
            <p:nvPr/>
          </p:nvSpPr>
          <p:spPr>
            <a:xfrm>
              <a:off x="2556000" y="400536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40360" y="429264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788000" y="4005360"/>
              <a:ext cx="3744720" cy="914400"/>
              <a:chOff x="4788000" y="4005360"/>
              <a:chExt cx="3744720" cy="914400"/>
            </a:xfrm>
          </p:grpSpPr>
          <p:sp>
            <p:nvSpPr>
              <p:cNvPr id="74" name=""/>
              <p:cNvSpPr/>
              <p:nvPr/>
            </p:nvSpPr>
            <p:spPr>
              <a:xfrm>
                <a:off x="4788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20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72360" y="4292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003640" y="4221360"/>
              <a:ext cx="3744720" cy="914400"/>
              <a:chOff x="5003640" y="4221360"/>
              <a:chExt cx="3744720" cy="914400"/>
            </a:xfrm>
          </p:grpSpPr>
          <p:sp>
            <p:nvSpPr>
              <p:cNvPr id="78" name=""/>
              <p:cNvSpPr/>
              <p:nvPr/>
            </p:nvSpPr>
            <p:spPr>
              <a:xfrm>
                <a:off x="5003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35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88000" y="4508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219640" y="4437000"/>
              <a:ext cx="3744720" cy="914400"/>
              <a:chOff x="5219640" y="4437000"/>
              <a:chExt cx="3744720" cy="914400"/>
            </a:xfrm>
          </p:grpSpPr>
          <p:sp>
            <p:nvSpPr>
              <p:cNvPr id="82" name=""/>
              <p:cNvSpPr/>
              <p:nvPr/>
            </p:nvSpPr>
            <p:spPr>
              <a:xfrm>
                <a:off x="5219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51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04000" y="472428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1908000" y="429264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serv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700280"/>
            <a:ext cx="165564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1700280"/>
            <a:ext cx="165600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0560" y="2033640"/>
            <a:ext cx="2016000" cy="485640"/>
          </a:xfrm>
          <a:prstGeom prst="leftRightArrow">
            <a:avLst>
              <a:gd name="adj1" fmla="val 50000"/>
              <a:gd name="adj2" fmla="val 826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1440" y="1557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3645000"/>
            <a:ext cx="671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hould be the protoco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a plethora of data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suggests binary protocols are not well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interface to C/C++, Java, perl based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 type datastreams are popular + plenty of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S used widely but has some drawbacks, DAS2 could solve these and provide a goo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9480" y="208116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2081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70028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S 2.0 is designed to address the short comings of DAS 1.0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updating protocol to allow the protocol to be used for annotation  rather than just vie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support for hierachical structures (e.g. transcript + ex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formats for pay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, PUT, POST, DELETE form basis for up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ls act as declarative commands to acces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s use of XML “Base” and “XLink” to form unique/consistent Url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implementation provides both XML and GFF3 format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8:35:10Z</dcterms:created>
  <dc:creator>Griffiths</dc:creator>
  <dc:description/>
  <dc:language>en-US</dc:language>
  <cp:lastModifiedBy>Griffiths</cp:lastModifiedBy>
  <dcterms:modified xsi:type="dcterms:W3CDTF">2004-02-10T13:28:48Z</dcterms:modified>
  <cp:revision>31</cp:revision>
  <dc:subject/>
  <dc:title>ZMap and DAS2</dc:title>
</cp:coreProperties>
</file>