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C395E1-CD8F-4137-B41E-9BC15BC6A2F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60E89B-1445-4D23-B345-665DD1D5F32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31217D-3A9C-4298-9F5E-E3506D06D35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B9F5B2-043E-4874-9A35-9C3358DD240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F1F245-54D3-4DB3-984D-02AE1627203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7AA9E0-83A3-4F55-BDD7-B34BF4E5FB7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7B2A74-53EF-42DA-B515-17DAC26BCEF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AB207F-E44F-4239-B5F0-26EDF830489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2C1F20-F6C5-4F39-91B8-AF0ABC30F6C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C62169-FD7B-4E2A-8656-2804ABEA5E3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1F1D0D-A775-45D7-8CCB-B470352A0FA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0D7ED1-B884-4929-87D1-7E7D8A71AE7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5DE51-DF5B-4578-8030-9072CEB247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3A22F-8A50-4564-A6CE-205B0153E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71A61-65C5-428A-AA97-358D47F3A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77DD5-2BD9-4B3E-8865-122A8D939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1D03E-BA9A-4C69-9785-21A4EDE37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33651-E5DC-4A13-99F6-E14C17FEB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BA92B-157A-401C-A908-47C0B2E80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E2AD2-949F-45DD-AF58-7BE2D95F3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F5D40-7862-414F-AFDD-E894EBE95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91FA3-084C-4068-81F6-F7D835D62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7BFE2-B6E9-4F6A-995B-E368E6E20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B0FD6-9723-4587-B510-CAC363134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A828A-058D-4525-B4E7-4F13974E3499}" type="datetime">
              <a:rPr b="1" lang="en-US" sz="1200" spc="-1" strike="noStrike">
                <a:solidFill>
                  <a:srgbClr val="898989"/>
                </a:solidFill>
                <a:latin typeface="Arial"/>
              </a:rPr>
              <a:t>07/30/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25D80-DBC3-4771-9E50-7ECA25D0DA0D}"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