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0A4D83-B3F8-4121-BF91-FD8688A3816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5DF1CE-ADF1-46DE-A6F2-30C93B77C0F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0BD10C-48C6-4122-9BA4-76089C73E15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A4807F-BBA0-493D-8DCE-FF8F977089A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C3AD7D-4C31-4731-8E95-1EB07860EA9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63A64E-D684-46FB-8229-2AEC6F3643C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64BE68-1FB6-44EA-9F28-DA38998E1D5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AB9150-FB12-4163-8591-056FCAECD8B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46DA4A-DE7D-4704-B624-EB3A8EF0D9B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6D6CD5-A147-475A-9C58-B6858EE6B1D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4157FC-7DA2-465F-8CA9-6C16BCDE84F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A1215E-3686-43D3-810A-BEAB9D58175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249E1-027A-4675-9B3F-8A0FAFE9A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D1362-AC8D-437B-9CA8-4DFA63271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E5AE3-A0E4-4306-952A-3657A55E3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0C325-DEC9-4CC0-A62B-71F3FC598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A878F-7C11-4137-B9A5-A462D3AFB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21C26-29A0-47BC-A210-107E5DA45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E9F9C-F8BF-490E-A650-44976D95E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74914-1790-43EB-A1DE-F99A057DA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2F159-4CAB-4680-9F98-2BE6E4C24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BB440-D2A6-4D64-972B-B461C0F5D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2A4C7-17F9-4998-B395-D0353517B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CBFCB-C584-4024-A3C1-0DC8ADC4C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00252-9BBF-4106-BDFD-95B6D24CD07F}" type="datetime">
              <a:rPr b="1" lang="en-US" sz="1200" spc="-1" strike="noStrike">
                <a:solidFill>
                  <a:srgbClr val="898989"/>
                </a:solidFill>
                <a:latin typeface="Arial"/>
              </a:rPr>
              <a:t>07/29/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C608B-EA50-47B8-9A8F-A86D932E681A}"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