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0E2F-4F2A-4100-B614-B01C4FF94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BCCE-0C8F-4913-9601-BF56AE3BC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BB94-DAAB-4791-9B7B-3CAE896FC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33DF-C55C-49D8-8BCC-EC0A96082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D6DB-AE7E-461C-8951-3ED13C857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44F2-4117-4754-867C-6C6328AB8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3528-4697-4144-A272-AC66BC0A1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AAFD-2E6D-4D97-87D6-662C94F05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CABF-F2BE-4A0F-BE84-78F57BBB8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B5B6-3E65-45A7-9626-FFA375567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EF9D-5B48-4D4A-878A-51067B1B6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6084-7CBF-4E1D-9F60-6BD1304C0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7BC33-1F2A-48F8-A956-F79C776F03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Two way Interprocess Communication (IPC) for ZMap and otterlac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Roy Stor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rds@sanger.ac.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746520" y="2581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286200" y="1981080"/>
            <a:ext cx="8324280" cy="2590920"/>
            <a:chOff x="286200" y="1981080"/>
            <a:chExt cx="8324280" cy="2590920"/>
          </a:xfrm>
        </p:grpSpPr>
        <p:sp>
          <p:nvSpPr>
            <p:cNvPr id="75" name=""/>
            <p:cNvSpPr/>
            <p:nvPr/>
          </p:nvSpPr>
          <p:spPr>
            <a:xfrm>
              <a:off x="533520" y="2238480"/>
              <a:ext cx="1828800" cy="22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248520" y="2238480"/>
              <a:ext cx="2361960" cy="23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86200" y="2314440"/>
              <a:ext cx="2253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ZMa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(property notif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144480" y="2286000"/>
              <a:ext cx="237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X11::XRemo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367720" y="312408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Lucida Console"/>
                </a:rPr>
                <a:t>X-ato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2590920" y="2362320"/>
              <a:ext cx="3504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666880" y="297180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236320" y="1981080"/>
              <a:ext cx="399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client (perl) xml reque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136960" y="2590920"/>
              <a:ext cx="231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response (xml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>
              <a:off x="2590920" y="3914640"/>
              <a:ext cx="3504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666880" y="452448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813120" y="3505320"/>
              <a:ext cx="231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response (xml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030040" y="4114800"/>
              <a:ext cx="399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client (zmap) xml reque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25240" y="3581280"/>
              <a:ext cx="2253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T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(property notif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340560" y="1555920"/>
            <a:ext cx="104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zmap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-72360" y="4724280"/>
            <a:ext cx="731268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xremote replaced with perl (XS modu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Transport is still X-at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Protocol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-xml reque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-Header, separator, xml respo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838080" y="4419720"/>
            <a:ext cx="4800600" cy="1523880"/>
          </a:xfrm>
          <a:prstGeom prst="rect">
            <a:avLst/>
          </a:prstGeom>
          <a:solidFill>
            <a:srgbClr val="d4d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xremote (command line too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Per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com_str = join(' ; ', @command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warn "Sending: '$com_str'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@xrem_com = ('xremote'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-id              =&gt; $self-&gt;xace_window_id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-remote     =&gt; $com_str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warn "command = @xrem_com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if (system(@xrem_com) == 0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return 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confess "Failed xremote: (@xrem_com) : $?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90720" y="3733920"/>
            <a:ext cx="4876560" cy="761760"/>
          </a:xfrm>
          <a:prstGeom prst="rect">
            <a:avLst/>
          </a:prstGeom>
          <a:solidFill>
            <a:srgbClr val="d4d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X11::XRemo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Per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xr = X11::XRemote-&gt;new(-id =&gt; $winid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@a = $xr-&gt;send_commands(@commands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"Sent commands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for(my $i = 0; $i &lt; @commands; $i++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$commands[$i] . " resulted in " . $a[$i] . "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Perl/T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Perl graphical apps can accept remote comm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914400" y="5105520"/>
            <a:ext cx="4191120" cy="761760"/>
          </a:xfrm>
          <a:prstGeom prst="rect">
            <a:avLst/>
          </a:prstGeom>
          <a:solidFill>
            <a:srgbClr val="d4d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0066"/>
                </a:solidFill>
                <a:latin typeface="Lucida Console"/>
              </a:rPr>
              <a:t>Usag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fruits = [qw(apples pears bananas)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veg    = [qw(carrots potatoes)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callback = sub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($zmap, $req, $f, $v) = @_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if($req =~ /fruits/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"I know about these fruits: " . join(", ", @$f) . "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elsif($req =~ /veg/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"I know about these vegetables: " . join(", ", @$v) . "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return (200, "printed my knowledge.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zmap = ZMap::Connect-&gt;new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$zmap-&gt;init($tk, $callback, [$fruits, $veg]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Perl and 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odules - Pure Perl and X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XS modules have compiled shared object files (DBI/DBD, GD, XML::Parser, T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Requir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C library of some sort (can be just one fun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.xs/typedef file as input to the auto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Patience to deb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ExtUtils::MakeMak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Current Appl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Spawning ZM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Zoom control (zoom in, zoom out and zoom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Find Feature by distinguishing properties (zooming to appropriate magnifica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Feature drawing (including multiple features in one reques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Further 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Ed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Perl apps can accept/share editing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Local quick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Use analysis code to run and parse analysis programs outp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Use Perl’s parsing strength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IPC using XML and XAto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Protocol is si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Enables remote control of applications with greater degree of feedback on success and fail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Uses and extends previous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Perl module code is built on top of the same C co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Subjects I’ll talk ab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ZMap and otterl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IPC or remote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Perl and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Usage and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FMap and ZM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xace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3889440" cy="4876560"/>
          </a:xfrm>
          <a:prstGeom prst="rect">
            <a:avLst/>
          </a:prstGeom>
          <a:ln w="0">
            <a:noFill/>
          </a:ln>
        </p:spPr>
      </p:pic>
      <p:pic>
        <p:nvPicPr>
          <p:cNvPr id="48" name="zmap" descr=""/>
          <p:cNvPicPr/>
          <p:nvPr/>
        </p:nvPicPr>
        <p:blipFill>
          <a:blip r:embed="rId2"/>
          <a:stretch/>
        </p:blipFill>
        <p:spPr>
          <a:xfrm>
            <a:off x="4495680" y="1676520"/>
            <a:ext cx="4496040" cy="4876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92480" y="48481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Lucida Console"/>
              </a:rPr>
              <a:t>f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638400" y="20574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Lucida Console"/>
              </a:rPr>
              <a:t>z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ZMap fea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Fast (mainly thanks to foocanva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Arbitrary splitting of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Multiple views on single 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Multiple sequ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ultiple align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Arbitrary zoo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Usability improv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ultiple data 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zmap-split" descr=""/>
          <p:cNvPicPr/>
          <p:nvPr/>
        </p:nvPicPr>
        <p:blipFill>
          <a:blip r:embed="rId1"/>
          <a:stretch/>
        </p:blipFill>
        <p:spPr>
          <a:xfrm>
            <a:off x="1600200" y="152280"/>
            <a:ext cx="580716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otterl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Current HAVANA annotation too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Architecture includ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Perl/T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ensembl / ensembl-otter / ensembl-pipe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ySQ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x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Uses xremote to do IPC (one wa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Generally a large code b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Why &amp; How IP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Seems like a good idea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Reuses existing appl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It’s worked for some time with x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Original code from Netscape was modified to make xremote (C cod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xremote has limit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Why &amp; How IP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Uses X server XAto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Perl/XS Module X11::XRemo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Works as Server / Cli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Server waits for requests (property notif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Tk has a built in property notif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Client reads the respons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91120" y="2590920"/>
            <a:ext cx="7790760" cy="1628640"/>
            <a:chOff x="591120" y="2590920"/>
            <a:chExt cx="7790760" cy="1628640"/>
          </a:xfrm>
        </p:grpSpPr>
        <p:sp>
          <p:nvSpPr>
            <p:cNvPr id="62" name=""/>
            <p:cNvSpPr/>
            <p:nvPr/>
          </p:nvSpPr>
          <p:spPr>
            <a:xfrm>
              <a:off x="838080" y="2772000"/>
              <a:ext cx="1828800" cy="144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553080" y="2772000"/>
              <a:ext cx="1828800" cy="144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2895120" y="3076560"/>
              <a:ext cx="350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971800" y="399096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91120" y="2847960"/>
              <a:ext cx="2253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xac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(property notif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694200" y="284796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xremo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799440" y="320040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Lucida Console"/>
                </a:rPr>
                <a:t>X-ato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511440" y="259092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reque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39160" y="3581640"/>
              <a:ext cx="164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respon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838080" y="4648320"/>
            <a:ext cx="763596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imple acedb requests (seqget, gif, parse fi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Yes / No response (xremote exit statu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6000" y="1971720"/>
            <a:ext cx="91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xa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1T14:28:48Z</dcterms:created>
  <dc:creator>Royster</dc:creator>
  <dc:description/>
  <dc:language>en-US</dc:language>
  <cp:lastModifiedBy>Genome Research</cp:lastModifiedBy>
  <cp:lastPrinted>2005-09-06T09:02:31Z</cp:lastPrinted>
  <dcterms:modified xsi:type="dcterms:W3CDTF">2005-09-06T10:32:30Z</dcterms:modified>
  <cp:revision>17</cp:revision>
  <dc:subject/>
  <dc:title>mapping zzzzzzzz…</dc:title>
</cp:coreProperties>
</file>