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BD6B0F-E62A-487D-9C7F-363737E7207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123A7A-C98E-45C4-81E5-6D0B5609671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8150C8-839E-49AA-9092-B856769AD4C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95A2E6-949A-489B-B0AC-B37BB4F9D1D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97B0B9-96A4-4556-867C-D7329E0D06C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EC3FE1-12A5-4A01-9606-B867BBB207D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4EDA46-274C-4592-B8AC-3D76797AA5F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AC4DA9-F997-4F80-81C7-1AD40C5187A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8A7079-D88D-4571-8FC1-388BF8F4C01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2AD1C0-0837-4F9F-B569-7938622F5F8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804C0F-F5A7-4F7E-86D7-92118CCC03D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0B0997-3E1C-43E4-AB01-7B11705669A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D041C-B339-40E4-8321-9F6D51D69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D6E76-6CB8-4E63-AF5A-FD5DA8EE5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76A70-67E7-4A1D-A49C-655D21919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50BE6-C508-4579-A581-8F4F8C635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11532-B361-4C51-B8B9-AEDB67FB8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B1665-8D6E-41FA-B8F4-82D0E2A25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F98CE-348D-4AD1-92BD-09D8DA098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4E21B-66E7-4A42-B42F-0316F4BE4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49DDE-1602-4D9D-8BE7-B19A9AB1A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9674A-FE83-425D-AB5D-C8D146D1A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494DA-68AE-4393-918A-00703CCF3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8BF68-B9CA-4A9A-9863-96C4734D7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CB57-07DD-422C-8B73-36B1A2510A23}" type="datetime">
              <a:rPr b="1" lang="en-US" sz="1200" spc="-1" strike="noStrike">
                <a:solidFill>
                  <a:srgbClr val="898989"/>
                </a:solidFill>
                <a:latin typeface="Arial"/>
              </a:rPr>
              <a:t>07/28/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C972-EBEB-41D0-BC7B-62DDE5A255A0}"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