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B569-2F88-4892-AA7C-A31BAEF3D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5545-1E45-43F7-BD75-B26FE96BD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A40A-C8F6-46DE-BD0B-707959F7D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7A80-D91C-4F24-A6E4-9E23E7E44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50DC-F4AF-4237-9F6D-0BA2D071F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7F58-23B1-4AF6-B55F-BCB55CDF3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60DC-8F31-4D02-8F26-1BC1D02BE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4409-A783-4D88-9DD8-C450172A1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7BD0-C06B-4F85-9227-35050D468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E688-02A4-4BCB-93E0-CB505DD00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388D-B36A-4065-B44F-2C182DD61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E676-33EC-4E6D-A09F-12E6C0F8D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A2807-9331-44BA-9830-5ED0A62CB0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usag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emis/acedb GFF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8:40:26Z</dcterms:created>
  <dc:creator>Genome Research</dc:creator>
  <dc:description/>
  <dc:language>en-US</dc:language>
  <cp:lastModifiedBy>Genome Research</cp:lastModifiedBy>
  <dcterms:modified xsi:type="dcterms:W3CDTF">2008-09-10T08:41:45Z</dcterms:modified>
  <cp:revision>1</cp:revision>
  <dc:subject/>
  <dc:title>Summary…</dc:title>
</cp:coreProperties>
</file>