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DCC8CF-0D34-4D09-865A-84101F936B3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582E30-CBCE-4242-A4E8-7EA23B4E2B3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462C4C-EA92-4829-B4E9-63D4F66DB2C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2504D7-EE55-446D-8E58-C0B3BC190CC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246F662-CB58-499C-BA82-A903F034D95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07F98E1-8FFE-451F-9D94-371D14717AA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A4A2C98-5D61-4641-84C0-952C83A3CC7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E28ABD7-6703-42BD-89D3-894A5BDE8B2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0B5FD0-47A1-47CF-83EE-294ADDAC41D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935486-08D6-4C3C-871D-17C7C8E3739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E4422B-D861-4DCF-9843-C6242A2849F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E442F2-16F2-4960-BB17-40822A44CB5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DA38EB-D826-407E-AC55-9F897EA3CC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A6D3F-9AE3-4059-B691-C6806EB41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210559-3634-4E33-B554-511BDB5A5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10EAF-C3A8-4BC1-81CE-C695EE7EAE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836A9-C8AC-4889-902F-4F0ED59D5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AEF02-60C8-4153-944A-C54245A4C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1CD3A-0981-42DE-A636-181D3F966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B6B0B-0B77-4F06-9931-0F940BE0F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478A5-DD4B-4838-A187-5A2EF81ED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05159-ACBA-4920-90FB-E1D2950E5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0A207-BFDD-4484-9392-C196E224D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493AC-6BAA-4F1C-97EF-98A2D83614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49204-A829-41B6-9DBA-2F5C87AE5657}" type="datetime">
              <a:rPr b="1" lang="en-US" sz="1200" spc="-1" strike="noStrike">
                <a:solidFill>
                  <a:srgbClr val="898989"/>
                </a:solidFill>
                <a:latin typeface="Arial"/>
              </a:rPr>
              <a:t>07/31/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FE31B-6CEF-4EA7-8382-25BBF773B648}"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