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1F797-3255-4ED6-902D-923DBF719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75FA8-BC35-4F83-9A8C-D6DDD96A4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836BC-AAAB-4481-B42B-FFDF893AE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267DA-6332-4303-8EBF-89A11D614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9D4BE-B311-48AF-99D7-04D965B2C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B2DC5-C51F-4B70-8501-C5E70117A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6321D-DAE2-489E-B339-427A080F9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C187C-14AC-4D8A-A37B-30E2FC74A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9BD09-5A44-48E6-B73A-85D55E818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4F15C-48F9-4AEE-81BC-8C7C941E7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A8D3A-E46B-4EED-A8CC-F585A1496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9C32E-D463-47FA-A19D-C684E22D4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C87DA-F6A1-4918-BF89-EBD5780371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Map and DAS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 few good days in Cape Tow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ttp comma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4 basic http commands naturally fi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T – gets data from the data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T – add new data, modify existing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T – augment existing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LETE – deletes existing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R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rma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tp://</a:t>
            </a: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server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da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GB" sz="3200" spc="-1" strike="noStrike">
                <a:solidFill>
                  <a:srgbClr val="00cc00"/>
                </a:solidFill>
                <a:latin typeface="Arial"/>
              </a:rPr>
              <a:t>reques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server – server that supports DAS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das – keyword causing http server to call DAS2 rout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cc00"/>
                </a:solidFill>
                <a:latin typeface="Arial"/>
              </a:rPr>
              <a:t>request -  DAS 2 request in URL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2 URL in more deta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/das/source/version/namespace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me examples (all use http GET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all sources (e.g. genom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mouse/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all versions of a sou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mouse/43/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meta-info/namespaces for ver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mouse/43/featur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all everything in a namespa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mouse/43/feature/gene/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all “gene”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mouse/43/feature/gene/g003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turn gene g003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mespa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urrently there are the following namespac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ypelist – all feature ty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ylesheet – detailed description of all feature ty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eature – genomic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quence – and and protein sequ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gion – genomic features by 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example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wormbase/1/typelist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ns="http://www.biodas.org/ns/das/2.00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ns:xlink="http://www.w3.org/1999/xlink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:base="http://localhost/das/wormbase/1/stylesheet/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method_ontology="http://song.sourceforge.net/ontologies/sofa"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Sequence:tRNAscan-SE-1.11" method="Sequence" source="tRNAscan-SE-1.11"&gt;TRNAscan-SE-1.11 Sequence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gene:curated" method="gene" source="curated"&gt;Curated gene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gene:RNA" method="gene" source="RNA"&gt;RNA gene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gene:framework" method="gene" source="framework"&gt;Framework gene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transcript:curated" method="transcript" source="curated"&gt;Curated transcrip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transcript:RNA" method="transcript" source="RNA"&gt;RNA transcrip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coding_test:curated" method="coding_test" source="curated"&gt;Curated coding_tes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transcript:NDB_CDSl" method="transcript" source="NDB_CDSl"&gt;NDB_CDSl transcrip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alignment:WABA_briggsae_cosmid" method="alignment" source="WABA_briggsae_cosmid"&gt;WABA_briggsae_cosmid alignmen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alignment:BLAT_EST_BEST" method="alignment" source="BLAT_EST_BEST"&gt;BLAT_EST_BEST alignmen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alignment:BLAT_EST_OTHER" method="alignment" source="BLAT_EST_OTHER"&gt;BLAT_EST_OTHER alignmen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alignment:BLAT_mRNA_BEST" method="alignment" source="BLAT_mRNA_BEST"&gt;BLAT_mRNA_BEST alignmen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alignment:BLAT_mRNA_OTHER" method="alignment" source="BLAT_mRNA_OTHER"&gt;BLAT_mRNA_OTHER alignmen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experimental:RNAi" method="experimental" source="RNAi"&gt;RNAi experimental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Expression:Expr_profile" method="Expression" source="Expr_profile"&gt;Expr_profile Expression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/TYPES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d more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/das/wormbase/1/stylesheet/Sequence:tRNAscan-SE-1.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STYLESHE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xmlns="http://www.biodas.org/ns/das/2.00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xmlns:xlink="http://www.w3.org/1999/xlink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xml:base="http://localhost/das/wormbase/1/stylesheet/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TYPE id="Sequence:tRNAscan-SE-1.11" xml:base="http://localhost/das/wormbase/1/stylesheet/Sequence:tRNAscan-SE-1.11/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bgcolor" value="white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height" value="3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fgcolor" value="black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key" value="tRNAs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citation" value="These are tRNA predictions made using Sean Eddy&amp;#39;s tRNAscan program.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fontcolor" value="slateblue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/TYP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/STYLESHEE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fferent format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/das/wormbase/1/feature/transcript:curated/M7.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FEATURELI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ns="http://www.biodas.org/ns/das/2.00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ns:xlink="http://www.w3.org/1999/xlink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:base=http://localhost/das/wormbase/1/feature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format="DAS2XML"&gt;                           </a:t>
            </a:r>
            <a:r>
              <a:rPr b="0" lang="en-GB" sz="1000" spc="-1" strike="noStrike">
                <a:solidFill>
                  <a:srgbClr val="ff0000"/>
                </a:solidFill>
                <a:latin typeface="Arial"/>
              </a:rPr>
              <a:t>we could have put  format=“GFF3” here for GFF format 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FEATURE id="transcript:curated/Sequence:M7.1"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LOCATION id="../sequence/IV" start="11093983" end="11093354" strand="-1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../stylesheet/transcript:curated" source="curated" method="transcript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DISPLAY_NAME&gt;M7.1&lt;/DISPLAY_NA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NOTE&gt;ubiquitin-conjugating enzyme E2-17 KD&lt;/NOT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NOTE&gt;let-70&lt;/NOT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NOTE&gt;ubc-2&lt;/NOT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S xml:base="http://localhost/das/wormbase/1/stylesheet/"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 id="CDS:curated/Sequence:M7.1" type="CDS:curated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 id="CDS:curated/Sequence:M7.1" type="CDS:curated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 id="CDS:curated/Sequence:M7.1" type="CDS:curated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 id="CDS:curated/Sequence:M7.1" type="CDS:curated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 id="CDS:curated/Sequence:M7.1" type="CDS:curated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/SUBPARTS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/FEATUR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tc. et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FF format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das/wormbase/I/region/III/500/2000?format=GFF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EATURE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xmlns="http://www.biodas.org/ns/das/2.00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xmlns:xlink="http://www.w3.org/1999/xlink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xml:base="http://localhost/das/wormbase/I/feature/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ormat="GFF3"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omic_canonical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on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Sequence:CTEL54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ding_test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7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91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D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558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16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ent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D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7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50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ent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anscript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7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91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D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558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16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ent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D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7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50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ent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nk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quenc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385517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Sequence:I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ePair_ST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ructural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090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736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PCR_product:mv_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ePair_ST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ructural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753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948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PCR_product:sjj_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/FEATURELIS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e of XML “Base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an href like th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a href="/das/mouse/43/region/seq0043/5000/20000"&gt;My favourite seq&lt;/a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o get back to a gene would requi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a href="../../gene/g0043/"&gt;Painful hrefs"&lt;/a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ut its also possible to use the html "Base" instruction to do th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Base href="http://yourserver/das/mouse/43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n you can simply pu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a name="gene/g0043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pdating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dding a new ex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UT /das/mouse/build4/CDS/cds12345     (n.b. exon must have an i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ut-data &lt;featur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location start= end= seqid=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parent="../../mRNA/t00043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etc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/featur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move an exon from mRNA t00043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LETE /das/mouse/build4/CDS/cds123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o, where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 was at SANBI, University of the Western Cape, Cape T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tp://www.sanbi.ac.z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stitute is run by Winston H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incoln Stein of CSHL is on sabbatical there…lucky for me as it was -15C at CSH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 went to work on DAS 2 with Lincoln because I want to use it for ZMap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2 client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tp protocol + XML = good existing libs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ttp: libcurl, v. portable, easy to use, includes comp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XML:   SAX or DOM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bxml2: bizarre SAX interface does not impl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rea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bexpat: seems perfect, is basis of perl xml mod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d also Mozill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= working client that queries/outputs results from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2 summary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 command usage defi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RL format defi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date commands - work in progr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ple server wor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ple client wor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tting DAS 2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iodas docs/sample serv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:ext:pub.open-bio.org:/home/repository/biodas/das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totype server a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ttp://dev.wormbase.org/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p to Z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Map is the sequence viewer/annotation window of aced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isplays arbitrary sequence with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terfaces to other parts of acedb to allow gene-finding, alignment display, anno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s used by lots of annotators here and elsew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996920" y="1600200"/>
            <a:ext cx="51483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p to Z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1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re and more projects are using relational datab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Map only works against acedb D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ots of annotators are used to FM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o why not split off the FMap…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79480" y="4889520"/>
            <a:ext cx="678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Map so far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1700280"/>
            <a:ext cx="15127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 Ap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908000" y="1987560"/>
            <a:ext cx="576360" cy="341280"/>
          </a:xfrm>
          <a:prstGeom prst="rightArrow">
            <a:avLst>
              <a:gd name="adj1" fmla="val 45120"/>
              <a:gd name="adj2" fmla="val 674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2556000" y="1700280"/>
            <a:ext cx="6408360" cy="1346040"/>
            <a:chOff x="2556000" y="1700280"/>
            <a:chExt cx="6408360" cy="1346040"/>
          </a:xfrm>
        </p:grpSpPr>
        <p:sp>
          <p:nvSpPr>
            <p:cNvPr id="56" name=""/>
            <p:cNvSpPr/>
            <p:nvPr/>
          </p:nvSpPr>
          <p:spPr>
            <a:xfrm>
              <a:off x="2556000" y="1700280"/>
              <a:ext cx="15127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Zma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Contro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40360" y="1987560"/>
              <a:ext cx="576000" cy="341280"/>
            </a:xfrm>
            <a:prstGeom prst="rightArrow">
              <a:avLst>
                <a:gd name="adj1" fmla="val 45120"/>
                <a:gd name="adj2" fmla="val 67417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" name=""/>
            <p:cNvGrpSpPr/>
            <p:nvPr/>
          </p:nvGrpSpPr>
          <p:grpSpPr>
            <a:xfrm>
              <a:off x="4788000" y="1700280"/>
              <a:ext cx="3744720" cy="914400"/>
              <a:chOff x="4788000" y="1700280"/>
              <a:chExt cx="3744720" cy="914400"/>
            </a:xfrm>
          </p:grpSpPr>
          <p:sp>
            <p:nvSpPr>
              <p:cNvPr id="59" name=""/>
              <p:cNvSpPr/>
              <p:nvPr/>
            </p:nvSpPr>
            <p:spPr>
              <a:xfrm>
                <a:off x="4788000" y="170028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7020000" y="170028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6372360" y="198756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" name=""/>
            <p:cNvGrpSpPr/>
            <p:nvPr/>
          </p:nvGrpSpPr>
          <p:grpSpPr>
            <a:xfrm>
              <a:off x="5003640" y="1916280"/>
              <a:ext cx="3744720" cy="914400"/>
              <a:chOff x="5003640" y="1916280"/>
              <a:chExt cx="3744720" cy="914400"/>
            </a:xfrm>
          </p:grpSpPr>
          <p:sp>
            <p:nvSpPr>
              <p:cNvPr id="63" name=""/>
              <p:cNvSpPr/>
              <p:nvPr/>
            </p:nvSpPr>
            <p:spPr>
              <a:xfrm>
                <a:off x="5003640" y="191628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235640" y="191628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6588000" y="220356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" name=""/>
            <p:cNvGrpSpPr/>
            <p:nvPr/>
          </p:nvGrpSpPr>
          <p:grpSpPr>
            <a:xfrm>
              <a:off x="5219640" y="2131920"/>
              <a:ext cx="3744720" cy="914400"/>
              <a:chOff x="5219640" y="2131920"/>
              <a:chExt cx="3744720" cy="914400"/>
            </a:xfrm>
          </p:grpSpPr>
          <p:sp>
            <p:nvSpPr>
              <p:cNvPr id="67" name=""/>
              <p:cNvSpPr/>
              <p:nvPr/>
            </p:nvSpPr>
            <p:spPr>
              <a:xfrm>
                <a:off x="5219640" y="213192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7451640" y="213192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6804000" y="241920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0" name=""/>
          <p:cNvGrpSpPr/>
          <p:nvPr/>
        </p:nvGrpSpPr>
        <p:grpSpPr>
          <a:xfrm>
            <a:off x="2556000" y="4005360"/>
            <a:ext cx="6408360" cy="1346040"/>
            <a:chOff x="2556000" y="4005360"/>
            <a:chExt cx="6408360" cy="1346040"/>
          </a:xfrm>
        </p:grpSpPr>
        <p:sp>
          <p:nvSpPr>
            <p:cNvPr id="71" name=""/>
            <p:cNvSpPr/>
            <p:nvPr/>
          </p:nvSpPr>
          <p:spPr>
            <a:xfrm>
              <a:off x="2556000" y="4005360"/>
              <a:ext cx="15127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Zma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Contro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140360" y="4292640"/>
              <a:ext cx="576000" cy="341280"/>
            </a:xfrm>
            <a:prstGeom prst="rightArrow">
              <a:avLst>
                <a:gd name="adj1" fmla="val 45120"/>
                <a:gd name="adj2" fmla="val 67417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" name=""/>
            <p:cNvGrpSpPr/>
            <p:nvPr/>
          </p:nvGrpSpPr>
          <p:grpSpPr>
            <a:xfrm>
              <a:off x="4788000" y="4005360"/>
              <a:ext cx="3744720" cy="914400"/>
              <a:chOff x="4788000" y="4005360"/>
              <a:chExt cx="3744720" cy="914400"/>
            </a:xfrm>
          </p:grpSpPr>
          <p:sp>
            <p:nvSpPr>
              <p:cNvPr id="74" name=""/>
              <p:cNvSpPr/>
              <p:nvPr/>
            </p:nvSpPr>
            <p:spPr>
              <a:xfrm>
                <a:off x="4788000" y="400536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020000" y="400536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6372360" y="429264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" name=""/>
            <p:cNvGrpSpPr/>
            <p:nvPr/>
          </p:nvGrpSpPr>
          <p:grpSpPr>
            <a:xfrm>
              <a:off x="5003640" y="4221360"/>
              <a:ext cx="3744720" cy="914400"/>
              <a:chOff x="5003640" y="4221360"/>
              <a:chExt cx="3744720" cy="914400"/>
            </a:xfrm>
          </p:grpSpPr>
          <p:sp>
            <p:nvSpPr>
              <p:cNvPr id="78" name=""/>
              <p:cNvSpPr/>
              <p:nvPr/>
            </p:nvSpPr>
            <p:spPr>
              <a:xfrm>
                <a:off x="5003640" y="422136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235640" y="422136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588000" y="450864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5219640" y="4437000"/>
              <a:ext cx="3744720" cy="914400"/>
              <a:chOff x="5219640" y="4437000"/>
              <a:chExt cx="3744720" cy="914400"/>
            </a:xfrm>
          </p:grpSpPr>
          <p:sp>
            <p:nvSpPr>
              <p:cNvPr id="82" name=""/>
              <p:cNvSpPr/>
              <p:nvPr/>
            </p:nvSpPr>
            <p:spPr>
              <a:xfrm>
                <a:off x="5219640" y="443700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451640" y="443700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6804000" y="472428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5" name=""/>
          <p:cNvSpPr/>
          <p:nvPr/>
        </p:nvSpPr>
        <p:spPr>
          <a:xfrm>
            <a:off x="1908000" y="4292640"/>
            <a:ext cx="576360" cy="341280"/>
          </a:xfrm>
          <a:prstGeom prst="rightArrow">
            <a:avLst>
              <a:gd name="adj1" fmla="val 45120"/>
              <a:gd name="adj2" fmla="val 674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Map and server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258920" y="1700280"/>
            <a:ext cx="1655640" cy="1150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364000" y="1700280"/>
            <a:ext cx="1656000" cy="1150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130560" y="2033640"/>
            <a:ext cx="2016000" cy="485640"/>
          </a:xfrm>
          <a:prstGeom prst="leftRightArrow">
            <a:avLst>
              <a:gd name="adj1" fmla="val 50000"/>
              <a:gd name="adj2" fmla="val 8264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81440" y="1557360"/>
            <a:ext cx="863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333399"/>
                </a:solidFill>
                <a:latin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187280" y="3645000"/>
            <a:ext cx="67168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at should be the protocol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urrently a plethora of data forma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xperience suggests binary protocols are not well suppor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eed to interface to C/C++, Java, perl based serv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ML type datastreams are popular + plenty of soft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AS used widely but has some drawbacks, DAS2 could solve these and provide a good solu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79480" y="2081160"/>
            <a:ext cx="7508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166760" y="2081160"/>
            <a:ext cx="5421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11280" y="1700280"/>
            <a:ext cx="8064360" cy="37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AS 2.0 is designed to address the short comings of DAS 1.0, includ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 updating protocol to allow the protocol to be used for annotation  rather than just view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etter support for hierachical structures (e.g. transcript + exo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lternative formats for payloa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2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tp protoc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ET, PUT, POST, DELETE form basis for upda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rls act as declarative commands to access data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kes use of XML “Base” and “XLink” to form unique/consistent Url requ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itial implementation provides both XML and GFF3 formatt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09T18:35:10Z</dcterms:created>
  <dc:creator>Griffiths</dc:creator>
  <dc:description/>
  <dc:language>en-US</dc:language>
  <cp:lastModifiedBy>Griffiths</cp:lastModifiedBy>
  <dcterms:modified xsi:type="dcterms:W3CDTF">2004-02-10T13:28:48Z</dcterms:modified>
  <cp:revision>31</cp:revision>
  <dc:subject/>
  <dc:title>ZMap and DAS2</dc:title>
</cp:coreProperties>
</file>