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4734-7733-44E7-B54E-CA779DBCC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5885-5E6C-45EB-8EEB-C65269F6F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4178-6F60-4062-929F-D9A91DB7F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95DD-F70C-481D-885C-4154EFA59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1CF1-2EEB-48BE-8AF6-796D5C813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07C1-C05C-4076-9253-DBA6F0864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BC02-6DF9-4497-93DF-11BC0A614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3ADC-6F37-434F-A9AB-C357EA2BE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883E-97D2-4AFD-B6AD-2FE4C971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BC5B-7749-4E5E-AF71-153B81BD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6A44-5009-4360-AFFA-394D69E3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20BA-D41F-4A6D-8B5E-3853AAD4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6A490-164E-4203-99CF-2953085634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Two way Interprocess Communication (IPC) for ZMap and otterl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oy Stor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ds@sanger.ac.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46520" y="258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86200" y="1981080"/>
            <a:ext cx="8324280" cy="2590920"/>
            <a:chOff x="286200" y="1981080"/>
            <a:chExt cx="8324280" cy="2590920"/>
          </a:xfrm>
        </p:grpSpPr>
        <p:sp>
          <p:nvSpPr>
            <p:cNvPr id="75" name=""/>
            <p:cNvSpPr/>
            <p:nvPr/>
          </p:nvSpPr>
          <p:spPr>
            <a:xfrm>
              <a:off x="533520" y="2238480"/>
              <a:ext cx="1828800" cy="22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48520" y="2238480"/>
              <a:ext cx="2361960" cy="23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6200" y="231444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ZM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44480" y="228600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11::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67720" y="31240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590920" y="236232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66880" y="297180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36320" y="198108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perl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36960" y="25909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590920" y="391464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66880" y="4524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13120" y="35053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0040" y="411480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zmap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25240" y="358128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T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40560" y="155592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zma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72360" y="4724280"/>
            <a:ext cx="7312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xremote replaced with perl (XS mod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ansport is still X-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rotoco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xml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Header, separator, xml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4419720"/>
            <a:ext cx="4800600" cy="152388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remote (command line to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om_str = join(' ; ', @comman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Sending: '$com_str'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xrem_com = ('xremote'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id              =&gt; $self-&gt;xace_window_i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remote     =&gt; $com_st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command = @xrem_com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 (system(@xrem_com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confess "Failed xremote: (@xrem_com) : $?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3733920"/>
            <a:ext cx="487656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xr = X11::XRemote-&gt;new(-id =&gt; $win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a = $xr-&gt;send_commands(@command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Sent commands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for(my $i = 0; $i &lt; @commands; $i++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$commands[$i] . " resulted in " . $a[$i]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graphical apps can accept remo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5105520"/>
            <a:ext cx="419112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Lucida Console"/>
              </a:rPr>
              <a:t>Usa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fruits = [qw(apples pears banana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veg    = [qw(carrots potatoe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allback = sub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($zmap, $req, $f, $v) = @_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($req =~ /fruits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fruits: " . join(", ", @$f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elsif($req =~ /veg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vegetables: " . join(", ", @$v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(200, "printed my knowledge.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zmap = ZMap::Connect-&gt;new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$zmap-&gt;init($tk, $callback, [$fruits, $veg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odules - Pure Perl and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S modules have compiled shared object files (DBI/DBD, GD, XML::Parser, T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 library of some sort (can be just on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.xs/typedef file as input to the auto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atience to de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xtUtils::Make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Current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pawning Z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Zoom control (zoom in, zoom out and zoom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ind Feature by distinguishing properties (zooming to appropriate magnifi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eature drawing (including multiple features in one reque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urther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apps can accept/share editing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Local quick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analysis code to run and parse analysis programs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Perl’s parsing strengt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PC using XML and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rotocol is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Enables remote control of applications with greater degree of feedback on success and fail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and extends previous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 module code is built on top of the same C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bjects I’ll talk ab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ZMap and otter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IPC or remo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ge and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Map and Z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xace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889440" cy="4876560"/>
          </a:xfrm>
          <a:prstGeom prst="rect">
            <a:avLst/>
          </a:prstGeom>
          <a:ln w="0">
            <a:noFill/>
          </a:ln>
        </p:spPr>
      </p:pic>
      <p:pic>
        <p:nvPicPr>
          <p:cNvPr id="48" name="zmap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4496040" cy="487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2480" y="484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f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38400" y="2057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ZMap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Fast (mainly thanks to foocanv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splitting of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views on single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alig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zoo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bility impro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data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zmap-split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58071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otter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urrent HAVANA annotation t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Architecture 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nsembl / ensembl-otter / ensembl-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y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remote to do IPC (one w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Generally a large code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ems like a good ide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euses exist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t’s worked for some time with x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Original code from Netscape was modified to make xremote (C co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xremote has lim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 server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/XS Module 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Works as Server /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rver waits for requests (property notif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Tk has a built in property not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lient reads the respon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91120" y="2590920"/>
            <a:ext cx="7790760" cy="1628640"/>
            <a:chOff x="591120" y="2590920"/>
            <a:chExt cx="7790760" cy="1628640"/>
          </a:xfrm>
        </p:grpSpPr>
        <p:sp>
          <p:nvSpPr>
            <p:cNvPr id="62" name=""/>
            <p:cNvSpPr/>
            <p:nvPr/>
          </p:nvSpPr>
          <p:spPr>
            <a:xfrm>
              <a:off x="838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53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895120" y="307656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71800" y="399096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1120" y="284796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a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94200" y="28479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99440" y="32004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11440" y="25909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qu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39160" y="35816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38080" y="4648320"/>
            <a:ext cx="76359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imple acedb requests (seqget, gif, parse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Yes / No response (xremote exit stat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6000" y="19717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x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4:28:48Z</dcterms:created>
  <dc:creator>Royster</dc:creator>
  <dc:description/>
  <dc:language>en-US</dc:language>
  <cp:lastModifiedBy>Genome Research</cp:lastModifiedBy>
  <cp:lastPrinted>2005-09-06T09:02:31Z</cp:lastPrinted>
  <dcterms:modified xsi:type="dcterms:W3CDTF">2005-09-06T10:32:30Z</dcterms:modified>
  <cp:revision>17</cp:revision>
  <dc:subject/>
  <dc:title>mapping zzzzzzzz…</dc:title>
</cp:coreProperties>
</file>