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D24A3E-6967-404D-952E-EF649A5FC49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4626054-9832-4BD0-9282-C35E6E26598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E64620-9407-4CDD-A6C0-72DF4645F9D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1BE031-FEDF-4F00-BDA9-DD058C4DA48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FC0471-75B3-444D-9FDB-40422642E28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9330A6-9858-4C75-957F-F801CD95D52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2BD5EA-6CAD-49EC-8DD3-61499D980C3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8C55A5B-666F-4441-B883-E73C72AFA9C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283FF1-6851-4F76-998B-9A3A1D9459A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07F868-CFC9-4094-B504-464B5E5D0E9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157183-1CC8-440D-ACAA-935BE4E6F5F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2E257E-9462-48D0-A0F6-AE01DC1B9E6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094073-A732-45C6-9452-90093B3A39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33813-6E74-458C-8DAD-EFF68C374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B1092-CB65-4EA0-A799-C0C44E7071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A817A-1517-47DB-95FF-C3B5A055D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00555-C65E-4FBA-8626-FAA83BA6E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EDCE1-8A7E-4C7A-8FF6-6C970F4E1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0C5C6-E91A-4708-AB7B-DF9884CBB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BCAF5-B3D1-4C9D-B912-3E767CF43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CDC44-7B61-4628-85C4-F3C987AE2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2C4C9-27D6-45D1-9117-BDA998320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D6D65-27C4-4EDC-BDE9-4F15FB127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FF185-05EE-4015-8FB9-5CA9D596AC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58B7C-E2AC-4C6B-90CF-5E310AE622F2}" type="datetime">
              <a:rPr b="1" lang="en-US" sz="1200" spc="-1" strike="noStrike">
                <a:solidFill>
                  <a:srgbClr val="898989"/>
                </a:solidFill>
                <a:latin typeface="Arial"/>
              </a:rPr>
              <a:t>07/30/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45713-2EBE-433A-BB78-5AA00F46378D}"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