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6A5DB0-D796-489B-A79B-3295EC738F4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9899878-F80B-48B6-9947-C3BDFB59888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77054D-8EE9-46DF-BC65-7223ED22635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6ABD83-C2D7-4198-94D6-A34858B8E71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2F092C6-F596-41BE-9C25-8CB497A097C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FEA858-8EA3-45B3-87B4-347A8AF4629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78A73A-871E-4154-AB46-B08D049989C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C96F3E-46D2-4E5A-B341-2FC0F8ED302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BC1A35-C088-45AA-AC0F-901F6A9E4D4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3EC999-4B9F-45E3-B435-9A714FC30FB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420B953-D575-46DC-8F28-016BB023CD1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6F8FAD-77E7-48CF-851D-63E53CC10B1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DAA7D7-B563-45C8-88A2-F0AB8EC8A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DF6CD-BF4E-477F-9C96-1B496C788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B523CE-885E-4145-881A-BB0AFF508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2CE79-E9EC-437B-8BF5-4581EC747A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0FE8E-D081-4841-8AF2-71B31437C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55EBB-AC8B-4FAC-A038-0CE4994FC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301B8-768D-41C7-9F7C-5CBE62178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79127-0D90-493E-9124-53E8CC4C4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F80A9-DCCB-4304-A87B-C6B26F32E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8F6FA-4AFE-4659-BA3E-1DABED8F9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BF86C-8A70-4382-900D-6D54B4AE7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741AF-0ED6-4CE3-BDDC-7109A85247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508BF-56E5-4814-8800-DCE91D53E7C4}" type="datetime">
              <a:rPr b="1" lang="en-US" sz="1200" spc="-1" strike="noStrike">
                <a:solidFill>
                  <a:srgbClr val="898989"/>
                </a:solidFill>
                <a:latin typeface="Arial"/>
              </a:rPr>
              <a:t>07/30/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1DC4B-D2BB-4236-A567-B42F73E07D43}"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