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67D6C0-EB1E-4CB0-8E3F-4683A5D06FDE}"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DD21D00-FFF7-4E74-B2D8-507A534B7120}"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9D62EE-B842-4338-8FB3-23883577330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E0B0A46-4F93-4A81-BEAA-4467D8B224F7}"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CB40286-2C5B-43ED-9432-0398F971A065}"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FABAEE-ACD8-4507-8BB8-04467DB85FB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F969624-3401-4F62-B70C-817EAE4B6BA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6E96E9F-DA1D-4371-A02D-9CEA606217A0}"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3323BF8-C2EE-4770-91C0-8FFFE663CB1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EA4A9F7-F57B-4345-A7A8-E824FC1B8F5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CCF6C24-C66D-47C3-AD82-67613E09EEF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1187C6-50BD-4419-BC00-175BCCC7131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0E5BFC-1357-4128-BEC5-F20BE48714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B40A4-8C56-4ACE-ACCB-447B53AA1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95F000-BD4F-4DA5-81B8-8B6C5DF68E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8402B5-178E-4C7C-A7B6-56CF68B829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1EE09-EFC4-45EF-90D6-2CBFD8D48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5C4B1-A87E-4C89-BE20-0025945C8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5DBC8-1F64-4A52-80D9-360C1C389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A45A0-7A8B-4DC5-B78E-4B7CD6B2F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81BF7-06B9-4F98-9672-E4DB4453F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5ACD5-B737-43E6-AAB6-D9342DC98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F6CC5-DADA-43DC-99AE-ED8237D1C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440EF-6450-4637-A336-CACFC3BD42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2925E-9A9A-42B0-B350-76CFC5A37111}" type="datetime">
              <a:rPr b="1" lang="en-US" sz="1200" spc="-1" strike="noStrike">
                <a:solidFill>
                  <a:srgbClr val="898989"/>
                </a:solidFill>
                <a:latin typeface="Arial"/>
              </a:rPr>
              <a:t>07/30/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B956F-BF28-449C-A75A-B9CD073582D7}"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