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F5A2-CB72-46ED-B10F-4B3DF6ADE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F4C3-74C2-42AB-92A3-A738B955E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AB0C-6257-491E-B2AC-84AFF96FD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F30A-D7AE-46A7-B871-E58E80FD3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A464-69C2-4C1B-8E97-8DC4E048C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5EE8-1E90-46B6-A536-F7E4AB9A0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F61B-3D3E-4126-ADF8-341843FD0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74B1-2A97-4B00-9484-329447760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2964-006C-455B-A457-53C55F6D2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7AEA-228A-4DFC-BF8B-EB4FE6B60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538B-C34D-42B7-B788-1CA2718DF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7E2B-C726-45A0-B728-E3F4B2223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AF41D-C2D9-47FB-B734-BD5B5CE7E4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cedb and other things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 Griffiths &amp; Rob Cl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ZMap client, like a Web Browser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rupt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independent wind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ing arbitrary numbers of serv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h, blah, 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gests thread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use threads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asons for using threa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rformance – multiple cpu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rformance – overlapp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rchitecture/Encaps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UI inter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2475000"/>
            <a:ext cx="100800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p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332000" y="2475000"/>
            <a:ext cx="136836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213080" y="1341360"/>
            <a:ext cx="107964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11640" y="4005360"/>
            <a:ext cx="1081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227640" y="134136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300720" y="227664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516720" y="2492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732720" y="2708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948360" y="292428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300720" y="501336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227640" y="400536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516720" y="522936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732720" y="544500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948360" y="566100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rot="19606800">
            <a:off x="2987280" y="22762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rot="1866000">
            <a:off x="2987280" y="3789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435640" y="162864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435640" y="422100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1815000">
            <a:off x="5435280" y="2276640"/>
            <a:ext cx="649080" cy="269640"/>
          </a:xfrm>
          <a:prstGeom prst="rightArrow">
            <a:avLst>
              <a:gd name="adj1" fmla="val 50000"/>
              <a:gd name="adj2" fmla="val 6018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815000">
            <a:off x="5508720" y="501336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actors for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UI must be respon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rvers may take some time to send data, data will take some time to read/convert for dra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lib is not threa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lls/subroutines for contacting servers are thread safe, e.g. system socket calls, Libcurl, expat, glib and other lib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ggests a natural split into “GUI” vs. “server handling”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08000" y="1197000"/>
            <a:ext cx="7996320" cy="4319640"/>
          </a:xfrm>
          <a:custGeom>
            <a:avLst/>
            <a:gdLst/>
            <a:ahLst/>
            <a:rect l="l" t="t" r="r" b="b"/>
            <a:pathLst>
              <a:path w="5037" h="2721">
                <a:moveTo>
                  <a:pt x="0" y="635"/>
                </a:moveTo>
                <a:lnTo>
                  <a:pt x="0" y="1996"/>
                </a:lnTo>
                <a:lnTo>
                  <a:pt x="1633" y="1996"/>
                </a:lnTo>
                <a:lnTo>
                  <a:pt x="2585" y="2721"/>
                </a:lnTo>
                <a:lnTo>
                  <a:pt x="3538" y="2721"/>
                </a:lnTo>
                <a:lnTo>
                  <a:pt x="3538" y="2313"/>
                </a:lnTo>
                <a:lnTo>
                  <a:pt x="4944" y="2313"/>
                </a:lnTo>
                <a:lnTo>
                  <a:pt x="4944" y="1678"/>
                </a:lnTo>
                <a:lnTo>
                  <a:pt x="3538" y="1678"/>
                </a:lnTo>
                <a:lnTo>
                  <a:pt x="3538" y="635"/>
                </a:lnTo>
                <a:lnTo>
                  <a:pt x="3540" y="616"/>
                </a:lnTo>
                <a:lnTo>
                  <a:pt x="5037" y="622"/>
                </a:lnTo>
                <a:lnTo>
                  <a:pt x="5035" y="0"/>
                </a:lnTo>
                <a:lnTo>
                  <a:pt x="2449" y="0"/>
                </a:lnTo>
                <a:lnTo>
                  <a:pt x="1727" y="641"/>
                </a:lnTo>
                <a:lnTo>
                  <a:pt x="0" y="635"/>
                </a:lnTo>
                <a:close/>
              </a:path>
            </a:pathLst>
          </a:custGeom>
          <a:noFill/>
          <a:ln w="1260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Threa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4000" y="2475000"/>
            <a:ext cx="100800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p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332000" y="2475000"/>
            <a:ext cx="136836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213080" y="1341360"/>
            <a:ext cx="107964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211640" y="4005360"/>
            <a:ext cx="1081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27640" y="134136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300720" y="227664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516720" y="2492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732720" y="2708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948360" y="292428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300720" y="501336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227640" y="400536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516720" y="522936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732720" y="544500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948360" y="566100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9606800">
            <a:off x="2987280" y="22762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1866000">
            <a:off x="2987280" y="3789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435640" y="162864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435640" y="422100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1815000">
            <a:off x="5435280" y="2276640"/>
            <a:ext cx="649080" cy="269640"/>
          </a:xfrm>
          <a:prstGeom prst="rightArrow">
            <a:avLst>
              <a:gd name="adj1" fmla="val 50000"/>
              <a:gd name="adj2" fmla="val 6018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rot="1815000">
            <a:off x="5508720" y="501336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ore det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84360" y="1916280"/>
            <a:ext cx="1584000" cy="32414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427640" y="1916280"/>
            <a:ext cx="3529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427640" y="3933720"/>
            <a:ext cx="1800000" cy="1079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596360" y="3933720"/>
            <a:ext cx="1152360" cy="104292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5280" y="1557360"/>
            <a:ext cx="7805880" cy="3959280"/>
          </a:xfrm>
          <a:custGeom>
            <a:avLst/>
            <a:gdLst/>
            <a:ahLst/>
            <a:rect l="l" t="t" r="r" b="b"/>
            <a:pathLst>
              <a:path w="4917" h="2494">
                <a:moveTo>
                  <a:pt x="0" y="0"/>
                </a:moveTo>
                <a:lnTo>
                  <a:pt x="0" y="2494"/>
                </a:lnTo>
                <a:lnTo>
                  <a:pt x="1406" y="2494"/>
                </a:lnTo>
                <a:lnTo>
                  <a:pt x="1406" y="1088"/>
                </a:lnTo>
                <a:lnTo>
                  <a:pt x="4899" y="1088"/>
                </a:lnTo>
                <a:lnTo>
                  <a:pt x="4917" y="1"/>
                </a:lnTo>
                <a:lnTo>
                  <a:pt x="0" y="0"/>
                </a:lnTo>
                <a:close/>
              </a:path>
            </a:pathLst>
          </a:custGeom>
          <a:noFill/>
          <a:ln w="1584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140360" y="3716280"/>
            <a:ext cx="2376360" cy="1584360"/>
          </a:xfrm>
          <a:custGeom>
            <a:avLst/>
            <a:gdLst/>
            <a:ahLst/>
            <a:rect l="l" t="t" r="r" b="b"/>
            <a:pathLst>
              <a:path w="1497" h="998">
                <a:moveTo>
                  <a:pt x="0" y="0"/>
                </a:moveTo>
                <a:lnTo>
                  <a:pt x="0" y="998"/>
                </a:lnTo>
                <a:lnTo>
                  <a:pt x="1497" y="998"/>
                </a:lnTo>
                <a:lnTo>
                  <a:pt x="1497" y="0"/>
                </a:lnTo>
                <a:lnTo>
                  <a:pt x="0" y="0"/>
                </a:lnTo>
                <a:close/>
              </a:path>
            </a:pathLst>
          </a:custGeom>
          <a:noFill/>
          <a:ln w="15840">
            <a:solidFill>
              <a:srgbClr val="008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2205000"/>
            <a:ext cx="1800360" cy="485640"/>
          </a:xfrm>
          <a:prstGeom prst="leftRightArrow">
            <a:avLst>
              <a:gd name="adj1" fmla="val 50000"/>
              <a:gd name="adj2" fmla="val 738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84360" y="4221000"/>
            <a:ext cx="1800360" cy="486000"/>
          </a:xfrm>
          <a:prstGeom prst="leftRightArrow">
            <a:avLst>
              <a:gd name="adj1" fmla="val 50000"/>
              <a:gd name="adj2" fmla="val 7374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372360" y="4221000"/>
            <a:ext cx="1150920" cy="486000"/>
          </a:xfrm>
          <a:prstGeom prst="leftRightArrow">
            <a:avLst>
              <a:gd name="adj1" fmla="val 50000"/>
              <a:gd name="adj2" fmla="val 4714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even more detail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4000" y="1916280"/>
            <a:ext cx="1295280" cy="2592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lib ev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op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76720" y="1773360"/>
            <a:ext cx="1224000" cy="1296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443640" y="1844640"/>
            <a:ext cx="1655640" cy="1152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484360" y="4437000"/>
            <a:ext cx="914400" cy="16574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227640" y="4960800"/>
            <a:ext cx="2160720" cy="6098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356000" y="4960800"/>
            <a:ext cx="914400" cy="6098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dv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979640" y="220500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788000" y="2179800"/>
            <a:ext cx="1265040" cy="485640"/>
          </a:xfrm>
          <a:prstGeom prst="rightArrow">
            <a:avLst>
              <a:gd name="adj1" fmla="val 50000"/>
              <a:gd name="adj2" fmla="val 6512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rot="5400000">
            <a:off x="833400" y="4790880"/>
            <a:ext cx="852480" cy="719280"/>
          </a:xfrm>
          <a:custGeom>
            <a:avLst/>
            <a:gdLst>
              <a:gd name="textAreaLeft" fmla="*/ 284040 w 852480"/>
              <a:gd name="textAreaRight" fmla="*/ 730440 w 852480"/>
              <a:gd name="textAreaTop" fmla="*/ 414360 h 719280"/>
              <a:gd name="textAreaBottom" fmla="*/ 616320 h 7192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17526000">
            <a:off x="2988360" y="3499560"/>
            <a:ext cx="719280" cy="486000"/>
          </a:xfrm>
          <a:prstGeom prst="rightArrow">
            <a:avLst>
              <a:gd name="adj1" fmla="val 50000"/>
              <a:gd name="adj2" fmla="val 37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492360" y="5022720"/>
            <a:ext cx="792360" cy="486000"/>
          </a:xfrm>
          <a:prstGeom prst="leftRightArrow">
            <a:avLst>
              <a:gd name="adj1" fmla="val 50000"/>
              <a:gd name="adj2" fmla="val 3245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364000" y="5022720"/>
            <a:ext cx="792360" cy="486000"/>
          </a:xfrm>
          <a:prstGeom prst="leftRightArrow">
            <a:avLst>
              <a:gd name="adj1" fmla="val 50000"/>
              <a:gd name="adj2" fmla="val 3245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20240" y="270828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) reg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15320" y="560880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) p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927240" y="4365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) Check 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781800" y="364500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)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730040" y="164772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) Dra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ngs to remembe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ile your program with –pthreads so you get the thread safe versions of the system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ile the non-standard libraries you want to use with –pthreads (like my own acedb server connection package…sig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atch out for glib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n stand back and light the blue touch paper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e have now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ulti-threaded Z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window has an arbitrary number of threads associated with it, i.e. can contact an arbitrary number of ser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window has the usual “stop”/”reload” butt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totype runs against multiple acedb servers, soon to include DAS 2 serv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d Rob is working on the drawing but that’s another talk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in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Worm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Hav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other Sanger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 new stuf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edb is used 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central repository for worm da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tool for “putting it all togethe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e of the main annotation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76720" y="3500280"/>
            <a:ext cx="609480" cy="60984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ith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1628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SH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00000" y="2708280"/>
            <a:ext cx="914400" cy="609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00000" y="3860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258920" y="5084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076720" y="1628640"/>
            <a:ext cx="914400" cy="60984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308720" y="4437000"/>
            <a:ext cx="914400" cy="609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96000" y="5373720"/>
            <a:ext cx="914400" cy="68580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B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627280" y="2349360"/>
            <a:ext cx="649440" cy="1008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2340000" y="4221000"/>
            <a:ext cx="936720" cy="1152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2050920" y="3933720"/>
            <a:ext cx="1081080" cy="216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050920" y="2997360"/>
            <a:ext cx="1081080" cy="647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3851280" y="2276280"/>
            <a:ext cx="1081080" cy="108108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67280" y="3933720"/>
            <a:ext cx="2881080" cy="79056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5640" y="4221000"/>
            <a:ext cx="1584360" cy="14400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164360" y="2349360"/>
            <a:ext cx="914400" cy="609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4067280" y="2781360"/>
            <a:ext cx="2881080" cy="7920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380360" y="3429000"/>
            <a:ext cx="914400" cy="60948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211640" y="3789360"/>
            <a:ext cx="2952720" cy="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00720" y="2744640"/>
            <a:ext cx="1800000" cy="1401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93080" y="1700280"/>
            <a:ext cx="1419120" cy="122400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lix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093080" y="4005360"/>
            <a:ext cx="1419120" cy="122400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843280" y="2817720"/>
            <a:ext cx="914400" cy="1257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2421000"/>
            <a:ext cx="914400" cy="2049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59280" y="5229360"/>
            <a:ext cx="1942920" cy="1295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ter/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619280" y="320364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851280" y="320364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19477200">
            <a:off x="6443280" y="270792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2131200">
            <a:off x="6300360" y="400536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rot="12234600">
            <a:off x="1692000" y="47242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5516600">
            <a:off x="3104280" y="4303800"/>
            <a:ext cx="792360" cy="485640"/>
          </a:xfrm>
          <a:prstGeom prst="rightArrow">
            <a:avLst>
              <a:gd name="adj1" fmla="val 48694"/>
              <a:gd name="adj2" fmla="val 60074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17613000">
            <a:off x="4874400" y="4402800"/>
            <a:ext cx="750960" cy="486000"/>
          </a:xfrm>
          <a:prstGeom prst="rightArrow">
            <a:avLst>
              <a:gd name="adj1" fmla="val 47435"/>
              <a:gd name="adj2" fmla="val 6775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user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’ve run out of memory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n you just make SMap do this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f would be nice if FMap could…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edb, start smoking today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Stuff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notation, annotation, annotation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Map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erhaps most used component of aced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in annotation tool for many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grated with blixem/dotter/genefinder and of course the underlying data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ut is tied to Acedb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996920" y="1600200"/>
            <a:ext cx="5148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ZMap aims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vide a client/server version of F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vide an annotation client that is not tied to Aced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 a generally supported data format such as DAS 2, Otter or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intain the good bits of FMap but junk some of the irritating 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5T09:56:09Z</dcterms:created>
  <dc:creator>Griffiths</dc:creator>
  <dc:description/>
  <dc:language>en-US</dc:language>
  <cp:lastModifiedBy>Griffiths</cp:lastModifiedBy>
  <dcterms:modified xsi:type="dcterms:W3CDTF">2004-03-16T10:41:06Z</dcterms:modified>
  <cp:revision>34</cp:revision>
  <dc:subject/>
  <dc:title>Acedb – SMap, GFF(2/3), ZMap, DAS 2….</dc:title>
</cp:coreProperties>
</file>