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40826D-5956-4F7A-B1F8-49FE2AB531B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7B5BCB-D308-428D-A663-9F7FBE7204C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A8B0B8-0271-415D-BFED-16D8A4148DD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8B78E2-FE0B-4A3D-98D6-3E27470672C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76C0DB-908C-47A3-A9F8-43311468CB3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F3EBB7-10A0-480F-8627-621A5831385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1B3231-05C7-4B24-A453-A1D190D4553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D625BB-67F3-4CCB-9B08-2894B817555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F895C1-06FD-44BC-813A-AEAF77ED5B4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D1A3ED-942D-4260-A714-B4B9F9FE475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E9552A-5682-405A-94DD-38B900A14DC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7487B6-669D-4447-B051-D211FAD4A0A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1BD87-5D3A-4F58-9AF3-5E50B200E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5309F-FB77-48D5-9707-9D2573C12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C0C4D-B496-4A22-A0BC-C524664C9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CED4C-70E3-4B72-8CB7-F049BE88B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CF6F6-E219-43EE-852E-4678308A4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90290-2FC5-4154-BA0A-35389CE8E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C4E09-BC61-42D8-994D-104978F9D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680E8-5BC9-40CB-A61B-A244866BA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D973F-FC69-44C8-AE71-6B082747C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EDDBE-F1C4-458E-9239-CBF98C95C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A799A-A04C-4918-B98A-9E77F9E8A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BD986-943D-466C-9BE9-9F13D52C5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2D4D6-650E-4946-9C7D-F9658483187C}" type="datetime">
              <a:rPr b="1" lang="en-US" sz="1200" spc="-1" strike="noStrike">
                <a:solidFill>
                  <a:srgbClr val="898989"/>
                </a:solidFill>
                <a:latin typeface="Arial"/>
              </a:rPr>
              <a:t>07/29/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EFF4A-750E-4FEF-A305-B841093CCA7A}"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