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Zmap Remote Control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  <a:ea typeface="HG Mincho Light J"/>
              </a:rPr>
              <a:t>Remote Control (ol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838080" y="2590920"/>
            <a:ext cx="7542360" cy="1627200"/>
            <a:chOff x="838080" y="2590920"/>
            <a:chExt cx="7542360" cy="1627200"/>
          </a:xfrm>
        </p:grpSpPr>
        <p:sp>
          <p:nvSpPr>
            <p:cNvPr id="42" name=""/>
            <p:cNvSpPr/>
            <p:nvPr/>
          </p:nvSpPr>
          <p:spPr>
            <a:xfrm>
              <a:off x="838080" y="2771640"/>
              <a:ext cx="1828800" cy="1446480"/>
            </a:xfrm>
            <a:prstGeom prst="roundRect">
              <a:avLst>
                <a:gd name="adj" fmla="val 10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551640" y="2771640"/>
              <a:ext cx="1828800" cy="1446480"/>
            </a:xfrm>
            <a:prstGeom prst="roundRect">
              <a:avLst>
                <a:gd name="adj" fmla="val 10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2892240" y="3076560"/>
              <a:ext cx="350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71800" y="3989520"/>
              <a:ext cx="342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18720" y="2847960"/>
              <a:ext cx="912240" cy="4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  <a:ea typeface="HG Mincho Light J"/>
                </a:rPr>
                <a:t>x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86360" y="2847960"/>
              <a:ext cx="1460880" cy="4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  <a:ea typeface="HG Mincho Light J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76480" y="3200400"/>
              <a:ext cx="1460880" cy="4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Lucida Console"/>
                  <a:ea typeface="HG Mincho Light J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47880" y="2590920"/>
              <a:ext cx="1460880" cy="4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  <a:ea typeface="HG Mincho Light J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48600" y="3579840"/>
              <a:ext cx="1643760" cy="4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  <a:ea typeface="HG Mincho Light J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838080" y="4648320"/>
            <a:ext cx="763596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HG Mincho Light J"/>
              </a:rPr>
              <a:t>Simple acedb requests 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HG Mincho Light J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5280" y="1971720"/>
            <a:ext cx="9136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Verdana"/>
                <a:ea typeface="HG Mincho Light J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  <a:ea typeface="HG Mincho Light J"/>
              </a:rPr>
              <a:t>Remote Control (new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3520" y="1981080"/>
            <a:ext cx="8097840" cy="2589480"/>
            <a:chOff x="533520" y="1981080"/>
            <a:chExt cx="8097840" cy="2589480"/>
          </a:xfrm>
        </p:grpSpPr>
        <p:sp>
          <p:nvSpPr>
            <p:cNvPr id="55" name=""/>
            <p:cNvSpPr/>
            <p:nvPr/>
          </p:nvSpPr>
          <p:spPr>
            <a:xfrm>
              <a:off x="533520" y="2238480"/>
              <a:ext cx="1828800" cy="2255760"/>
            </a:xfrm>
            <a:custGeom>
              <a:avLst/>
              <a:gdLst>
                <a:gd name="textAreaLeft" fmla="*/ 360 w 1828800"/>
                <a:gd name="textAreaRight" fmla="*/ 1828440 w 1828800"/>
                <a:gd name="textAreaTop" fmla="*/ 360 h 2255760"/>
                <a:gd name="textAreaBottom" fmla="*/ 2255400 h 2255760"/>
              </a:gdLst>
              <a:ahLst/>
              <a:rect l="textAreaLeft" t="textAreaTop" r="textAreaRight" b="textAreaBottom"/>
              <a:pathLst>
                <a:path w="21600" h="26642">
                  <a:moveTo>
                    <a:pt x="18" y="0"/>
                  </a:moveTo>
                  <a:arcTo wR="18" hR="18" stAng="16200000" swAng="-5400000"/>
                  <a:lnTo>
                    <a:pt x="0" y="26624"/>
                  </a:lnTo>
                  <a:arcTo wR="18" hR="18" stAng="10800000" swAng="-5400000"/>
                  <a:lnTo>
                    <a:pt x="21582" y="26642"/>
                  </a:lnTo>
                  <a:arcTo wR="18" hR="18" stAng="5400000" swAng="-5400000"/>
                  <a:lnTo>
                    <a:pt x="21600" y="18"/>
                  </a:lnTo>
                  <a:arcTo wR="18" hR="18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46720" y="2238480"/>
              <a:ext cx="2362320" cy="2332080"/>
            </a:xfrm>
            <a:prstGeom prst="roundRect">
              <a:avLst>
                <a:gd name="adj" fmla="val 6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3800" y="2314440"/>
              <a:ext cx="912240" cy="4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  <a:ea typeface="HG Mincho Light J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56080" y="2286000"/>
              <a:ext cx="2375280" cy="4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  <a:ea typeface="HG Mincho Light J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4400" y="3122640"/>
              <a:ext cx="1460880" cy="4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Lucida Console"/>
                  <a:ea typeface="HG Mincho Light J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585520" y="2362320"/>
              <a:ext cx="351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66880" y="2971800"/>
              <a:ext cx="342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20960" y="1981080"/>
              <a:ext cx="3381120" cy="3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Lucida Console"/>
                  <a:ea typeface="HG Mincho Light J"/>
                </a:rPr>
                <a:t>client (perl)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63760" y="2590920"/>
              <a:ext cx="2314440" cy="3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Lucida Console"/>
                  <a:ea typeface="HG Mincho Light J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585520" y="3913200"/>
              <a:ext cx="351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66880" y="4522680"/>
              <a:ext cx="3429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38480" y="3505320"/>
              <a:ext cx="2314440" cy="3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Lucida Console"/>
                  <a:ea typeface="HG Mincho Light J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6400" y="4113360"/>
              <a:ext cx="3381120" cy="3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Lucida Console"/>
                  <a:ea typeface="HG Mincho Light J"/>
                </a:rPr>
                <a:t>client (zmap)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51040" y="3579840"/>
              <a:ext cx="22532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  <a:ea typeface="HG Mincho Light J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Lucida Console"/>
                  <a:ea typeface="HG Mincho Light J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40560" y="1555920"/>
            <a:ext cx="10494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Verdana"/>
                <a:ea typeface="HG Mincho Light J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4724280"/>
            <a:ext cx="723636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6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  <a:ea typeface="HG Mincho Light J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  <a:ea typeface="HG Mincho Light J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  <a:ea typeface="HG Mincho Light J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  <a:ea typeface="HG Mincho Light J"/>
              </a:rPr>
              <a:t>-Name, value pair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  <a:ea typeface="HG Mincho Light J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  <a:ea typeface="HG Mincho Light J"/>
              </a:rPr>
              <a:t>Remote Control (ol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  <a:ea typeface="HG Mincho Light J"/>
              </a:rPr>
              <a:t>Remote Control (new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 (cli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  <a:ea typeface="HG Mincho Light J"/>
              </a:rPr>
              <a:t>Remote Control (new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6000"/>
              </a:lnSpc>
              <a:spcBef>
                <a:spcPts val="42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 (perl server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yster</dc:creator>
  <dc:description>Diagrams and overview.</dc:description>
  <cp:keywords>xremote zmap xace perl xml xatom</cp:keywords>
  <dc:language>en-US</dc:language>
  <cp:lastModifiedBy/>
  <cp:revision>0</cp:revision>
  <dc:subject>xremote vs X11::XRemote</dc:subject>
  <dc:title>zmap remote control overview</dc:title>
</cp:coreProperties>
</file>