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05B1-C9A4-4161-A3A9-6AB06264E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B61E-BDBD-4817-90A8-D9A0B8A28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0960-20B2-4625-9345-E33AC8F15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418D-8DEC-475B-A940-5A056FDAA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52C2-10FB-44E0-B5D6-2E8784826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EF98-1EDE-438F-8DDD-E294F8884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F34D-0BA0-41A1-9383-976B5A1E9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5F50-4C2A-4ECE-8EAD-F69451D2E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740E-3B4E-4DAA-A534-67E9AA698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2352-1CE0-4261-AF48-3A288C0B0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A0F2-3B36-438D-B40C-A57B853B4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009C-32E8-4CDE-BECF-9DD9EE36A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7F248-CAB3-4F7F-93C7-F8B49D036B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DAS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 few good days in Cape Tow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 comm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4 basic http commands naturally f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– gets data from th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– add new data, modify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– augment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TE – deletes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 – server that supports DAS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 – keyword causing http server to call DAS2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 -  DAS 2 request in URL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URL 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das/source/version/namespace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examples (all use http GE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sources (e.g. geno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versions of a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meta-info/namespaces for 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everything in a namesp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“gene”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turn gene 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sp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rrently there are the following namespa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ypelist –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ylesheet – detailed description of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ature – genomic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quence – and and protein sequ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gion – genomic features by 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exampl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wormbase/1/typelist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"http://localhost/das/wormbase/1/stylesheet/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ethod_ontology="http://song.sourceforge.net/ontologies/sofa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Sequence:tRNAscan-SE-1.11" method="Sequence" source="tRNAscan-SE-1.11"&gt;TRNAscan-SE-1.11 Sequenc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curated" method="gene" source="curated"&gt;Curated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RNA" method="gene" source="RNA"&gt;RNA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framework" method="gene" source="framework"&gt;Framework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curated" method="transcript" source="curated"&gt;Curated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RNA" method="transcript" source="RNA"&gt;RNA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coding_test:curated" method="coding_test" source="curated"&gt;Curated coding_tes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NDB_CDSl" method="transcript" source="NDB_CDSl"&gt;NDB_CDSl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WABA_briggsae_cosmid" method="alignment" source="WABA_briggsae_cosmid"&gt;WABA_briggsae_cosmid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BEST" method="alignment" source="BLAT_EST_BEST"&gt;BLAT_EST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OTHER" method="alignment" source="BLAT_EST_OTHER"&gt;BLAT_EST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BEST" method="alignment" source="BLAT_mRNA_BEST"&gt;BLAT_mRNA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OTHER" method="alignment" source="BLAT_mRNA_OTHER"&gt;BLAT_mRNA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erimental:RNAi" method="experimental" source="RNAi"&gt;RNAi experimental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ression:Expr_profile" method="Expression" source="Expr_profile"&gt;Expr_profile Expression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TYPE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mor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/das/wormbase/1/stylesheet/Sequence:tRNAscan-SE-1.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STYLESH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:base="http://localhost/das/wormbase/1/stylesheet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TYPE id="Sequence:tRNAscan-SE-1.11" xml:base="http://localhost/das/wormbase/1/stylesheet/Sequence:tRNAscan-SE-1.11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bgcolor" value="whit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height" value="3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gcolor" value="black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key" value="tRNAs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citation" value="These are tRNA predictions made using Sean Eddy&amp;#39;s tRNAscan program.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ontcolor" value="slateblu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STYLESHEE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 format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/das/wormbase/1/feature/transcript:curated/M7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http://localhost/das/wormbase/1/featur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ormat="DAS2XML"&gt;                           </a:t>
            </a:r>
            <a:r>
              <a:rPr b="0" lang="en-GB" sz="1000" spc="-1" strike="noStrike">
                <a:solidFill>
                  <a:srgbClr val="ff0000"/>
                </a:solidFill>
                <a:latin typeface="Arial"/>
              </a:rPr>
              <a:t>we could have put  format=“GFF3” here for GFF format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 id="transcript:curated/Sequence:M7.1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LOCATION id="../sequence/IV" start="11093983" end="11093354" strand="-1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../stylesheet/transcript:curated" source="curated" method="transcript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DISPLAY_NAME&gt;M7.1&lt;/DISPLAY_NA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iquitin-conjugating enzyme E2-17 KD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let-70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c-2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S xml:base="http://localhost/das/wormbase/1/stylesheet/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SUBPART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tc.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FF forma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das/wormbase/I/region/III/500/2000?format=GFF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:base="http://localhost/das/wormbase/I/feature/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mat="GFF3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omic_canonic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ding_tes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crip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quenc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385517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9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73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mv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75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4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sjj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/FEATURELIS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XML “Bas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an href like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/das/mouse/43/region/seq0043/5000/20000"&gt;My favourite seq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get back to a gene would requi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../../gene/g0043/"&gt;Painful hrefs"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t its also possible to use the html "Base" instruction to do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Base href="http://yourserver/das/mouse/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n you can simply 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name="gene/g00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datin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ding a new ex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 /das/mouse/build4/CDS/cds12345     (n.b. exon must have an 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-data &lt;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location start= end= seqid=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parent="../../mRNA/t00043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etc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move an exon from mRNA t0004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ETE /das/mouse/build4/CDS/cds123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, where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s at SANBI, University of the Western Cape, Cape T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www.sanbi.ac.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itute is run by Winston H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ncoln Stein of CSHL is on sabbatical there…lucky for me as it was -15C at CSH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ent to work on DAS 2 with Lincoln because I want to use it for ZMap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clien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 + XML = good existing lib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 libcurl, v. portable, easy to use, includes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ML:   SAX or DOM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xml2: bizarre SAX interface does not 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e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expat: seems perfect, is basis of perl xml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also Mozi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working client that queries/outputs results from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summa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 command usage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L format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commands - work in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server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client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DAS 2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iodas docs/sample serv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ext:pub.open-bio.org:/home/repository/biodas/das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otype server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dev.wormbase.org/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is the sequence viewer/annotation window of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plays arbitrary sequence with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faces to other parts of acedb to allow gene-finding, alignment display,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used by lots of annotators here and else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and more projects are using relational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only works against acedb D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ts of annotators are used to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 why not split off the FMap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79480" y="4889520"/>
            <a:ext cx="678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so fa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700280"/>
            <a:ext cx="1512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 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08000" y="198756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556000" y="1700280"/>
            <a:ext cx="6408360" cy="1346040"/>
            <a:chOff x="2556000" y="1700280"/>
            <a:chExt cx="6408360" cy="1346040"/>
          </a:xfrm>
        </p:grpSpPr>
        <p:sp>
          <p:nvSpPr>
            <p:cNvPr id="56" name=""/>
            <p:cNvSpPr/>
            <p:nvPr/>
          </p:nvSpPr>
          <p:spPr>
            <a:xfrm>
              <a:off x="2556000" y="170028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40360" y="198756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4788000" y="1700280"/>
              <a:ext cx="3744720" cy="914400"/>
              <a:chOff x="4788000" y="1700280"/>
              <a:chExt cx="3744720" cy="914400"/>
            </a:xfrm>
          </p:grpSpPr>
          <p:sp>
            <p:nvSpPr>
              <p:cNvPr id="59" name=""/>
              <p:cNvSpPr/>
              <p:nvPr/>
            </p:nvSpPr>
            <p:spPr>
              <a:xfrm>
                <a:off x="4788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020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372360" y="1987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5003640" y="1916280"/>
              <a:ext cx="3744720" cy="914400"/>
              <a:chOff x="5003640" y="1916280"/>
              <a:chExt cx="3744720" cy="914400"/>
            </a:xfrm>
          </p:grpSpPr>
          <p:sp>
            <p:nvSpPr>
              <p:cNvPr id="63" name=""/>
              <p:cNvSpPr/>
              <p:nvPr/>
            </p:nvSpPr>
            <p:spPr>
              <a:xfrm>
                <a:off x="5003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235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588000" y="2203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5219640" y="2131920"/>
              <a:ext cx="3744720" cy="914400"/>
              <a:chOff x="5219640" y="2131920"/>
              <a:chExt cx="3744720" cy="914400"/>
            </a:xfrm>
          </p:grpSpPr>
          <p:sp>
            <p:nvSpPr>
              <p:cNvPr id="67" name=""/>
              <p:cNvSpPr/>
              <p:nvPr/>
            </p:nvSpPr>
            <p:spPr>
              <a:xfrm>
                <a:off x="5219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451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804000" y="241920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" name=""/>
          <p:cNvGrpSpPr/>
          <p:nvPr/>
        </p:nvGrpSpPr>
        <p:grpSpPr>
          <a:xfrm>
            <a:off x="2556000" y="4005360"/>
            <a:ext cx="6408360" cy="1346040"/>
            <a:chOff x="2556000" y="4005360"/>
            <a:chExt cx="6408360" cy="1346040"/>
          </a:xfrm>
        </p:grpSpPr>
        <p:sp>
          <p:nvSpPr>
            <p:cNvPr id="71" name=""/>
            <p:cNvSpPr/>
            <p:nvPr/>
          </p:nvSpPr>
          <p:spPr>
            <a:xfrm>
              <a:off x="2556000" y="400536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40360" y="429264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4788000" y="4005360"/>
              <a:ext cx="3744720" cy="914400"/>
              <a:chOff x="4788000" y="4005360"/>
              <a:chExt cx="3744720" cy="914400"/>
            </a:xfrm>
          </p:grpSpPr>
          <p:sp>
            <p:nvSpPr>
              <p:cNvPr id="74" name=""/>
              <p:cNvSpPr/>
              <p:nvPr/>
            </p:nvSpPr>
            <p:spPr>
              <a:xfrm>
                <a:off x="4788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020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372360" y="4292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003640" y="4221360"/>
              <a:ext cx="3744720" cy="914400"/>
              <a:chOff x="5003640" y="4221360"/>
              <a:chExt cx="3744720" cy="914400"/>
            </a:xfrm>
          </p:grpSpPr>
          <p:sp>
            <p:nvSpPr>
              <p:cNvPr id="78" name=""/>
              <p:cNvSpPr/>
              <p:nvPr/>
            </p:nvSpPr>
            <p:spPr>
              <a:xfrm>
                <a:off x="5003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235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588000" y="4508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5219640" y="4437000"/>
              <a:ext cx="3744720" cy="914400"/>
              <a:chOff x="5219640" y="4437000"/>
              <a:chExt cx="3744720" cy="914400"/>
            </a:xfrm>
          </p:grpSpPr>
          <p:sp>
            <p:nvSpPr>
              <p:cNvPr id="82" name=""/>
              <p:cNvSpPr/>
              <p:nvPr/>
            </p:nvSpPr>
            <p:spPr>
              <a:xfrm>
                <a:off x="5219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451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804000" y="472428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" name=""/>
          <p:cNvSpPr/>
          <p:nvPr/>
        </p:nvSpPr>
        <p:spPr>
          <a:xfrm>
            <a:off x="1908000" y="429264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serv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58920" y="1700280"/>
            <a:ext cx="165564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64000" y="1700280"/>
            <a:ext cx="165600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30560" y="2033640"/>
            <a:ext cx="2016000" cy="485640"/>
          </a:xfrm>
          <a:prstGeom prst="leftRightArrow">
            <a:avLst>
              <a:gd name="adj1" fmla="val 50000"/>
              <a:gd name="adj2" fmla="val 8264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81440" y="155736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87280" y="3645000"/>
            <a:ext cx="671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should be the protocol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rrently a plethora of data form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erience suggests binary protocols are not well 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ed to interface to C/C++, Java, perl based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ML type datastreams are popular + plenty of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S used widely but has some drawbacks, DAS2 could solve these and provide a good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79480" y="2081160"/>
            <a:ext cx="750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66760" y="2081160"/>
            <a:ext cx="542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1700280"/>
            <a:ext cx="80643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S 2.0 is designed to address the short comings of DAS 1.0, inclu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updating protocol to allow the protocol to be used for annotation  rather than just view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tter support for hierachical structures (e.g. transcript + ex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ernative formats for paylo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T, PUT, POST, DELETE form basis for up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rls act as declarative commands to access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s use of XML “Base” and “XLink” to form unique/consistent Url req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itial implementation provides both XML and GFF3 format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9T18:35:10Z</dcterms:created>
  <dc:creator>Griffiths</dc:creator>
  <dc:description/>
  <dc:language>en-US</dc:language>
  <cp:lastModifiedBy>Griffiths</cp:lastModifiedBy>
  <dcterms:modified xsi:type="dcterms:W3CDTF">2004-02-10T13:28:48Z</dcterms:modified>
  <cp:revision>31</cp:revision>
  <dc:subject/>
  <dc:title>ZMap and DAS2</dc:title>
</cp:coreProperties>
</file>