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ED0930-949D-4D27-9511-1659E5BBAE4F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6036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1007640" y="5073840"/>
            <a:ext cx="5543640" cy="48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0480-81A6-42A3-B11B-BFAFCC3EA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9E6D-F072-43F5-880E-25CDCCFA9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EA21-1928-4706-823B-61944A1FC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2A51-E44F-43B1-9168-8DD7AD765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2C26-D3A5-46EC-8F88-66F7980EB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C203-D09E-41F2-8FB4-5952723E2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691E-A246-4B94-A610-BAD432084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E0E0-149C-4E91-9F79-7F8A8D50A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7987-487A-47F3-B731-25CA244D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D450-101D-40D3-B145-12A43949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A19D-85AE-47A0-8F24-56F51863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AEF6-672E-4A8B-8F90-B1566248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129528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1727280" indent="-216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4F7611-FC0F-4F13-9EA7-F69E2464B6D0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Syntenic Alignment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More is better......???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Issues with Syntenic Annotation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9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Navigation and Viewing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Selecting species/haplotypes/knockouts and  sections to work on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ultiple block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Find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View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ignment format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Dealing with all that data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We want to go from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90720" y="1763640"/>
            <a:ext cx="675000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19288" r="0" b="19288"/>
          <a:stretch/>
        </p:blipFill>
        <p:spPr>
          <a:xfrm>
            <a:off x="1998720" y="2700360"/>
            <a:ext cx="6342120" cy="32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maybe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79640" y="1979640"/>
            <a:ext cx="6378480" cy="47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or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40000" y="1979640"/>
            <a:ext cx="576720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Searching Multiple Region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11280" y="1800360"/>
            <a:ext cx="532764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94040" y="1800360"/>
            <a:ext cx="5744880" cy="53528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Window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Data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Chaining/Netting of Blastz results is some kind of current de facto standard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Volume of data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ove from “loading everything” to loading the minimum..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low user to choose areas of interest and load data within that area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