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6FE0-223F-4156-A668-1559F1E6C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24BE-2A48-431F-9842-2E5AD1B20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C6C8-C355-43C0-A76D-A551AA6C5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7E3D-01D7-4B23-A4F3-E08FE617A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244E-2B02-47E2-903B-0E22C4AED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94A4-B057-4BEA-B886-58BBE9D0E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187E-0F0D-4D1A-BE1C-E3EFDDA1E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1283-78E8-4B5E-B8C0-DD4EE683F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A3AF-7159-4A06-A1BA-F614733A0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2976-7993-4C68-B47F-FAF5D2D75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CACC-2BDA-40EC-A816-CBD97EE05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A043-3214-48D4-B60C-08581BC54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A36F3-42AD-4B7A-993D-56D952E02F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Big is your Window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771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…..But I want to scroll through th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o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hromos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 Griffith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alternative appro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62120" y="182880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just draw your stuff once in a virtual space and as you zoom, the canvas scales up the window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4920" y="2819520"/>
            <a:ext cx="228600" cy="2133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00200" y="3581280"/>
            <a:ext cx="533520" cy="457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2819520"/>
            <a:ext cx="1066680" cy="76176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533520" y="4038480"/>
            <a:ext cx="1066680" cy="9144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62320" y="3581280"/>
            <a:ext cx="823680" cy="486000"/>
          </a:xfrm>
          <a:prstGeom prst="rightArrow">
            <a:avLst>
              <a:gd name="adj1" fmla="val 50000"/>
              <a:gd name="adj2" fmla="val 423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429000" y="2819520"/>
            <a:ext cx="228600" cy="2133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3352680"/>
            <a:ext cx="53352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657600" y="2819520"/>
            <a:ext cx="1066680" cy="53316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657600" y="4343040"/>
            <a:ext cx="1066680" cy="6094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05720" y="2895480"/>
            <a:ext cx="22860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001000" y="2514600"/>
            <a:ext cx="533520" cy="30481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6934320" y="2514600"/>
            <a:ext cx="1066680" cy="3808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934320" y="5029200"/>
            <a:ext cx="1066680" cy="53352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486400" y="3581280"/>
            <a:ext cx="824040" cy="486000"/>
          </a:xfrm>
          <a:prstGeom prst="rightArrow">
            <a:avLst>
              <a:gd name="adj1" fmla="val 50000"/>
              <a:gd name="adj2" fmla="val 4238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586728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uld give instantaneous scrolling, what could go wrong 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thing nasty in the woodshed…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2133720"/>
            <a:ext cx="739152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this point all looked good, performance was good, scrolling was good, zooming was goo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so time to really zoom in on some long sequences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data started to disappear/reappear randomly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 actually it started to disappear when the window got to about 32k in size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ooCanvas interf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124080"/>
            <a:ext cx="2133720" cy="228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962520" y="39625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95880" y="3124080"/>
            <a:ext cx="2133720" cy="228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8400" y="1981080"/>
            <a:ext cx="279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draw in a virt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ce in dou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399720" y="2057400"/>
            <a:ext cx="160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ots in 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92440" y="5775480"/>
            <a:ext cx="575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surely it just takes care of everything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yers of layers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066680" y="5029200"/>
            <a:ext cx="723924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066680" y="4191120"/>
            <a:ext cx="723924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3276720"/>
            <a:ext cx="243828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114800" y="3276720"/>
            <a:ext cx="243828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d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43000" y="2438280"/>
            <a:ext cx="114300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he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438280" y="2438280"/>
            <a:ext cx="114300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t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114800" y="2438280"/>
            <a:ext cx="243828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114800" y="1752480"/>
            <a:ext cx="24382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oCanv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81680" y="2438280"/>
            <a:ext cx="13716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oes Gtk say…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62120" y="2133720"/>
            <a:ext cx="7924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3520" y="2286000"/>
            <a:ext cx="8076960" cy="38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typical GTK size/position struct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def int    gin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 GtkAllo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int x, y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/* the X, Y position of the widgets area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int width, heigh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/* the width/height of the widgets area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bout Xt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0880" y="1981080"/>
            <a:ext cx="8458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dget resource definitions for position/s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x         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y         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height  Dime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width   Dime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are defined in Intrinsic.h 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ypedef short                 Position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ypedef unsigned short  Dimension 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rely Xlib has the answer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2438280"/>
            <a:ext cx="754380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CreateWindow(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* x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* y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nsigned int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/* width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nsigned 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/* height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m, now we seem to be back to huge window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o is right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46280" y="2270160"/>
            <a:ext cx="7559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057400"/>
            <a:ext cx="807732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need to look in the X Protocol to see what is really passed to the X server…..and there are several places to loo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11/Xproto.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’Reilly Xwindows Volume Zero,  i.e. the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you will fin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,y:                      INT16          i.e. 16 bit signed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idth,height:   CARD16          i.e. 16 bit unsigned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at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93640" y="2346480"/>
            <a:ext cx="75596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means we 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position a window anywhere in the r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32768  &lt;=    position    &lt;=   327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and its x/y dimensions can be anywhere in the r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&lt;=   dimension  &lt;=  655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ne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89080" y="2041560"/>
            <a:ext cx="847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19810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sort of makes sen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19320" y="2819520"/>
            <a:ext cx="388620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276720" y="3962520"/>
            <a:ext cx="373356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21320" y="36576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,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58280" y="243828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x, -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943600" y="411480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91120" y="29718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i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roblem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90720" y="18288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want to display a sequence but it’s a bit like th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2743200"/>
            <a:ext cx="152640" cy="365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590920" y="4114800"/>
            <a:ext cx="304560" cy="76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00560" y="274320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820960" y="27432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97280" y="39625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781680" y="2743200"/>
            <a:ext cx="152640" cy="365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800240" y="2743200"/>
            <a:ext cx="191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omoso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935760" y="2743200"/>
            <a:ext cx="14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00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012080" y="39625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705720" y="4191120"/>
            <a:ext cx="3045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t not reall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1676520"/>
            <a:ext cx="81532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Xli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DrawLine(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, int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/* x1,  y1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, 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;            /* x2,  y2 */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in the X Protocol (a PolyLine reques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s: LISTofPOINT where POINT:   [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,y:INT1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e. when all is said and done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, int  -&gt;  short, sh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nub of this is…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04920" y="1828800"/>
            <a:ext cx="83055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all 16 bits to make a very big window is in fact pointles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itions of many features can only be expressed using 15 bits meaning they must be in the top quarter of the window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666880" y="3733920"/>
            <a:ext cx="259092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666880" y="3733920"/>
            <a:ext cx="1295640" cy="1295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581640" y="548640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us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87800" y="3276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506760" y="32767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7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77960" y="48006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7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802040" y="32767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55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77960" y="60199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55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’s affected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523880" y="2666880"/>
            <a:ext cx="723924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 nothing much really, just trivial stuff lik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rectangles and sub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lines and polyg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porting of positions in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so on…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at about FooCanvas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57840" y="2117880"/>
            <a:ext cx="848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r problem is to constrain the canvas from making huge window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" y="2971800"/>
            <a:ext cx="84582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we assume th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 zoom  =  down to individual bases ( = 20 pixels/ba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 window size  =  30k (allowing a good “safety” marg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mplies at max zoom you can see at m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00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clearly there is a mismatch between max window size and how much sequence you can se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tunately it can be don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33520" y="1905120"/>
            <a:ext cx="1600200" cy="4267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276720"/>
            <a:ext cx="129528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ro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" y="2438280"/>
            <a:ext cx="1295280" cy="1219320"/>
          </a:xfrm>
          <a:prstGeom prst="rect">
            <a:avLst/>
          </a:prstGeom>
          <a:solidFill>
            <a:srgbClr val="00ff00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800600" y="2819520"/>
            <a:ext cx="83808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o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81080" y="2438280"/>
            <a:ext cx="838440" cy="8384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5800" y="3657600"/>
            <a:ext cx="2133720" cy="8380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4114800" y="2133360"/>
            <a:ext cx="2743200" cy="11430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114800" y="4495680"/>
            <a:ext cx="2743200" cy="10670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81680" y="2133720"/>
            <a:ext cx="1371600" cy="3429000"/>
          </a:xfrm>
          <a:prstGeom prst="rect">
            <a:avLst/>
          </a:prstGeom>
          <a:solidFill>
            <a:srgbClr val="00ff00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38800" y="487692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60160" y="350532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814120" y="5867280"/>
            <a:ext cx="517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.e. Scrolled_region * zoom = win_siz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Map and scrol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14400" y="1676520"/>
            <a:ext cx="739152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s two sorts of scroll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tty much instantaneous scrolling of the sequence in the scrolled window on the scr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er “scrolling” of the scrolled region within the canvas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590920" y="4191120"/>
            <a:ext cx="609480" cy="2361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666880" y="4648320"/>
            <a:ext cx="457200" cy="533160"/>
          </a:xfrm>
          <a:prstGeom prst="rect">
            <a:avLst/>
          </a:prstGeom>
          <a:solidFill>
            <a:srgbClr val="00ff00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666880" y="5257800"/>
            <a:ext cx="486000" cy="685800"/>
          </a:xfrm>
          <a:prstGeom prst="upDownArrow">
            <a:avLst>
              <a:gd name="adj1" fmla="val 50000"/>
              <a:gd name="adj2" fmla="val 2809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781680" y="4114800"/>
            <a:ext cx="609840" cy="2362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0" y="4267080"/>
            <a:ext cx="485640" cy="2057400"/>
          </a:xfrm>
          <a:prstGeom prst="upDownArrow">
            <a:avLst>
              <a:gd name="adj1" fmla="val 50000"/>
              <a:gd name="adj2" fmla="val 8433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629400" y="5105520"/>
            <a:ext cx="91440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3124080" y="4114800"/>
            <a:ext cx="3657600" cy="5335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24080" y="5181480"/>
            <a:ext cx="3657600" cy="129564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2320" y="502920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696800" y="502920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r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here’s one I prepared earli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2286000" y="1676520"/>
            <a:ext cx="47242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rolling awa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2719440" cy="38862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3200400" y="1981080"/>
            <a:ext cx="2720880" cy="38862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6095880" y="1981080"/>
            <a:ext cx="27194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 a chromosome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2081160" cy="29718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2514600" y="1752480"/>
            <a:ext cx="2079720" cy="29718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724280" y="1752480"/>
            <a:ext cx="2079720" cy="29718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6934320" y="1752480"/>
            <a:ext cx="2081160" cy="29718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518040" y="5013360"/>
            <a:ext cx="168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3.5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40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667600" y="5029200"/>
            <a:ext cx="168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3.5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k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953600" y="5029200"/>
            <a:ext cx="146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k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239240" y="5029200"/>
            <a:ext cx="144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k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summar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1676520"/>
            <a:ext cx="815328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world of X Windows, the biggest useful window you can have is 32k pixe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ware like the FooCanvas provides a very natural way of displaying sequen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a system with enough performance to scroll/zoom over long sequ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work in the coordinates of the sequence, it does the screen stuf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t doesn’t deal with the 32k limit at all (either for the window or individual feature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ixed window appro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17524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by acedb/Fmap and lots of other progra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56386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579132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e. whatever section of sequence you are viewing, you pack it in to the visible window on your scre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2438280"/>
            <a:ext cx="152280" cy="2819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9320" y="525780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00400" y="2438280"/>
            <a:ext cx="3049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3581280"/>
            <a:ext cx="30492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200400" y="4572000"/>
            <a:ext cx="30492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352680" y="2895480"/>
            <a:ext cx="152640" cy="685800"/>
          </a:xfrm>
          <a:custGeom>
            <a:avLst/>
            <a:gdLst/>
            <a:ahLst/>
            <a:rect l="l" t="t" r="r" b="b"/>
            <a:pathLst>
              <a:path w="96" h="432">
                <a:moveTo>
                  <a:pt x="0" y="0"/>
                </a:moveTo>
                <a:lnTo>
                  <a:pt x="96" y="192"/>
                </a:lnTo>
                <a:lnTo>
                  <a:pt x="0" y="43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352680" y="3962520"/>
            <a:ext cx="152640" cy="609480"/>
          </a:xfrm>
          <a:custGeom>
            <a:avLst/>
            <a:gdLst/>
            <a:ahLst/>
            <a:rect l="l" t="t" r="r" b="b"/>
            <a:pathLst>
              <a:path w="96" h="432">
                <a:moveTo>
                  <a:pt x="0" y="0"/>
                </a:moveTo>
                <a:lnTo>
                  <a:pt x="96" y="192"/>
                </a:lnTo>
                <a:lnTo>
                  <a:pt x="0" y="43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742480" y="5257800"/>
            <a:ext cx="14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cri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867280" y="5181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324480" y="2590920"/>
            <a:ext cx="30492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324480" y="2666880"/>
            <a:ext cx="304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g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90720" y="2819520"/>
            <a:ext cx="1674720" cy="20574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962520" y="2819520"/>
            <a:ext cx="1674720" cy="20574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7086600" y="2819520"/>
            <a:ext cx="16732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anks to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95280" y="2133720"/>
            <a:ext cx="68580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owe it all to FooCanvas…well nearly all…..(pity about the documentation…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nks to Rob Clack for his efforts with Foo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o Roy Storey for not immediately saying upon his arrival in the group “I could do all that in Perl… only better…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f you found this “captivating”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38080" y="1752480"/>
            <a:ext cx="7543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time after I’d found out all I wanted to know (ever) about the short comings of X Windows, I found this thought provoking pap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"Why X Is Not Our Ideal Window System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Hani Gajewska, Mark Manasse &amp; Joel McCorm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beg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"We come to praise X, not to bury it.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explains a lot about why X windows programming is often not as straight forward as you might have hoped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map with lots of cl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447920" y="1600200"/>
            <a:ext cx="624816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map zoomed in to ge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209680" y="1676520"/>
            <a:ext cx="4648320" cy="48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s and C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14400" y="2057400"/>
            <a:ext cx="74674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always display any length of 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bitrary amount of zoo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14400" y="4267080"/>
            <a:ext cx="75438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scrolling means redrawing fea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ooming often means redoing conversion of sequence features to screen objec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an ideal world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74880" y="1889280"/>
            <a:ext cx="7483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066680" y="2209680"/>
            <a:ext cx="754380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would like to be able to scroll through a whole chroms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would like to zoom in and out anywhere on that chromos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d like it all to work at a reasonable sp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at to do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14400" y="2133720"/>
            <a:ext cx="75438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s just make a huge window and scroll through it, what could be simpl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software shall we us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ould extract the acedb graph package from acedb and modify it to work in a different way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we could use some new trendy open source thing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a tricky choice but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 source to the rescu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295280" y="2057400"/>
            <a:ext cx="647712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kind of “canvas” widg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ed GnomeCanvas….too slow, too much memory…..hopel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luckily for us there is son of GnomeCanvas, th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ooCanv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’s a cut down version used by Nautilus, gnumeric and a few other programs….designed for efficiency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0T16:14:52Z</dcterms:created>
  <dc:creator>Genome Research</dc:creator>
  <dc:description/>
  <dc:language>en-US</dc:language>
  <cp:lastModifiedBy>Genome Research</cp:lastModifiedBy>
  <dcterms:modified xsi:type="dcterms:W3CDTF">2005-03-15T10:21:09Z</dcterms:modified>
  <cp:revision>65</cp:revision>
  <dc:subject/>
  <dc:title>How Big is my Window ?</dc:title>
</cp:coreProperties>
</file>