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61694F-A895-4C34-B7BC-B1F9621BDBD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DF7345-BC1D-41D9-83CF-8BF1879DE33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B9C958-6236-4D53-9AB6-34070472ADB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E07D33-B068-4BA7-8416-CC27BDAAC9B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FA258D-E3F4-4FB3-B416-CDCCFF7FAF4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DE795E-F5F2-4F77-BF57-2C25E2EDF69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9030DB-5A4E-498E-82CD-E9ED61BCF35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E06803-436F-4E31-8BAE-5C3B572DDC0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59B52C-7F3D-45AA-A9A9-F4766D8CFC8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D87DCD-DCD1-4F9B-9633-AD76A4DCC13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D87D53-832D-4CAC-AD59-8E717744358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447D03-7BDB-407C-B899-01780025976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39AB3-C221-47AB-A196-B886B62E1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3E1C9-5E08-4915-9AC0-CB7CAB55D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C4020-512B-4BC2-9C01-9224206AF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4F346-7F0E-40E1-A338-D40686900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090F7-5A77-48D8-9733-6DF569805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D26C1-B955-44FA-BD6E-5022437B2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A6D10-575F-42CC-864B-D45CFD435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2D644-917A-4C68-A67A-A14E2A76A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FC7E2-538E-4189-9D0E-7E0D0F52F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F50E-D0F1-4EA2-8AFA-247D1E6BC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99CC1-8EC7-4415-8A07-FBA69FAD1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FD02A-6FE6-4487-AA71-F0F78A8C6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F71A-4818-44B8-8229-FBB1DD0C2789}" type="datetime">
              <a:rPr b="1" lang="en-US" sz="1200" spc="-1" strike="noStrike">
                <a:solidFill>
                  <a:srgbClr val="898989"/>
                </a:solidFill>
                <a:latin typeface="Arial"/>
              </a:rPr>
              <a:t>07/29/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2BEF-9E76-4EFF-BE9E-A0E86AE40A7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