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155-77DE-4480-9766-703680F0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51D-6E63-4CBF-AB0E-8CDC6D9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C53-F0E2-4444-A2CA-B7273A4B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9C6-90D7-421E-8A80-6DC962CA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6A8-CB59-418E-92CE-EDEAFBB5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C5B-7311-47FD-A76C-6A1E1C9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F690-2E43-4A3A-92F9-1F9F6DCC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18B-67E8-4F8A-8068-FAC1F9DE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E01-96AD-4E59-8A7F-60BF5935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9AA-7613-43E5-843B-4A76211C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1161-4B9D-4141-93A2-01DFD77D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94D-1495-49AA-A60A-A2C4FE3C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17F-61B1-406F-A722-277EEB26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DA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few good days in Cape Tow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 comm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basic http commands naturally f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– gets data from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– add new data, modify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 – augment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– deletes existi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erver – server that supports DA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as – keyword causing http server to call DAS2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cc00"/>
                </a:solidFill>
                <a:latin typeface="Arial"/>
              </a:rPr>
              <a:t>request -  DAS 2 request in URL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URL 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das/source/version/namespac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examples (all use http GE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sources (e.g. geno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versions of 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meta-info/namespaces for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everything in a namesp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 all “gene”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mouse/43/feature/gene/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gene g00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ly there are the following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ypelist –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ylesheet – detailed description of all fea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ature – genomic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ce – and and protein 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ion – genomic features by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/das/wormbase/1/type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"http://localhost/das/wormbase/1/stylesheet/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ethod_ontology="http://song.sourceforge.net/ontologies/sofa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Sequence:tRNAscan-SE-1.11" method="Sequence" source="tRNAscan-SE-1.11"&gt;TRNAscan-SE-1.11 Sequenc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curated" method="gene" source="curated"&gt;Curated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RNA" method="gene" source="RNA"&gt;RNA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gene:framework" method="gene" source="framework"&gt;Framework gene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curated" method="transcript" source="curated"&gt;Curated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RNA" method="transcript" source="RNA"&gt;RNA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coding_test:curated" method="coding_test" source="curated"&gt;Curated coding_tes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transcript:NDB_CDSl" method="transcript" source="NDB_CDSl"&gt;NDB_CDSl transcrip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WABA_briggsae_cosmid" method="alignment" source="WABA_briggsae_cosmid"&gt;WABA_briggsae_cosmid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BEST" method="alignment" source="BLAT_EST_BEST"&gt;BLAT_EST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EST_OTHER" method="alignment" source="BLAT_EST_OTHER"&gt;BLAT_EST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BEST" method="alignment" source="BLAT_mRNA_BEST"&gt;BLAT_mRNA_BEST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alignment:BLAT_mRNA_OTHER" method="alignment" source="BLAT_mRNA_OTHER"&gt;BLAT_mRNA_OTHER alignment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erimental:RNAi" method="experimental" source="RNAi"&gt;RNAi experimental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Expression:Expr_profile" method="Expression" source="Expr_profile"&gt;Expr_profile Expressions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TYPE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mor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das/wormbase/1/stylesheet/Sequence:tRNAscan-SE-1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STYLE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ml:base="http://localhost/das/wormbase/1/stylesheet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TYPE id="Sequence:tRNAscan-SE-1.11" xml:base="http://localhost/das/wormbase/1/stylesheet/Sequence:tRNAscan-SE-1.11/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bgcolor" value="whit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height" value="3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gcolor" value="black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key" value="tRNAs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citation" value="These are tRNA predictions made using Sean Eddy&amp;#39;s tRNAscan program.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TTRIBUTE id="fontcolor" value="slateblue" 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TYP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STYLESH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 forma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/das/wormbase/1/feature/transcript:curated/M7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xml:base=http://localhost/das/wormbase/1/featur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mat="DAS2XML"&gt;                           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we could have put  format=“GFF3” here for GFF form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EATURE id="transcript:curated/Sequence:M7.1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LOCATION id="../sequence/IV" start="11093983" end="11093354" strand="-1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TYPE id="../stylesheet/transcript:curated" source="curated" method="transcript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DISPLAY_NAME&gt;M7.1&lt;/DISPLAY_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iquitin-conjugating enzyme E2-17 KD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let-70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NOTE&gt;ubc-2&lt;/NOT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S xml:base="http://localhost/das/wormbase/1/stylesheet/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SUBPART id="CDS:curated/Sequence:M7.1" type="CDS:curated" 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SUBPART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tc.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FF forma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das/wormbase/I/region/III/500/2000?format=GF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EATURE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="http://www.biodas.org/ns/das/2.00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ns:xlink="http://www.w3.org/1999/xlin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ml:base="http://localhost/das/wormbase/I/feature/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mat="GFF3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omic_canonic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ding_tes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crip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1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5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6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at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D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7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=Sequence: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85517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Sequence: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9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3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mv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Pair_S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5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4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=PCR_product:sjj_cTel54X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/FEATURELIS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XML “Bas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an href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/das/mouse/43/region/seq0043/5000/20000"&gt;My favourite seq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get back to a gene would requi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href="../../gene/g0043/"&gt;Painful hrefs"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its also possible to use the html "Base" instruction to do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Base href="http://yourserver/das/mouse/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you can simply 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a name="gene/g0043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ding a new ex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 /das/mouse/build4/CDS/cds12345     (n.b. exon must have an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t-data &lt;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location start= end= seqid=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parent="../../mRNA/t00043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etc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/featu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an exon from mRNA t000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TE /das/mouse/build4/CDS/cds123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, wher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s at SANBI, University of the Western Cape, Cape 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sanbi.ac.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e is run by Winston 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ncoln Stein of CSHL is on sabbatical there…lucky for me as it was -15C at CSH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ent to work on DAS 2 with Lincoln because I want to use it for ZMap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clien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 + XML = good existing lib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 libcurl, v. portable, easy to use, includes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ML:   SAX or DOM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xml2: bizarre SAX interface does not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expat: seems perfect, is basis of perl xml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lso Moz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working client that queries/outputs results from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summa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command usag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L format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commands - work in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server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client 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DAS 2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iodas docs/sample serv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ext:pub.open-bio.org:/home/repository/biodas/da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otype server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dev.wormbase.org/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is the sequence viewer/annotation window of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arbitrary sequence with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faces to other parts of acedb to allow gene-finding, alignment display,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used by lots of annotators here and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and more projects are using relational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Map only works against acedb D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ts of annotators are used to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why not split off the FMap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79480" y="4889520"/>
            <a:ext cx="678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so fa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700280"/>
            <a:ext cx="1512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198756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0" y="1700280"/>
            <a:ext cx="6408360" cy="1346040"/>
            <a:chOff x="2556000" y="1700280"/>
            <a:chExt cx="6408360" cy="1346040"/>
          </a:xfrm>
        </p:grpSpPr>
        <p:sp>
          <p:nvSpPr>
            <p:cNvPr id="56" name=""/>
            <p:cNvSpPr/>
            <p:nvPr/>
          </p:nvSpPr>
          <p:spPr>
            <a:xfrm>
              <a:off x="2556000" y="170028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0360" y="198756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788000" y="1700280"/>
              <a:ext cx="3744720" cy="914400"/>
              <a:chOff x="4788000" y="1700280"/>
              <a:chExt cx="3744720" cy="914400"/>
            </a:xfrm>
          </p:grpSpPr>
          <p:sp>
            <p:nvSpPr>
              <p:cNvPr id="59" name=""/>
              <p:cNvSpPr/>
              <p:nvPr/>
            </p:nvSpPr>
            <p:spPr>
              <a:xfrm>
                <a:off x="4788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020000" y="1700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372360" y="1987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003640" y="1916280"/>
              <a:ext cx="3744720" cy="914400"/>
              <a:chOff x="5003640" y="1916280"/>
              <a:chExt cx="3744720" cy="914400"/>
            </a:xfrm>
          </p:grpSpPr>
          <p:sp>
            <p:nvSpPr>
              <p:cNvPr id="63" name=""/>
              <p:cNvSpPr/>
              <p:nvPr/>
            </p:nvSpPr>
            <p:spPr>
              <a:xfrm>
                <a:off x="5003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5640" y="191628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588000" y="220356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5219640" y="2131920"/>
              <a:ext cx="3744720" cy="914400"/>
              <a:chOff x="5219640" y="2131920"/>
              <a:chExt cx="374472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5219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451640" y="213192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804000" y="241920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556000" y="4005360"/>
            <a:ext cx="6408360" cy="1346040"/>
            <a:chOff x="2556000" y="4005360"/>
            <a:chExt cx="6408360" cy="1346040"/>
          </a:xfrm>
        </p:grpSpPr>
        <p:sp>
          <p:nvSpPr>
            <p:cNvPr id="71" name=""/>
            <p:cNvSpPr/>
            <p:nvPr/>
          </p:nvSpPr>
          <p:spPr>
            <a:xfrm>
              <a:off x="2556000" y="4005360"/>
              <a:ext cx="151272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m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4292640"/>
              <a:ext cx="576000" cy="341280"/>
            </a:xfrm>
            <a:prstGeom prst="rightArrow">
              <a:avLst>
                <a:gd name="adj1" fmla="val 45120"/>
                <a:gd name="adj2" fmla="val 6741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788000" y="4005360"/>
              <a:ext cx="3744720" cy="914400"/>
              <a:chOff x="4788000" y="4005360"/>
              <a:chExt cx="3744720" cy="914400"/>
            </a:xfrm>
          </p:grpSpPr>
          <p:sp>
            <p:nvSpPr>
              <p:cNvPr id="74" name=""/>
              <p:cNvSpPr/>
              <p:nvPr/>
            </p:nvSpPr>
            <p:spPr>
              <a:xfrm>
                <a:off x="4788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20000" y="4005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372360" y="4292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003640" y="4221360"/>
              <a:ext cx="3744720" cy="914400"/>
              <a:chOff x="5003640" y="4221360"/>
              <a:chExt cx="3744720" cy="914400"/>
            </a:xfrm>
          </p:grpSpPr>
          <p:sp>
            <p:nvSpPr>
              <p:cNvPr id="78" name=""/>
              <p:cNvSpPr/>
              <p:nvPr/>
            </p:nvSpPr>
            <p:spPr>
              <a:xfrm>
                <a:off x="5003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235640" y="422136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588000" y="450864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5219640" y="4437000"/>
              <a:ext cx="3744720" cy="914400"/>
              <a:chOff x="5219640" y="4437000"/>
              <a:chExt cx="3744720" cy="914400"/>
            </a:xfrm>
          </p:grpSpPr>
          <p:sp>
            <p:nvSpPr>
              <p:cNvPr id="82" name=""/>
              <p:cNvSpPr/>
              <p:nvPr/>
            </p:nvSpPr>
            <p:spPr>
              <a:xfrm>
                <a:off x="5219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Zmap thre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451640" y="4437000"/>
                <a:ext cx="1512720" cy="914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04000" y="4724280"/>
                <a:ext cx="576000" cy="341280"/>
              </a:xfrm>
              <a:prstGeom prst="rightArrow">
                <a:avLst>
                  <a:gd name="adj1" fmla="val 45120"/>
                  <a:gd name="adj2" fmla="val 67417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"/>
          <p:cNvSpPr/>
          <p:nvPr/>
        </p:nvSpPr>
        <p:spPr>
          <a:xfrm>
            <a:off x="1908000" y="4292640"/>
            <a:ext cx="576360" cy="341280"/>
          </a:xfrm>
          <a:prstGeom prst="rightArrow">
            <a:avLst>
              <a:gd name="adj1" fmla="val 45120"/>
              <a:gd name="adj2" fmla="val 674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serv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00280"/>
            <a:ext cx="165564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1700280"/>
            <a:ext cx="1656000" cy="1150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30560" y="2033640"/>
            <a:ext cx="2016000" cy="485640"/>
          </a:xfrm>
          <a:prstGeom prst="leftRightArrow">
            <a:avLst>
              <a:gd name="adj1" fmla="val 50000"/>
              <a:gd name="adj2" fmla="val 826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4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3645000"/>
            <a:ext cx="671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hould be the protoco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ly a plethora of data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ience suggests binary protocols are not well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to interface to C/C++, Java, perl based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ML type datastreams are popular + plenty of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S used widely but has some drawbacks, DAS2 could solve these and provide a goo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9480" y="208116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66760" y="208116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70028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S 2.0 is designed to address the short comings of DAS 1.0,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updating protocol to allow the protocol to be used for annotation  rather than just view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support for hierachical structures (e.g. transcript + ex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formats for pay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2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, PUT, POST, DELETE form basis for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ls act as declarative commands to acc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s use of XML “Base” and “XLink” to form unique/consistent Url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itial implementation provides both XML and GFF3 format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18:35:10Z</dcterms:created>
  <dc:creator>Griffiths</dc:creator>
  <dc:description/>
  <dc:language>en-US</dc:language>
  <cp:lastModifiedBy>Griffiths</cp:lastModifiedBy>
  <dcterms:modified xsi:type="dcterms:W3CDTF">2004-02-10T13:28:48Z</dcterms:modified>
  <cp:revision>31</cp:revision>
  <dc:subject/>
  <dc:title>ZMap and DAS2</dc:title>
</cp:coreProperties>
</file>