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78D-081C-40C8-8ACD-D4AB4917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8CE-B95F-4D0D-AF60-BA731C2A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DA2-A3BB-46BF-B8A4-34055D50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FFD-B93F-4BBC-8815-ACFBC1AB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0F55-C1EE-49B9-95FB-931D65E5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6FFF-2F11-444B-8339-4C4E101D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5F0-F321-4489-9697-A5B70C6B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FB3-222C-404F-BFB5-9D92C33D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A6A7-E4E1-4000-A451-0C00DE71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99F-EDBD-4EF5-B3DF-A0E7D7DB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F5F-EF1E-4541-BA9F-8D1E7CF1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B87-08EB-43E8-83EB-7E1D9A99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2359-9869-400C-99DB-769C463E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edb and other thing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 Griffiths &amp; Rob C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ZMap client, like a Web Brows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independent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ing arbitrary numbers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h, blah, 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thread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thread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sons for using thre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multiple cpu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formance – overlapp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tecture/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 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s for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 must be respo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rvers may take some time to send data, data will take some time to read/convert for dra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lib is not 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lls/subroutines for contacting servers are thread safe, e.g. system socket calls, Libcurl, expat, glib and other l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ggests a natural split into “GUI” vs. “server handling”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8000" y="1197000"/>
            <a:ext cx="7996320" cy="4319640"/>
          </a:xfrm>
          <a:custGeom>
            <a:avLst/>
            <a:gdLst/>
            <a:ahLst/>
            <a:rect l="l" t="t" r="r" b="b"/>
            <a:pathLst>
              <a:path w="5037" h="2721">
                <a:moveTo>
                  <a:pt x="0" y="635"/>
                </a:moveTo>
                <a:lnTo>
                  <a:pt x="0" y="1996"/>
                </a:lnTo>
                <a:lnTo>
                  <a:pt x="1633" y="1996"/>
                </a:lnTo>
                <a:lnTo>
                  <a:pt x="2585" y="2721"/>
                </a:lnTo>
                <a:lnTo>
                  <a:pt x="3538" y="2721"/>
                </a:lnTo>
                <a:lnTo>
                  <a:pt x="3538" y="2313"/>
                </a:lnTo>
                <a:lnTo>
                  <a:pt x="4944" y="2313"/>
                </a:lnTo>
                <a:lnTo>
                  <a:pt x="4944" y="1678"/>
                </a:lnTo>
                <a:lnTo>
                  <a:pt x="3538" y="1678"/>
                </a:lnTo>
                <a:lnTo>
                  <a:pt x="3538" y="635"/>
                </a:lnTo>
                <a:lnTo>
                  <a:pt x="3540" y="616"/>
                </a:lnTo>
                <a:lnTo>
                  <a:pt x="5037" y="622"/>
                </a:lnTo>
                <a:lnTo>
                  <a:pt x="5035" y="0"/>
                </a:lnTo>
                <a:lnTo>
                  <a:pt x="2449" y="0"/>
                </a:lnTo>
                <a:lnTo>
                  <a:pt x="1727" y="641"/>
                </a:lnTo>
                <a:lnTo>
                  <a:pt x="0" y="635"/>
                </a:lnTo>
                <a:close/>
              </a:path>
            </a:pathLst>
          </a:custGeom>
          <a:noFill/>
          <a:ln w="1260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Map and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2475000"/>
            <a:ext cx="100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2475000"/>
            <a:ext cx="136836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13080" y="1341360"/>
            <a:ext cx="107964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4005360"/>
            <a:ext cx="1081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27640" y="134136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00720" y="227664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2492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2720" y="270828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8360" y="292428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00720" y="501336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4005360"/>
            <a:ext cx="136872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6720" y="5229360"/>
            <a:ext cx="1368360" cy="718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5445000"/>
            <a:ext cx="136836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5661000"/>
            <a:ext cx="136872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606800">
            <a:off x="2987280" y="2276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66000">
            <a:off x="2987280" y="378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162864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35640" y="422100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815000">
            <a:off x="5435280" y="2276640"/>
            <a:ext cx="649080" cy="269640"/>
          </a:xfrm>
          <a:prstGeom prst="rightArrow">
            <a:avLst>
              <a:gd name="adj1" fmla="val 50000"/>
              <a:gd name="adj2" fmla="val 6018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5000">
            <a:off x="5508720" y="5013360"/>
            <a:ext cx="649080" cy="270000"/>
          </a:xfrm>
          <a:prstGeom prst="rightArrow">
            <a:avLst>
              <a:gd name="adj1" fmla="val 50000"/>
              <a:gd name="adj2" fmla="val 601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ore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916280"/>
            <a:ext cx="1584000" cy="3241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1916280"/>
            <a:ext cx="3529080" cy="1081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27640" y="3933720"/>
            <a:ext cx="1800000" cy="1079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3933720"/>
            <a:ext cx="1152360" cy="104292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557360"/>
            <a:ext cx="7805880" cy="3959280"/>
          </a:xfrm>
          <a:custGeom>
            <a:avLst/>
            <a:gdLst/>
            <a:ahLst/>
            <a:rect l="l" t="t" r="r" b="b"/>
            <a:pathLst>
              <a:path w="4917" h="2494">
                <a:moveTo>
                  <a:pt x="0" y="0"/>
                </a:moveTo>
                <a:lnTo>
                  <a:pt x="0" y="2494"/>
                </a:lnTo>
                <a:lnTo>
                  <a:pt x="1406" y="2494"/>
                </a:lnTo>
                <a:lnTo>
                  <a:pt x="1406" y="1088"/>
                </a:lnTo>
                <a:lnTo>
                  <a:pt x="4899" y="1088"/>
                </a:lnTo>
                <a:lnTo>
                  <a:pt x="4917" y="1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40360" y="3716280"/>
            <a:ext cx="2376360" cy="1584360"/>
          </a:xfrm>
          <a:custGeom>
            <a:avLst/>
            <a:gdLst/>
            <a:ahLst/>
            <a:rect l="l" t="t" r="r" b="b"/>
            <a:pathLst>
              <a:path w="1497" h="998">
                <a:moveTo>
                  <a:pt x="0" y="0"/>
                </a:moveTo>
                <a:lnTo>
                  <a:pt x="0" y="998"/>
                </a:lnTo>
                <a:lnTo>
                  <a:pt x="1497" y="998"/>
                </a:lnTo>
                <a:lnTo>
                  <a:pt x="1497" y="0"/>
                </a:lnTo>
                <a:lnTo>
                  <a:pt x="0" y="0"/>
                </a:lnTo>
                <a:close/>
              </a:path>
            </a:pathLst>
          </a:custGeom>
          <a:noFill/>
          <a:ln w="1584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2205000"/>
            <a:ext cx="1800360" cy="485640"/>
          </a:xfrm>
          <a:prstGeom prst="leftRightArrow">
            <a:avLst>
              <a:gd name="adj1" fmla="val 50000"/>
              <a:gd name="adj2" fmla="val 738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221000"/>
            <a:ext cx="1800360" cy="486000"/>
          </a:xfrm>
          <a:prstGeom prst="leftRightArrow">
            <a:avLst>
              <a:gd name="adj1" fmla="val 50000"/>
              <a:gd name="adj2" fmla="val 737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72360" y="4221000"/>
            <a:ext cx="1150920" cy="486000"/>
          </a:xfrm>
          <a:prstGeom prst="leftRightArrow">
            <a:avLst>
              <a:gd name="adj1" fmla="val 50000"/>
              <a:gd name="adj2" fmla="val 471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even more detai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916280"/>
            <a:ext cx="1295280" cy="25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lib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p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773360"/>
            <a:ext cx="1224000" cy="1296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1844640"/>
            <a:ext cx="1655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437000"/>
            <a:ext cx="914400" cy="16574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960800"/>
            <a:ext cx="21607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960800"/>
            <a:ext cx="91440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d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2205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179800"/>
            <a:ext cx="1265040" cy="485640"/>
          </a:xfrm>
          <a:prstGeom prst="rightArrow">
            <a:avLst>
              <a:gd name="adj1" fmla="val 50000"/>
              <a:gd name="adj2" fmla="val 651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33400" y="4790880"/>
            <a:ext cx="852480" cy="7192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14360 h 719280"/>
              <a:gd name="textAreaBottom" fmla="*/ 6163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7526000">
            <a:off x="2988360" y="3499560"/>
            <a:ext cx="719280" cy="486000"/>
          </a:xfrm>
          <a:prstGeom prst="rightArrow">
            <a:avLst>
              <a:gd name="adj1" fmla="val 50000"/>
              <a:gd name="adj2" fmla="val 37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36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5022720"/>
            <a:ext cx="792360" cy="486000"/>
          </a:xfrm>
          <a:prstGeom prst="leftRightArrow">
            <a:avLst>
              <a:gd name="adj1" fmla="val 50000"/>
              <a:gd name="adj2" fmla="val 32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240" y="270828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5320" y="56088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7240" y="4365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Check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1800" y="36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30040" y="16477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D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gs to rememb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your program with –pthreads so you get the thread safe versions of the system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ile the non-standard libraries you want to use with –pthreads (like my own acedb server connection package…sig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out for glib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n stand back and light the blue touch pape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e have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-threaded Z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an arbitrary number of threads associated with it, i.e. can contact an arbitrary number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window has the usual “stop”/”reload” but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 runs against multiple acedb servers, soon to include DAS 2 ser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Rob is working on the drawing but that’s another talk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Worm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Hav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other Sang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new stuf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 is used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entral repository for worm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ool for “putting it all togeth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of the main annot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00280"/>
            <a:ext cx="609480" cy="60984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1628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708280"/>
            <a:ext cx="914400" cy="60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3860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58920" y="5084640"/>
            <a:ext cx="914400" cy="6098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914400" cy="60984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720" y="443700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m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5373720"/>
            <a:ext cx="914400" cy="68580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349360"/>
            <a:ext cx="649440" cy="1008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40000" y="4221000"/>
            <a:ext cx="936720" cy="11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0920" y="3933720"/>
            <a:ext cx="108108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997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851280" y="2276280"/>
            <a:ext cx="1081080" cy="10810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3933720"/>
            <a:ext cx="2881080" cy="7905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221000"/>
            <a:ext cx="1584360" cy="1440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2349360"/>
            <a:ext cx="914400" cy="609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067280" y="2781360"/>
            <a:ext cx="2881080" cy="792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0360" y="3429000"/>
            <a:ext cx="914400" cy="60948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3789360"/>
            <a:ext cx="29527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744640"/>
            <a:ext cx="1800000" cy="140184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170028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lix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93080" y="4005360"/>
            <a:ext cx="1419120" cy="122400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817720"/>
            <a:ext cx="914400" cy="1257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2421000"/>
            <a:ext cx="914400" cy="204948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59280" y="5229360"/>
            <a:ext cx="194292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ter/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203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320364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9477200">
            <a:off x="6443280" y="270792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131200">
            <a:off x="6300360" y="4005360"/>
            <a:ext cx="544680" cy="485640"/>
          </a:xfrm>
          <a:prstGeom prst="rightArrow">
            <a:avLst>
              <a:gd name="adj1" fmla="val 37907"/>
              <a:gd name="adj2" fmla="val 578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2234600">
            <a:off x="169200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5516600">
            <a:off x="3104280" y="4303800"/>
            <a:ext cx="792360" cy="485640"/>
          </a:xfrm>
          <a:prstGeom prst="rightArrow">
            <a:avLst>
              <a:gd name="adj1" fmla="val 48694"/>
              <a:gd name="adj2" fmla="val 6007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7613000">
            <a:off x="4874400" y="4402800"/>
            <a:ext cx="750960" cy="486000"/>
          </a:xfrm>
          <a:prstGeom prst="rightArrow">
            <a:avLst>
              <a:gd name="adj1" fmla="val 47435"/>
              <a:gd name="adj2" fmla="val 6775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user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’ve run out of memory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just make SMap do this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would be nice if FMap could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edb, start smoking today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uf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otation, annotation, annotatio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Map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haps most used component of aced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nnotation tool for many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with blixem/dotter/genefinder and of course the underlying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is tied to Aced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96920" y="1600200"/>
            <a:ext cx="5148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p to Z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ap aim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 client/server version of F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e an annotation client that is not tied to Aced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generally supported data format such as DAS 2, Otter or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ntain the good bits of FMap but junk some of the irritating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09:56:09Z</dcterms:created>
  <dc:creator>Griffiths</dc:creator>
  <dc:description/>
  <dc:language>en-US</dc:language>
  <cp:lastModifiedBy>Griffiths</cp:lastModifiedBy>
  <dcterms:modified xsi:type="dcterms:W3CDTF">2004-03-16T10:41:06Z</dcterms:modified>
  <cp:revision>34</cp:revision>
  <dc:subject/>
  <dc:title>Acedb – SMap, GFF(2/3), ZMap, DAS 2….</dc:title>
</cp:coreProperties>
</file>