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8C1-00B8-4CC3-8E6E-B6DBB6FD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782-2196-4E14-B901-D4F61B70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901-E248-4C3B-89E4-5A382D4F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3F1-FFAA-4C55-8EB0-84AD64F9E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F4D4-E5E4-4902-94A6-102AB8A0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ED38-3318-4C01-8279-1AF6EA0F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095-2279-43BF-82B7-F2E6EFC4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761-6723-437E-B854-AFB966B1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7D8E-6881-4231-BA39-FFD5D6AC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1CD0-2641-4E88-B484-123D2117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D58-35ED-40DA-B992-A7AC7500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498-5F18-45FA-84CF-9A8E6AB3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C037-F8DE-49BD-A983-FAAD28C49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ig is your Wind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77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…..But I want to scroll through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romos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 Griffi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lternativ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18288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just draw your stuff once in a virtual space and as you zoom, the canvas scales up the window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3581280"/>
            <a:ext cx="5335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2819520"/>
            <a:ext cx="1066680" cy="7617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33520" y="4038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3581280"/>
            <a:ext cx="823680" cy="486000"/>
          </a:xfrm>
          <a:prstGeom prst="rightArrow">
            <a:avLst>
              <a:gd name="adj1" fmla="val 50000"/>
              <a:gd name="adj2" fmla="val 423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819520"/>
            <a:ext cx="22860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352680"/>
            <a:ext cx="5335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819520"/>
            <a:ext cx="1066680" cy="5331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657600" y="4343040"/>
            <a:ext cx="106668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895480"/>
            <a:ext cx="22860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514600"/>
            <a:ext cx="53352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934320" y="2514600"/>
            <a:ext cx="1066680" cy="380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0292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3581280"/>
            <a:ext cx="824040" cy="486000"/>
          </a:xfrm>
          <a:prstGeom prst="rightArrow">
            <a:avLst>
              <a:gd name="adj1" fmla="val 50000"/>
              <a:gd name="adj2" fmla="val 423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8672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give instantaneous scrolling, what could go wrong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nasty in the woodshed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133720"/>
            <a:ext cx="73915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point all looked good, performance was good, scrolling was good, zooming was 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so time to really zoom in on some long sequences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ata started to disappear/reappear randomly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actually it started to disappear when the window got to about 32k in siz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Canvas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96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124080"/>
            <a:ext cx="21337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8400" y="198108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draw in a vir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 in dou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99720" y="205740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ots in 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92440" y="5775480"/>
            <a:ext cx="57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urely it just takes care of everything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of layers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029200"/>
            <a:ext cx="72392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191120"/>
            <a:ext cx="723924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3276720"/>
            <a:ext cx="2438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h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1143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438280"/>
            <a:ext cx="2438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752480"/>
            <a:ext cx="24382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oCan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438280"/>
            <a:ext cx="13716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Gtk say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1337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286000"/>
            <a:ext cx="80769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ypical GTK size/position struc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def int    gi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 GtkAll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x, y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/* the X, Y position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int width, heigh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/* the width/height of the widgets area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bout X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esource definitions for position/s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x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y         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height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Nwidth   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re defined in Intrinsic.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short                 Positi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ypedef unsigned short  Dimension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Xlib has the answer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43828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CreateWindow(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x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* y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width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nsigned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/* height */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, now we seem to be back to huge window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o is righ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280" y="227016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057400"/>
            <a:ext cx="80773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to look in the X Protocol to see what is really passed to the X server…..and there are several places to loo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11/Xproto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’Reilly Xwindows Volume Zero,  i.e. the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you will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                      INT16          i.e. 16 bit 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dth,height:   CARD16          i.e. 16 bit unsigned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3640" y="23464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we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position a window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32768  &lt;=    position    &lt;=   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and its x/y dimensions can be anywhere in the r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  &lt;=   dimension  &lt;=  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n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080" y="2041560"/>
            <a:ext cx="847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19810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ort of makes sen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2819520"/>
            <a:ext cx="38862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37335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21320" y="3657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280" y="2438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x, 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1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2971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ant to display a sequence but it’s a bit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114800"/>
            <a:ext cx="3045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560" y="2743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20960" y="274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72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2743200"/>
            <a:ext cx="152640" cy="3657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240" y="274320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omoso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5760" y="27432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2080" y="3962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19112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not reall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67652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Xli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DrawLine(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/* x1,  y1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;            /* x2,  y2 *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n the X Protocol (a PolyLine reque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: LISTofPOINT where POINT:   [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,y:INT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en all is said and done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, int  -&gt;  short,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ub of this is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82880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ll 16 bits to make a very big window is in fact pointle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s of many features can only be expressed using 15 bits meaning they must be in the top quarter of the windo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733920"/>
            <a:ext cx="2590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733920"/>
            <a:ext cx="129564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81640" y="54864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8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676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7960" y="48006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7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2040" y="32767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7960" y="60199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5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ffected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2666880"/>
            <a:ext cx="7239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nothing much really, just trivial stuff lik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ctangles and sub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lines an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ing of positions in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so on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about FooCanva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7840" y="2117880"/>
            <a:ext cx="84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roblem is to constrain the canvas from making huge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297180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assume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zoom  =  down to individual bases ( = 20 pixels/b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indow size  =  30k (allowing a good “safety” marg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mplies at max zoom you can see 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learly there is a mismatch between max window size and how much sequence you can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tunately it can be d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905120"/>
            <a:ext cx="1600200" cy="4267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276720"/>
            <a:ext cx="1295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o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438280"/>
            <a:ext cx="1295280" cy="121932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819520"/>
            <a:ext cx="8380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438280"/>
            <a:ext cx="83844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3657600"/>
            <a:ext cx="213372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14800" y="2133360"/>
            <a:ext cx="2743200" cy="1143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4495680"/>
            <a:ext cx="2743200" cy="10670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133720"/>
            <a:ext cx="1371600" cy="3429000"/>
          </a:xfrm>
          <a:prstGeom prst="rect">
            <a:avLst/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800" y="48769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60160" y="35053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4120" y="586728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Scrolled_region * zoom = win_si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Map and scro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676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two sorts of scrol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ty much instantaneous scrolling of the sequence in the scrolled window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“scrolling” of the scrolled region within the canvas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4191120"/>
            <a:ext cx="609480" cy="2361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4648320"/>
            <a:ext cx="457200" cy="533160"/>
          </a:xfrm>
          <a:prstGeom prst="rect">
            <a:avLst/>
          </a:prstGeom>
          <a:solidFill>
            <a:srgbClr val="00ff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5257800"/>
            <a:ext cx="486000" cy="685800"/>
          </a:xfrm>
          <a:prstGeom prst="upDownArrow">
            <a:avLst>
              <a:gd name="adj1" fmla="val 50000"/>
              <a:gd name="adj2" fmla="val 2809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4114800"/>
            <a:ext cx="609840" cy="2362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4267080"/>
            <a:ext cx="485640" cy="2057400"/>
          </a:xfrm>
          <a:prstGeom prst="upDownArrow">
            <a:avLst>
              <a:gd name="adj1" fmla="val 50000"/>
              <a:gd name="adj2" fmla="val 84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5105520"/>
            <a:ext cx="91440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24080" y="4114800"/>
            <a:ext cx="3657600" cy="533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3657600" cy="1295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2320" y="502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800" y="50292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here’s one I prepared earl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724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awa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719440" cy="38862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200400" y="1981080"/>
            <a:ext cx="2720880" cy="3886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1981080"/>
            <a:ext cx="271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a chromosome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2081160" cy="29718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724280" y="1752480"/>
            <a:ext cx="2079720" cy="2971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934320" y="1752480"/>
            <a:ext cx="2081160" cy="297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18040" y="501336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0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67600" y="502920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.5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3600" y="502920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39240" y="5029200"/>
            <a:ext cx="14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m 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k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676520"/>
            <a:ext cx="81532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world of X Windows, the biggest useful window you can have is 32k pix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like the FooCanvas provides a very natural way of displaying sequ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 system with enough performance to scroll/zoom over long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work in the coordinates of the sequence, it does the screen stu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doesn’t deal with the 32k limit at all (either for the window or individual featu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ixed window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by acedb/Fmap and lots of other progr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6386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5791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hatever section of sequence you are viewing, you pack it in to the visible window on your sc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438280"/>
            <a:ext cx="15228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320" y="5257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4382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5812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572000"/>
            <a:ext cx="3049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895480"/>
            <a:ext cx="152640" cy="68580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3962520"/>
            <a:ext cx="152640" cy="609480"/>
          </a:xfrm>
          <a:custGeom>
            <a:avLst/>
            <a:gdLst/>
            <a:ahLst/>
            <a:rect l="l" t="t" r="r" b="b"/>
            <a:pathLst>
              <a:path w="96" h="432">
                <a:moveTo>
                  <a:pt x="0" y="0"/>
                </a:moveTo>
                <a:lnTo>
                  <a:pt x="96" y="19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2480" y="52578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181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2590920"/>
            <a:ext cx="30492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66688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g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62520" y="2819520"/>
            <a:ext cx="167472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86600" y="2819520"/>
            <a:ext cx="1673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s t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2133720"/>
            <a:ext cx="6858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we it all to FooCanvas…well nearly all…..(pity about the documentation…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 to Rob Clack for his efforts with FooCan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o Roy Storey for not immediately saying upon his arrival in the group “I could do all that in Perl… only better…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you found this “captivating”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75248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time after I’d found out all I wanted to know (ever) about the short comings of X Windows, I found this thought provoking pa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hy X Is Not Our Ideal Window Syste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ani Gajewska, Mark Manasse &amp; Joel McCorm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be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We come to praise X, not to bury it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plains a lot about why X windows programming is often not as straight forward as you might have hope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with lots of cl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map zoomed in to ge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4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0574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lways display any length of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ry amount of zoo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4267080"/>
            <a:ext cx="7543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crolling means redraw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oming often means redoing conversion of sequence features to screen obj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n ideal worl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4880" y="1889280"/>
            <a:ext cx="7483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09680"/>
            <a:ext cx="7543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be able to scroll through a whole chrom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ould like to zoom in and out anywhere on that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d like it all to work at a reasonabl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what to do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2133720"/>
            <a:ext cx="75438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s just make a huge window and scroll through it, what could be simpl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software shall we u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extract the acedb graph package from acedb and modify it to work in a different wa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e could use some new trendy open source thing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tricky choice but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source to the rescu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2057400"/>
            <a:ext cx="64771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kind of “canvas” widg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ed GnomeCanvas….too slow, too much memory…..hop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luckily for us there is son of GnomeCanvas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ooCan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a cut down version used by Nautilus, gnumeric and a few other programs….designed for efficiency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6:14:52Z</dcterms:created>
  <dc:creator>Genome Research</dc:creator>
  <dc:description/>
  <dc:language>en-US</dc:language>
  <cp:lastModifiedBy>Genome Research</cp:lastModifiedBy>
  <dcterms:modified xsi:type="dcterms:W3CDTF">2005-03-15T10:21:09Z</dcterms:modified>
  <cp:revision>65</cp:revision>
  <dc:subject/>
  <dc:title>How Big is my Window ?</dc:title>
</cp:coreProperties>
</file>