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940-3611-4B8A-933B-A5E3DC21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C00-7A02-426B-A403-D58D4402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E60-9D62-45E6-B680-B40B7E20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F93-EBB2-4414-B422-1BB891BA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F2B-2C2F-4EA4-94FD-35D7C48D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79F-5B9D-4ED7-BF87-C6AE56A0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ABE-0475-4928-A957-19E8708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917-296B-4235-B745-6F11A63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2E1-51A2-4719-81EF-79C3A7A4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A02-A705-4583-A687-A312002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FAA-A00E-4A81-A5D0-5629599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FA6-ED44-4F47-A249-31D20AF5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3E5-5E6C-482F-8400-1071DC425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Two way Interprocess Communication (IPC) for ZMap and otterla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oy Sto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ds@sang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46520" y="2581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86200" y="1981080"/>
            <a:ext cx="8324280" cy="2590920"/>
            <a:chOff x="286200" y="1981080"/>
            <a:chExt cx="8324280" cy="2590920"/>
          </a:xfrm>
        </p:grpSpPr>
        <p:sp>
          <p:nvSpPr>
            <p:cNvPr id="75" name=""/>
            <p:cNvSpPr/>
            <p:nvPr/>
          </p:nvSpPr>
          <p:spPr>
            <a:xfrm>
              <a:off x="533520" y="2238480"/>
              <a:ext cx="1828800" cy="22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238480"/>
              <a:ext cx="2361960" cy="23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6200" y="231444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ZM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44480" y="228600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11::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67720" y="31240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2590920" y="236232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66880" y="297180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36320" y="198108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perl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36960" y="25909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590920" y="3914640"/>
              <a:ext cx="350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4524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13120" y="350532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response (xm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30040" y="4114800"/>
              <a:ext cx="39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Lucida Console"/>
                </a:rPr>
                <a:t>client (zmap) xml 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25240" y="358128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40560" y="15559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z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72360" y="4724280"/>
            <a:ext cx="7312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xremote replaced with perl (XS mod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Transport is still X-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rotoco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xml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-Header, separator, xm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419720"/>
            <a:ext cx="4800600" cy="152388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remote (command line to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om_str = join(' ; ', @comman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Sending: '$com_str'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xrem_com = ('xremote'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id              =&gt; $self-&gt;xace_window_i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-remote     =&gt; $com_st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warn "command = @xrem_com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 (system(@xrem_com) == 0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confess "Failed xremote: (@xrem_com) : $?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90720" y="3733920"/>
            <a:ext cx="487656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xr = X11::XRemote-&gt;new(-id =&gt; $win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@a = $xr-&gt;send_commands(@command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Sent commands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for(my $i = 0; $i &lt; @commands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$commands[$i] . " resulted in " . $a[$i]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graphical apps can accept remo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5105520"/>
            <a:ext cx="4191120" cy="761760"/>
          </a:xfrm>
          <a:prstGeom prst="rect">
            <a:avLst/>
          </a:prstGeom>
          <a:solidFill>
            <a:srgbClr val="d4df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0066"/>
                </a:solidFill>
                <a:latin typeface="Lucida Console"/>
              </a:rPr>
              <a:t>Usag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fruits = [qw(apples pears banana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veg    = [qw(carrots potatoes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callback = sub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($zmap, $req, $f, $v) = @_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if($req =~ /fruits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fruits: " . join(", ", @$f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elsif($req =~ /veg/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print "I know about these vegetables: " . join(", ", @$v) . "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return (200, "printed my knowledge.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my $zmap = ZMap::Connect-&gt;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Lucida Console"/>
              </a:rPr>
              <a:t>$zmap-&gt;init($tk, $callback, [$fruits, $veg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odules - Pure Perl and X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S modules have compiled shared object files (DBI/DBD, GD, XML::Parser, T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Requ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C library of some sort (can be just on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.xs/typedef file as input to the auto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Patience to de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xtUtils::Make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Current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pawning Z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Zoom control (zoom in, zoom out and zoom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ind Feature by distinguishing properties (zooming to appropriate magnif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Feature drawing (including multiple features in one reque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urther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Perl apps can accept/share editing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Console"/>
              </a:rPr>
              <a:t>Local quick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analysis code to run and parse analysis programs out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Console"/>
              </a:rPr>
              <a:t>Use Perl’s parsing strength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PC using XML and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rotocol is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Enables remote control of applications with greater degree of feedback on success and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and extends previou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 module code is built on top of the same C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Subjects I’ll talk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ZMap and otter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IPC or remote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 and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ge and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FMap and Z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xace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889440" cy="4876560"/>
          </a:xfrm>
          <a:prstGeom prst="rect">
            <a:avLst/>
          </a:prstGeom>
          <a:ln w="0">
            <a:noFill/>
          </a:ln>
        </p:spPr>
      </p:pic>
      <p:pic>
        <p:nvPicPr>
          <p:cNvPr id="48" name="zmap" descr=""/>
          <p:cNvPicPr/>
          <p:nvPr/>
        </p:nvPicPr>
        <p:blipFill>
          <a:blip r:embed="rId2"/>
          <a:stretch/>
        </p:blipFill>
        <p:spPr>
          <a:xfrm>
            <a:off x="4495680" y="1676520"/>
            <a:ext cx="4496040" cy="487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2480" y="4848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f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38400" y="2057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Lucida Console"/>
              </a:rPr>
              <a:t>z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ZMap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Fast (mainly thanks to foocan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splitting of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views on singl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Multiple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alig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Arbitrary zoo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Usability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ultiple data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zmap-split" descr=""/>
          <p:cNvPicPr/>
          <p:nvPr/>
        </p:nvPicPr>
        <p:blipFill>
          <a:blip r:embed="rId1"/>
          <a:stretch/>
        </p:blipFill>
        <p:spPr>
          <a:xfrm>
            <a:off x="1600200" y="152280"/>
            <a:ext cx="5807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otterl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urrent HAVANA annot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Architecture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Perl/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ensembl / ensembl-otter / ensembl-pipe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My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x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remote to do IPC (one 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Generally a large co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ems like a good id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Reuses existing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It’s worked for some time with x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Original code from Netscape was modified to make xremote (C co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xremote has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Why &amp; How I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Uses X server X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Perl/XS Module X11::X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Works as Server / 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Server waits for requests (property notif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Tk has a built in property not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lient reads th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onsole"/>
              </a:rPr>
              <a:t>Remot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91120" y="2590920"/>
            <a:ext cx="7790760" cy="1628640"/>
            <a:chOff x="591120" y="2590920"/>
            <a:chExt cx="7790760" cy="1628640"/>
          </a:xfrm>
        </p:grpSpPr>
        <p:sp>
          <p:nvSpPr>
            <p:cNvPr id="62" name=""/>
            <p:cNvSpPr/>
            <p:nvPr/>
          </p:nvSpPr>
          <p:spPr>
            <a:xfrm>
              <a:off x="838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53080" y="2772000"/>
              <a:ext cx="18288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895120" y="307656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71800" y="399096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1120" y="2847960"/>
              <a:ext cx="225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a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Lucida Console"/>
                </a:rPr>
                <a:t>(property notif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94200" y="28479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xremo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99440" y="3200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Lucida Console"/>
                </a:rPr>
                <a:t>X-a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1440" y="25909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qu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39160" y="358164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Console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38080" y="4648320"/>
            <a:ext cx="7635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acedb requests (seqget, gif, parse f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Yes / No response (xremote exit sta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6000" y="19717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x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8:48Z</dcterms:created>
  <dc:creator>Royster</dc:creator>
  <dc:description/>
  <dc:language>en-US</dc:language>
  <cp:lastModifiedBy>Genome Research</cp:lastModifiedBy>
  <cp:lastPrinted>2005-09-06T09:02:31Z</cp:lastPrinted>
  <dcterms:modified xsi:type="dcterms:W3CDTF">2005-09-06T10:32:30Z</dcterms:modified>
  <cp:revision>17</cp:revision>
  <dc:subject/>
  <dc:title>mapping zzzzzzzz…</dc:title>
</cp:coreProperties>
</file>