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A63506-A85E-4268-9D47-06F64A27757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ABFE1D-B660-4289-B72E-80D7276B105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41C425-60FF-46D6-9D77-BC967979C9F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01DAC0-8B59-482F-A99B-DA0CCEBE905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093C84-37E6-40E0-9764-6C83BB96584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4709A7-091B-418F-ABBD-6B774C91165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0C74B0-F906-4DFA-90C4-27E34B8B0C6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483B81-3756-4ED8-8650-EE8555DB800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EE7253-C841-4FED-BD99-23EF06F6C84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D5E3F6-D59B-4654-B44F-6B4EAA9B46C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408262-CCBD-4959-A799-C7FFCFE6CAC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A9A7F6-F09D-4ADD-894D-1665801095B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F7849-012E-48CE-8E97-D8D9677AB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1DDCF-D040-4A82-A810-5ABDB675D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9B789-DE4D-4972-A93F-40AA197AB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DD0A2-58E7-4160-993F-237DCAAEC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C7632-FC5C-464C-8C42-5AD46BC24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9D817-3EC7-4100-96D9-EDBE3A1D8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24ECA-FCF7-4050-84B2-8C54EA7CB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4BA0C-20A2-447B-AEA9-057DFAF95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60EFF-860B-43DE-AFB1-0D95AD48B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0FD9E-EB3D-498C-B926-33B769993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A00B2-461B-4637-B39B-05E62F62B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674BE-914F-462C-89DA-87364D139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19AC7-A7E8-43CC-9FAC-E524F39E9BE9}" type="datetime">
              <a:rPr b="1" lang="en-US" sz="1200" spc="-1" strike="noStrike">
                <a:solidFill>
                  <a:srgbClr val="898989"/>
                </a:solidFill>
                <a:latin typeface="Arial"/>
              </a:rPr>
              <a:t>07/30/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4E929-1C65-448F-ACC2-36D358E31275}"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