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D3F44-BAD3-4E06-8D65-10FD7F5F1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4EFA7-FEE7-40DE-8013-DE709442C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055F2-BFF8-4510-A07D-7EC3C7228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C49B6-80A9-417E-9FEC-EDF03D65D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29501-FF83-45E7-8A2C-C7FF16D7F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C29B8-235F-4663-A8FE-F24D0B140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A36F9-85A9-4641-8FC0-84E49925A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A849B-3EDD-4AE3-9089-0D732BD7E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F7BE5-FE77-4FE7-A4E7-911AEDF0F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6A8BF-76F1-4C26-BE69-58413F922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5AFDF-CFEC-490F-BB5B-1E130F225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5D345-9C84-419C-ADEE-19E883F38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4EE6D-2488-453E-920B-3CFD1DF15D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 usage examp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temis/acedb GFF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0T08:40:26Z</dcterms:created>
  <dc:creator>Genome Research</dc:creator>
  <dc:description/>
  <dc:language>en-US</dc:language>
  <cp:lastModifiedBy>Genome Research</cp:lastModifiedBy>
  <dcterms:modified xsi:type="dcterms:W3CDTF">2008-09-10T08:41:45Z</dcterms:modified>
  <cp:revision>1</cp:revision>
  <dc:subject/>
  <dc:title>Summary…</dc:title>
</cp:coreProperties>
</file>