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8E89-B647-43D9-8287-B8F26A19A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D029-CD19-4FA9-A3A9-4107FB786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2688-F58D-4284-980A-047A5BAAC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D9C3-FC0C-44B9-BDE1-70D5A871D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FD98-9CF4-4640-A04B-C46E1B4A7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8FD2-58D4-41D3-9486-FF3BD366B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AE31-FC64-46DC-AC4C-E6D316926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7FB9-BEE9-4815-8E7B-A2A89F7E0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2DA7-31F2-4DFB-9F17-D483EF51F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74D3-617E-41A2-A1B9-6A07AE26F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8660-C283-4188-A9F3-B4B6E18C4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CD58-4AFE-4B92-BB5C-C5C9D9A79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4598D-FEA1-48AB-9FF6-1A494AAB71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 usage exam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temis/acedb GFF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0T08:40:26Z</dcterms:created>
  <dc:creator>Genome Research</dc:creator>
  <dc:description/>
  <dc:language>en-US</dc:language>
  <cp:lastModifiedBy>Genome Research</cp:lastModifiedBy>
  <dcterms:modified xsi:type="dcterms:W3CDTF">2008-09-10T08:41:45Z</dcterms:modified>
  <cp:revision>1</cp:revision>
  <dc:subject/>
  <dc:title>Summary…</dc:title>
</cp:coreProperties>
</file>