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3085F1-4580-4968-BF6C-D664F843499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FA8E2AC-ADEE-4270-A7C5-C994B4DAD79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FF4808-DBE8-46BC-BC3E-0ECBB23EFDC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35617D-E394-4D4E-BCE9-6240BD65099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DF39B65-A006-416F-AEAD-D3FAF68753D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97B618-D1C5-4BFD-8531-4905BDBA5D8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237AA5-F9C4-4C96-B027-6FBC8103E89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D3A044-BB6C-4DDB-9899-584DEACE838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6F2727-97E5-40AD-9C7B-C9FF6D5E916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7F9A08-5292-482D-982F-69AC698B190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5467D4-1E06-436B-8743-2D8E8D34EF3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7C29F07-7D09-400C-AC4B-049D1F8109D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90C3C-7554-48B5-8C80-3619C47E8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91525-24DD-4229-8E84-400A8946F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BD0E7C-CCA1-4E82-BC4C-7E278976C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BB538-A5AB-4023-B636-B6DC61E98C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3C730-2317-4930-93D1-EDE99E050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56BA4-3735-4C88-8D24-D1EB42369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A36BD-5AA4-4DD6-9EEC-72A183D07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DF62C-D14A-4FE5-A7E9-09649E599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F17F4-BFB6-4AA7-8F22-D8AF36A41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5F7B1-17FB-40BF-AF12-B0B1DFB66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3BDA9-9906-4A07-A0FD-F512B78FB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68874-FCEB-4EC9-B1FD-61C4EE6CDC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9749E-8146-4378-8A04-645DE2D4C3D8}" type="datetime">
              <a:rPr b="1" lang="en-US" sz="1200" spc="-1" strike="noStrike">
                <a:solidFill>
                  <a:srgbClr val="898989"/>
                </a:solidFill>
                <a:latin typeface="Arial"/>
              </a:rPr>
              <a:t>07/31/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929C1-97D9-4B5D-8088-CA4DDA4689F7}"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