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DFEC-D530-4B69-9E95-26DE51A60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5522-8F8A-4493-A494-A4F8230A2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360A-C7F2-45A9-B35F-F82893F38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3584-50FE-4C28-BCCD-11622B4CC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581B-29E4-476E-8BC2-8B6B59E15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BC95-62D1-45B4-9715-B06856DDB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CA00-3FA7-4E6E-ABD9-44CC8B4BC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7A71-3D58-4910-BFBC-F04580D8B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8E89-E577-4220-8E1B-63F99821A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0266-E620-42F3-A9AD-9C70716CD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346A-E9C9-444E-A58C-5032D026A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E1B3-3E46-444F-958C-3B23F1A2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D5AF6-276C-41F0-81A2-31F1E1605B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Big is your Window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77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…..But I want to scroll through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hromos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 Griffi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lternative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182880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just draw your stuff once in a virtual space and as you zoom, the canvas scales up the window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3581280"/>
            <a:ext cx="53352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2819520"/>
            <a:ext cx="1066680" cy="7617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33520" y="4038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3581280"/>
            <a:ext cx="823680" cy="486000"/>
          </a:xfrm>
          <a:prstGeom prst="rightArrow">
            <a:avLst>
              <a:gd name="adj1" fmla="val 50000"/>
              <a:gd name="adj2" fmla="val 423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3352680"/>
            <a:ext cx="53352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2819520"/>
            <a:ext cx="1066680" cy="5331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657600" y="4343040"/>
            <a:ext cx="1066680" cy="6094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895480"/>
            <a:ext cx="22860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001000" y="2514600"/>
            <a:ext cx="533520" cy="3048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934320" y="2514600"/>
            <a:ext cx="1066680" cy="3808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34320" y="50292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3581280"/>
            <a:ext cx="824040" cy="486000"/>
          </a:xfrm>
          <a:prstGeom prst="rightArrow">
            <a:avLst>
              <a:gd name="adj1" fmla="val 50000"/>
              <a:gd name="adj2" fmla="val 423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58672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give instantaneous scrolling, what could go wrong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thing nasty in the woodshed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2133720"/>
            <a:ext cx="73915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is point all looked good, performance was good, scrolling was good, zooming was go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so time to really zoom in on some long sequences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ata started to disappear/reappear randomly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actually it started to disappear when the window got to about 32k in size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Canvas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3962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8400" y="1981080"/>
            <a:ext cx="279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draw in a vir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 in dou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99720" y="2057400"/>
            <a:ext cx="16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ots in 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92440" y="5775480"/>
            <a:ext cx="57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urely it just takes care of everything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of layers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5029200"/>
            <a:ext cx="72392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4191120"/>
            <a:ext cx="723924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h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2438280"/>
            <a:ext cx="24382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1752480"/>
            <a:ext cx="24382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oCan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438280"/>
            <a:ext cx="13716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Gtk say…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21337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2286000"/>
            <a:ext cx="80769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ypical GTK size/position struc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def int    gi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 GtkAll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x, y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/* the X, Y position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width, heigh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/* the width/height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X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981080"/>
            <a:ext cx="845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 resource definitions for position/s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x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y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height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width 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are defined in Intrinsic.h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short                 Positi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unsigned short  Dimension 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ely Xlib has the answer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2438280"/>
            <a:ext cx="75438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CreateWindow(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x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y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width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height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, now we seem to be back to huge window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o is righ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6280" y="2270160"/>
            <a:ext cx="755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057400"/>
            <a:ext cx="80773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need to look in the X Protocol to see what is really passed to the X server…..and there are several places to loo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11/Xproto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’Reilly Xwindows Volume Zero,  i.e. the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you will fi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                      INT16          i.e. 16 bit 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idth,height:   CARD16          i.e. 16 bit un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3640" y="2346480"/>
            <a:ext cx="7559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eans we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osition a window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2768  &lt;=    position    &lt;=   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and its x/y dimensions can be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&lt;=   dimension  &lt;=  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ne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9080" y="2041560"/>
            <a:ext cx="847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9810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ort of makes sen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2819520"/>
            <a:ext cx="388620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3962520"/>
            <a:ext cx="373356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21320" y="36576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8280" y="24382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x, -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411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91120" y="29718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lem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1828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ant to display a sequence but it’s a bit like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4114800"/>
            <a:ext cx="30456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560" y="27432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20960" y="27432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72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816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00240" y="274320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omoso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5760" y="27432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20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419112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not reall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676520"/>
            <a:ext cx="8153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Xli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DrawLine(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/* x1,  y1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            /* x2,  y2 *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n the X Protocol (a PolyLine reque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: LISTofPOINT where POINT:   [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INT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en all is said and done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  -&gt;  short, sh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ub of this is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1828800"/>
            <a:ext cx="83055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ll 16 bits to make a very big window is in fact pointl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s of many features can only be expressed using 15 bits meaning they must be in the top quarter of the wind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3733920"/>
            <a:ext cx="2590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3733920"/>
            <a:ext cx="1295640" cy="129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81640" y="54864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us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780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676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77960" y="48006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0204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77960" y="60199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affected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2666880"/>
            <a:ext cx="72392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nothing much really, just trivial stuff lik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rectangles and sub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lines and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orting of positions in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o on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about FooCanva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7840" y="2117880"/>
            <a:ext cx="84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problem is to constrain the canvas from making huge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2971800"/>
            <a:ext cx="84582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assume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zoom  =  down to individual bases ( = 20 pixels/b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window size  =  30k (allowing a good “safety” marg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mplies at max zoom you can see 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0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clearly there is a mismatch between max window size and how much sequence you can s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tunately it can be don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1905120"/>
            <a:ext cx="1600200" cy="426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276720"/>
            <a:ext cx="12952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o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438280"/>
            <a:ext cx="1295280" cy="121932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00600" y="2819520"/>
            <a:ext cx="8380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2438280"/>
            <a:ext cx="838440" cy="838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3657600"/>
            <a:ext cx="2133720" cy="8380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114800" y="2133360"/>
            <a:ext cx="2743200" cy="11430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4495680"/>
            <a:ext cx="2743200" cy="10670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2133720"/>
            <a:ext cx="1371600" cy="342900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800" y="48769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60160" y="35053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14120" y="5867280"/>
            <a:ext cx="51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Scrolled_region * zoom = win_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Map and scrol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676520"/>
            <a:ext cx="7391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two sorts of scroll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tty much instantaneous scrolling of the sequence in the scrolled window on the 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er “scrolling” of the scrolled region within the canvas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4191120"/>
            <a:ext cx="609480" cy="2361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4648320"/>
            <a:ext cx="457200" cy="533160"/>
          </a:xfrm>
          <a:prstGeom prst="rect">
            <a:avLst/>
          </a:prstGeom>
          <a:solidFill>
            <a:srgbClr val="00ff00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66880" y="5257800"/>
            <a:ext cx="486000" cy="685800"/>
          </a:xfrm>
          <a:prstGeom prst="upDownArrow">
            <a:avLst>
              <a:gd name="adj1" fmla="val 50000"/>
              <a:gd name="adj2" fmla="val 2809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81680" y="4114800"/>
            <a:ext cx="60984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4267080"/>
            <a:ext cx="485640" cy="2057400"/>
          </a:xfrm>
          <a:prstGeom prst="upDownArrow">
            <a:avLst>
              <a:gd name="adj1" fmla="val 50000"/>
              <a:gd name="adj2" fmla="val 843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29400" y="5105520"/>
            <a:ext cx="91440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124080" y="4114800"/>
            <a:ext cx="3657600" cy="5335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5181480"/>
            <a:ext cx="3657600" cy="1295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2320" y="50292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96800" y="50292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here’s one I prepared earl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286000" y="167652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rolling awa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2719440" cy="3886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200400" y="1981080"/>
            <a:ext cx="2720880" cy="38862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095880" y="1981080"/>
            <a:ext cx="2719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a chromosome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2081160" cy="29718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51460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72428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6934320" y="1752480"/>
            <a:ext cx="2081160" cy="2971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18040" y="501336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0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67600" y="502920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53600" y="502920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39240" y="5029200"/>
            <a:ext cx="14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1676520"/>
            <a:ext cx="81532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world of X Windows, the biggest useful window you can have is 32k pix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like the FooCanvas provides a very natural way of displaying sequ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a system with enough performance to scroll/zoom over long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ork in the coordinates of the sequence, it does the screen stu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 doesn’t deal with the 32k limit at all (either for the window or individual featur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xed window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1752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by acedb/Fmap and lots of other progra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56386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5791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atever section of sequence you are viewing, you pack it in to the visible window on your scr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438280"/>
            <a:ext cx="152280" cy="2819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9320" y="52578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00400" y="24382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3581280"/>
            <a:ext cx="3049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4572000"/>
            <a:ext cx="3049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2895480"/>
            <a:ext cx="152640" cy="68580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3962520"/>
            <a:ext cx="152640" cy="60948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42480" y="52578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5181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2590920"/>
            <a:ext cx="304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24480" y="2666880"/>
            <a:ext cx="30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g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625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086600" y="2819520"/>
            <a:ext cx="1673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ks t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2133720"/>
            <a:ext cx="6858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owe it all to FooCanvas…well nearly all…..(pity about the documentation…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ks to Rob Clack for his efforts with Foo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o Roy Storey for not immediately saying upon his arrival in the group “I could do all that in Perl… only better…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you found this “captivating”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1752480"/>
            <a:ext cx="7543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time after I’d found out all I wanted to know (ever) about the short comings of X Windows, I found this thought provoking pap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hy X Is Not Our Ideal Window System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Hani Gajewska, Mark Manasse &amp; Joel McCorm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be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e come to praise X, not to bury it.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explains a lot about why X windows programming is often not as straight forward as you might have hoped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with lots of cl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2481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zoomed in to ge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64832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2057400"/>
            <a:ext cx="7467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always display any length of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bitrary amount of zoo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4267080"/>
            <a:ext cx="7543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scrolling means redrawing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ing often means redoing conversion of sequence features to screen obj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an ideal worl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74880" y="1889280"/>
            <a:ext cx="748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2209680"/>
            <a:ext cx="75438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be able to scroll through a whole chrom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zoom in and out anywhere on that chromo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d like it all to work at a reasonable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to d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2133720"/>
            <a:ext cx="75438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s just make a huge window and scroll through it, what could be simpl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software shall we us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uld extract the acedb graph package from acedb and modify it to work in a different wa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we could use some new trendy open source thing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tricky choice but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source to the rescu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2057400"/>
            <a:ext cx="64771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kind of “canvas” widg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ed GnomeCanvas….too slow, too much memory…..hope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luckily for us there is son of GnomeCanvas,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oCanv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a cut down version used by Nautilus, gnumeric and a few other programs….designed for efficienc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6:14:52Z</dcterms:created>
  <dc:creator>Genome Research</dc:creator>
  <dc:description/>
  <dc:language>en-US</dc:language>
  <cp:lastModifiedBy>Genome Research</cp:lastModifiedBy>
  <dcterms:modified xsi:type="dcterms:W3CDTF">2005-03-15T10:21:09Z</dcterms:modified>
  <cp:revision>65</cp:revision>
  <dc:subject/>
  <dc:title>How Big is my Window ?</dc:title>
</cp:coreProperties>
</file>